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40C-925F-412F-B49C-34F4243712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8613-AC63-455D-B8FE-955F582B7B1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861D-4CE7-45CE-846A-014E46B00B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5EF-D4AF-4329-9100-E6E32D9E3D5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C019-2107-4267-BA75-4E5A91D0FB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16B8-F55C-48E4-80C9-BC1B609AD8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82D0-EA97-4AA4-A0D0-3AC4B0545F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DA9B-237D-4DC2-9C88-2EDC770C6D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116B-5FA4-4E7B-997C-E81CB880DD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2A35-7B1E-462F-B83E-3C7588B8F3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ECF3-E012-488A-9F61-72790070DB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D9A-EEEA-400D-9E85-9D714605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B92-F60F-4FB1-A6D5-587E8FA3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219-1C98-466F-8B59-96E3CC00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EA4-F58A-4E52-A21C-2197BDC5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E199-BE3A-4F7E-8E73-94E8E8D5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B24D-EE79-4E22-A560-3E88F6D4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69A8-4952-4A22-A125-5DE4EDAD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FE44-64FB-4A00-BA25-ED1F9F24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692B-79F3-454E-8EA9-60519EB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2864-3049-4EB7-9D7E-C3A9212B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C3E9-3059-42E4-999D-28CFE71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21B-355E-4183-9DD0-A1BBB4F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DAD4-6299-4628-A7CF-3B64EEDF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1F58-FBBE-48B5-9634-08EF5870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CDC0-0580-40D5-8A7E-B5B26B7C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443-BF5B-4CA6-9814-830187C5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E88C-9BA3-44E8-A813-73C951EC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0C138-528F-40B1-90F6-117CCCFD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80E63-FD38-4259-AFA3-C8D6C78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BCEC5-75CA-43F5-8697-C82D42C8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7954A-FF93-4757-89D6-B43D24A2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97ED4-9C06-4DBE-87DC-A84D477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326-A310-4802-AD68-A7C76DA2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CF099-8001-49E5-B291-931A48C1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163C0-8931-44BA-AE7B-66F6046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CC0CD-DA98-4AD1-A1F6-1CE222C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0BD75-3B65-4571-8FCA-35B6206A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3C1EF-A11E-46B0-B2DD-D1CDBD19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F52E1-4F03-4544-A60C-9C507241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9A1D4-01BE-4B35-A282-2996BB65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4C4-0A7D-495A-B261-3BBAEDAF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358-77B5-457F-B188-D8349B1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EA2-09B8-46BA-9B00-BB424306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95B-404D-452D-BAFC-49C71A1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7F4-C5C0-41A9-9772-4D1512E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A89-6BFD-4F84-9ABE-EF64AD7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73B-F95F-4C75-B43D-9E82E0F57EC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3CC-CC68-43AB-BD19-3DA24CF3B40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8F7E-312A-449D-988E-9E23F888D1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ě účinný a neúčinn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y odepisují pohledávky, které jsou tzv. nedobytné (tzn. že se jedná o trvalé snížení hodnoty pohledáv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odpisování pohledávek musíme rozlišovat zda tento odpis je daňově účinný či naopak daňově neúčinn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rázově lze (dle zákona o dani z příjmů) zahrnou do daňových nákladů hodnotu pohledávky za dlužníkem v těchto případe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ud zrušil konkurz z důvodu nedostatku majetku dluž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je v úpadku nebo mu úpadek hrozí na základě výsledků insolventního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zemřel a pohledávka nemohla být uspokojena ani vymáháním na jeho dědicí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ávnická osoba zanikla bez právního nást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ne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se může rozhodnout odepsat pohledávku, a to např. v případě, kdy je zřejmé, že náklady na vymáhání přesáhnou výtěžek z této pohledávk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pis této pohledávky bude daňově neúčinný a bude zvyšovat vyměřovací základ pro výpočet daně z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 účtová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měla pohledávku po splatnosti za odběratelem, a to ve výši 575,-- Kč. Účetní jednotka se rozhodla, že tuto pohledávku jednorázově odepíše a nebude vymáhat tuto částku soudní cest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aV – Prodej zbož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11/6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úD – Odpis pohledávk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dlužník tuto částku dodatečně uhradí zaúčtujem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bú – Úhrada odepsan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5:50Z</dcterms:modified>
  <cp:revision>15</cp:revision>
  <dc:subject/>
  <dc:title>Dohadné položky</dc:title>
</cp:coreProperties>
</file>