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6BE2-DA37-419F-965D-2952763C194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AAB8-7BA9-4A20-B7B7-BFC97587C56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EBF2-7856-4A09-BDCA-659E05EE232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EF94-7861-4B9D-9DFD-41FB4200F3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B803-7344-4CA2-BB5A-91E0DA4D6BC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D2BA-7FA5-48DD-886E-5F7C84BAB6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B986-53E1-4683-A62E-E3C7C8A6092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7977-91A6-48F1-9BA4-557514ECA1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A6FF-0F3E-4DDA-BFE3-4B9971A5F8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B91F-16DF-4FEE-84AA-2DF8AD325D1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6E2-4A46-475D-BFDA-26945007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161-F53D-47BD-8860-40E114A7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EB7-84F3-4B59-B6E5-F5F38F17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973D-710D-4248-B2A3-92A52DA9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0093-E781-4DAB-B299-221F952E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0D24-3546-484B-BEA9-8F53E39B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F82A-74CB-48A2-94FD-32958D21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662E-A5B0-4DA9-8693-E012115F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0806-84A2-4742-B55D-0E609CC2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174A-DC80-4CDF-964D-32029008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9C73-C740-42D6-84FF-EFA53C41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215-B248-4929-A4FF-C2F16B1B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7698-4500-4B21-8EE8-6734373C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192D-8805-49FD-B8B6-506B44B9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4A8E-D7DC-4B4F-B915-631D9FA7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1C99-3ECE-47C5-9C92-9D5508B2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0DC1-664E-4863-A881-2BF30D3F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ACC52-AA77-437D-84B5-D85A1607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92FC6-9F2E-46D0-AB8C-5C9CEA51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B7E767-754C-43A6-9660-AC5E6633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B3117-B394-4FF5-92AB-669A4C04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2F122-8D53-463C-92E5-6BB557D7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846-3CE7-4203-ACE3-5E7C6A81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4B071-73FC-469E-A077-5B7DCE80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88D04-0394-4AA2-B09E-CC473ED4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47DC7-57CB-4D1A-8AF8-C0B4D506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87D81-43BC-4868-9C93-13AE8BF2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2FB7C-A6C9-489C-8139-851263F9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4E7FC-ECF1-4B45-84EC-FBB1DDD0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03CE76-AFF9-4F92-A588-D3A3D61D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4CA3-07FD-497E-855A-A7063420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9E9-489A-4062-94B3-FCD87D83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7372-BDD1-4E2C-9D6C-0644244C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735-7F7C-4AA3-BE3D-32287438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D436-E201-4E73-A571-5102B286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C72-CB9C-4BFB-A8B0-DD697A06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F203-965B-46FB-B0FB-3BF94643D97C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F9C6-9C9B-44A1-99CF-3505734FA8CB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7BA9-F848-4427-8043-DCA5BEA7FB2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inventarizačními rozdí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bytek, man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Inventarizační rozdíl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Inventarizační rozdíly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773360"/>
            <a:ext cx="7427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porovnávání skutečného stavu se stavem účetním mohou být zjištěny tyto inventarizační rozdí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n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účetní stav je vyšší než skutečný stav (rozdíl mezi skutečným a účetním stavem nelze doložit účetním dokladem, nebo prokázat jiným způsobem stanoveným záko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 manko se nepovažuje tzv. norma přirozeného úbytku (u zásob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ormu přirozeného úbytku si stanovuje účetní jednotka sama (musí být uvedena ve vnitropodnikové směrnic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 stanovení její výše vychází ze zkušeností z minulých 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orma přirozeného úbytku se stanoví např.  u takového materiálu u kterého dochází k vypařování, vysýchání at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 zboží se stanovuje např. v důsledku ztratného v obchod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Inventarizační rozdíl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5280" y="162864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Přebytky – účetní stav je nižší než skutečný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sta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4360" y="1196640"/>
            <a:ext cx="801360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anka a přebytky nelze vzájemně kompenzovat. Výjimkou jsou pouze případy, kdy došlo k chybné záměně podobných druhů zásob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tomto případě se zjištěná manka a přebytky vzájemně převedou (případný rozdíl je pak přebytkem či mankem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4:56Z</dcterms:modified>
  <cp:revision>25</cp:revision>
  <dc:subject/>
  <dc:title>Dohadné položky</dc:title>
</cp:coreProperties>
</file>