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2F91-15B0-4DD4-BCEE-C35D198BAEA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C6A4-B624-4B76-B940-C6BDC1EB7FC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49BD-1964-4B9D-A128-A6DD7CF32E3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37E4-68AB-47AC-B1A9-85208A39B82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1D68-FCAD-4026-AE48-A5CBE6F04C0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2FF0-066C-4766-B6D1-C0DE3816B6C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CBA9-15D6-49B2-8C81-D05C0931114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5750-1A34-4EFC-8A63-837DE353F66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2BF0-0205-45BD-B314-B09590B4E7A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2E51-1B9A-45FD-A4A8-476EE6CBA4E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0E97-D0CF-40C0-9F1B-DBB8D026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F09-9488-40C0-973E-3D7DD492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4694-30B5-457D-9FF6-61D59701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D8B0-1271-49D5-907A-AF72BB81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14E5-795A-4592-958C-F0C26E39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0284-7C1F-4236-849A-6A1480F0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FA2D-6495-47E5-9246-63CB7E5F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9BBE-92EA-4674-9D3A-86531A8E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8A64-71B7-4057-BD99-7DAFB8D3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313B-3415-44F4-BEF7-BE686B03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3026-0048-4125-A8FE-C020D707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D24D-020D-4B1A-90CC-B0285FC6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44A9-03D2-4C09-AF99-0C80785C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2059-7C63-403B-94B2-5E584060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FEBA-6372-4BB8-B018-A4CA99CC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2E30-5566-4899-A33F-0B58B2C6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124D-BD6A-4013-B0A1-85FE4A33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C8A81-247A-48BC-AEB4-BD00B20A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122224-8888-4B87-AE8D-0C1ACE3C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13C508-7A89-4174-86BF-6ECCD36A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EEF53F-B9AD-493E-AB3B-D049EF12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9570D-E9FA-4903-8305-0005FAF4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E23D-29D9-434C-A61F-324E89B8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47BCE-FA76-4A13-AB71-3B37ACC0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68BD5-C482-4C7B-B26D-47150C0E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0264E-502F-492C-9B6F-75214B72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ABA62-401D-4031-BF4E-9498EFB5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32CD16-5CCC-4F66-BC4F-EB8796BF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E0CED-8612-4B72-B735-6C30124B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067077-706F-47A7-8AC1-AB67364A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1CA3-D6CC-42C8-842D-6AA0B215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53E6-0AC5-445F-AA9E-F1FD3FFB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A60-D0FF-43C8-9483-A3E969A2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D7A0-467E-4A18-99DB-4755E319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E1D0-0981-4E24-9239-594C2582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5A1B-BDB1-471E-950E-9754BC7D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6185-9E28-446E-AFD8-158249A58CF3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007F-056F-48E5-8CDA-3AB714BB3826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FFE5-5401-4D33-A144-07FE0351554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79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inventarizac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ontrola, účetní a skutečný sta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Charakteristika inventariza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Garamond"/>
              </a:rPr>
              <a:t>Charakteristika inventarizace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2349360"/>
            <a:ext cx="74278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ákon o účetnictví ukládá účetním jednotkám povinnost inventarizovat majetek a závazky a stanoví pravidla pro provádění inventariz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Úkolem inventarizace je: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964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rola věcné správnosti účetnic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jištění zda skutečný stav majetku a závazk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povídá účetnímu stav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rola reálnosti ocenění majetku a závaz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jednotka musí vzít do úvahy všechn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vídatelná rizika, které se týkají majetku a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azků a jsou známy ke dni účetní závěr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ruhy inventarizací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5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dle toho, kdy se provádí rozlišuje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Řádné inventariz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eriodická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– provádí se na konci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četního období (ke dni sestavení účetní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věrk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růběžná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– provádí se postupně v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ůběhu celého účetního období (termín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ůběžné inventarizace si stanoví účetní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dnotka sam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ruhy inventarizací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odle rozsah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Úplná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– týká se všech složek majetku a závazk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Dílč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– týká se pouze některých složek majetku a závazk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6633"/>
                </a:solidFill>
                <a:latin typeface="Garamond"/>
              </a:rPr>
              <a:t>Inventarizace zahrnuje tyto etapy: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416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ovnání skutečného stavu se stavem účet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číslení inventarizačních rozdí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jasnění příčin a vypořádání inventarizačních rozdí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4:43Z</dcterms:modified>
  <cp:revision>21</cp:revision>
  <dc:subject/>
  <dc:title>Dohadné položky</dc:title>
</cp:coreProperties>
</file>