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57D74-2618-4A40-9F09-D2266C74A8B3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40486-B000-4DFD-91EF-8FD87D40C5AB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0B3CE-2B86-45D2-A098-DA20D2F9B189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EB146-52D3-45CC-9597-8A13C410C5D3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ABDB5-8B76-499E-A3C9-8629BBDDC9A0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2384C-57EA-4353-BC71-C298FD628098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3AB84-83B6-403F-BA6C-848AB9B72297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4B41D-F3DB-4157-A89D-01E7F045E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29705-813A-4A71-B745-6CF295FE9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1AA08-681F-4301-A157-FC50959D5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EEA16-F59E-4A08-99DF-08D90C40F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38575-D26E-4BD0-8D12-638FA3C57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BCCE7-4896-475D-BE8F-B1E62CD6E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30AE7-9410-41A2-955D-BB29A2E5B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27243-B2DA-4EF8-85CA-6CDF9919C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32A83-F6F3-48AF-9B75-C136C4FEE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26D9C-6221-46C9-92F1-B41F73510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55817-737A-4CED-B9BF-86D75C8C7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9D95C-D9BB-4338-AFF0-59D65925C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31DA4-3100-411C-A6DA-4BDBCC925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616D0-55F7-443B-8EC4-941B79C72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D9229-9B7D-4986-949A-F5968B810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ADF72-F614-45E4-ABC5-67A77DA97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C7790-B28F-4866-9E4C-79ED61761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C366B9C-B469-4B39-8BA3-193F0A2C6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8F91367-A6B9-433A-A65D-8BB5A627C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4AD801E-EBDB-4BFC-A6B2-FBF24AA3A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B953E41-76D9-42B4-BD8E-D6210D44C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48ABEDC-DEFC-47FB-94E0-6190B451C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7DB00-D0E0-4479-A175-58EC11E35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1721B47-B61B-457A-B0BF-F24D0DE0E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58D93A1-2794-408B-9C68-944F70CB9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FDD59F9-69B9-4164-8450-DE857C868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24E4B77-6CE8-470B-AA55-E9076B5F4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0214216-6962-4257-A18A-A3FD127BE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0B010EF-83F5-41CC-B462-21F61E0CE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30BDAA3-06D0-42F4-956C-968B485A0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00301-FC41-4D58-9D6B-049E22FE7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E9C25-F5CE-464F-AF55-290E60C08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BD006-E11A-4A41-B542-1790800BB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F47CB-56A9-4C96-AA27-05EDE7503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5DEA3-5151-4EAC-AA1D-4535AA05D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FF599-0FC7-4134-A3A6-366CCE80B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682BA-CD22-4B99-8B26-64F02B687CC1}" type="slidenum">
              <a:rPr b="0" lang="cs-CZ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C15AB-D76B-4B03-96D5-9C37FFD7BAE8}" type="slidenum">
              <a:rPr b="0" lang="cs-CZ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8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BC892-F36E-4B54-A04E-648DF1DF2F41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9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0" y="2060640"/>
            <a:ext cx="91440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Výukový materiál zpracován v rámci projekt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EU peníze školá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Registrační číslo projektu: CZ.1.07/1.5.00/34.02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3" descr=""/>
          <p:cNvPicPr/>
          <p:nvPr/>
        </p:nvPicPr>
        <p:blipFill>
          <a:blip r:embed="rId1"/>
          <a:stretch/>
        </p:blipFill>
        <p:spPr>
          <a:xfrm>
            <a:off x="1258920" y="333360"/>
            <a:ext cx="6083280" cy="1487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8" name=""/>
          <p:cNvGraphicFramePr/>
          <p:nvPr/>
        </p:nvGraphicFramePr>
        <p:xfrm>
          <a:off x="539640" y="3573360"/>
          <a:ext cx="7561440" cy="736560"/>
        </p:xfrm>
        <a:graphic>
          <a:graphicData uri="http://schemas.openxmlformats.org/drawingml/2006/table">
            <a:tbl>
              <a:tblPr/>
              <a:tblGrid>
                <a:gridCol w="1890720"/>
                <a:gridCol w="917640"/>
                <a:gridCol w="1655640"/>
                <a:gridCol w="3097440"/>
              </a:tblGrid>
              <a:tr h="78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Šablon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Č. materiál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Y_32_INOVACE_28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9" name=""/>
          <p:cNvGraphicFramePr/>
          <p:nvPr/>
        </p:nvGraphicFramePr>
        <p:xfrm>
          <a:off x="539640" y="4724280"/>
          <a:ext cx="7561440" cy="1189080"/>
        </p:xfrm>
        <a:graphic>
          <a:graphicData uri="http://schemas.openxmlformats.org/drawingml/2006/table">
            <a:tbl>
              <a:tblPr/>
              <a:tblGrid>
                <a:gridCol w="3781440"/>
                <a:gridCol w="3780000"/>
              </a:tblGrid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Mgr. Miroslav Hruš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4. roční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3/20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" descr=""/>
          <p:cNvPicPr/>
          <p:nvPr/>
        </p:nvPicPr>
        <p:blipFill>
          <a:blip r:embed="rId1"/>
          <a:stretch/>
        </p:blipFill>
        <p:spPr>
          <a:xfrm>
            <a:off x="1741320" y="274680"/>
            <a:ext cx="566136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1" name=""/>
          <p:cNvGraphicFramePr/>
          <p:nvPr/>
        </p:nvGraphicFramePr>
        <p:xfrm>
          <a:off x="468360" y="1413000"/>
          <a:ext cx="7991280" cy="4113000"/>
        </p:xfrm>
        <a:graphic>
          <a:graphicData uri="http://schemas.openxmlformats.org/drawingml/2006/table">
            <a:tbl>
              <a:tblPr/>
              <a:tblGrid>
                <a:gridCol w="3995640"/>
                <a:gridCol w="3995640"/>
              </a:tblGrid>
              <a:tr h="784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Finanční účetnictv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ématická oblas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Účetní uzávěr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Účetnictv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ýstižný popis způsobu využití, případně metodické pokyny: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zentace k seznámení studentů s účetní uzávěrko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Konec účetního obdob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763640" y="2781360"/>
            <a:ext cx="76233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Garamond"/>
              </a:rPr>
              <a:t>Charakteristika účetní uzávěrky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11280" y="549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400" spc="-1" strike="noStrike">
                <a:solidFill>
                  <a:srgbClr val="006633"/>
                </a:solidFill>
                <a:latin typeface="Garamond"/>
              </a:rPr>
              <a:t>Účetní uzávěrka</a:t>
            </a:r>
            <a:endParaRPr b="0" lang="en-US" sz="5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11280" y="1989000"/>
            <a:ext cx="741672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Účetní uzávěrka se provádí na konci účetního období (předchází účetní závěrce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a konci účetního období se musí uzavřít účetní kni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řed uzavřením účetních knih se musí prové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nventariz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aúčtování účetních operací na konci účetních období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6633"/>
                </a:solidFill>
                <a:latin typeface="Garamond"/>
              </a:rPr>
              <a:t>Účetní uzávěrka</a:t>
            </a:r>
            <a:endParaRPr b="0" lang="en-US" sz="4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Dále následuje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zjištění hospodářského výsledku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výpočet základu daně z příjmů a zaúčtování daňové povinnost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uzavření všech účtů a převedení konečných zůstatků na uzávěrkové účty 702 – Konečný účet rozvážný a 710 – Účet zisků a ztrá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468360" y="1700280"/>
            <a:ext cx="784872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Zdroje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Ing. Pavel Štohl – Učebnice účetnictví 2. díl pro střední školy a veřejnost, vydavatel vzdělávací středisko       Ing. Pavel Štohl, 201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8:08:18Z</dcterms:created>
  <dc:creator>Ing. David Holzbauer</dc:creator>
  <dc:description/>
  <dc:language>en-US</dc:language>
  <cp:lastModifiedBy>Igor</cp:lastModifiedBy>
  <dcterms:modified xsi:type="dcterms:W3CDTF">2014-09-13T15:34:29Z</dcterms:modified>
  <cp:revision>16</cp:revision>
  <dc:subject/>
  <dc:title>Dohadné položky</dc:title>
</cp:coreProperties>
</file>