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6A65-3FDE-4AE5-9E60-493948A076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32D3-8420-4B91-B3C1-6D6FDB94779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4171-7139-409C-83E6-05ADE3BCED5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1C70-EAE8-4D3F-B30D-88B493C7B02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8A4D-F935-407C-963E-A65175990D0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6041-FF1F-426F-B2FF-F46122E3CF7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1064-6334-4BE1-BBC3-BFBE19FF7F1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75F2-5C8D-4044-B277-B4B15B176A1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BDC0-39E7-4AC5-AD1F-4BC7333DB61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FDBF-F169-408A-AFA9-E82290FD133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57A-A202-4A16-BAE1-273508E7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3D5-490E-4DD0-8C9F-E5526C1C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4DD-AA61-4292-A761-666A1F85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99D-9016-4A78-9C1F-305D0E2A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882F-A417-4D52-A9D1-2F60CB59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9766-080A-4460-94F8-F9A557BF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FDF4-F295-46AD-8036-F8D20CD5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A72F-282A-4A8E-96BC-E3797C96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FEED-02F9-4356-BD0C-47CAF4DE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3D78-78DE-4513-BF3D-A8C7422B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03AC-0FD3-40E6-9885-8A7B63BC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A9B-E176-46D2-B89B-2992980D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40A4-8D71-464A-A4C6-B92E9F3B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73B8-9E7D-4C5D-8FE1-3DDE623C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4003-CA35-4F64-AA06-CBB0A306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993D-8708-486E-B9BD-CED614A2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D00F-1EE2-475E-A807-D15A0E45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270ED-05A2-4D89-B380-7004A579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78829-6328-4919-848F-F13F61F7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B51F1-CC37-4972-9C8A-655D5BDD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F3799-FBCA-43B6-A692-73D6CA3B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D4E47-A1E7-4C4A-8BA1-7E96B5F3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556-C364-4FEE-8CE8-0E78254C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2813A-34D8-41AF-A8D4-5EED164F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0329C-7A91-4E46-8CD1-9A12C477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B1B18-3049-40EE-8F9C-5B207BF6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BCBEE-B97E-4EF6-AB63-F448E092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1C9CB-9A5E-4E71-B713-CDA57242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20672-F491-45B8-B73A-9624E27F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CF5C2-E2E7-4AEF-A30C-F3E101C2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A14-6A82-4151-B0C7-ABE8D5DF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806-EE6B-4B5C-A14E-3590EFCB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FE0-A223-486F-90B4-53A9AF38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B1F-EE8A-4AFB-B69F-C48C0474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B8C-EFD0-4934-BE61-4A8F262A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6A0-7706-467D-B13D-F4271D25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9F9A-4077-4AF7-B512-78CF90C52A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811A-51A1-471A-AF7D-194E5039AE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2533-5E59-416F-9F42-8F09889E97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vod do osobního uží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637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 do osobního užívání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 do osobního užív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20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(podnikatel) vyřadí dlouhodobý majetek z podnikání do osobního užívání musí zaúčtovat zůstatkovou cenu na účet 491 – Účet individuálního podnikatel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26920" y="1197000"/>
            <a:ext cx="6553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(plátce) musí odvést DPH z vyřazeného majetku, a to i v případě, že je majetek již zcela odepsá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vyřadil z podnikání do osobního užívání automobil jehož VC činila 390 000 Kč, dosavadní oprávky činily 150 000 Kč, a odpis za část tohoto roku činil 32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989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32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208 000 Kč  49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PH 21%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43 680 Kč  491/34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9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vyřadil z podnikání do osobního užívání počítač jehož VC činila 42 000 Kč, dosavadní oprávky činily 30 000 Kč, a odpis za část tohoto roku činil 6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odpis za část roku, zůstatkovou cenu, a vyřazení počítače z eviden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09Z</dcterms:modified>
  <cp:revision>56</cp:revision>
  <dc:subject/>
  <dc:title>Náklady</dc:title>
</cp:coreProperties>
</file>