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2BD32-176E-41A1-B5A6-4FF7AAAA16EF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2657E-97EB-413F-8779-77E03ED11DFE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FC60F-6EC0-48B3-BC7C-B5F861EAF531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29EFC-CFE7-4694-9962-2CE008177D50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95A67-A069-46B1-BA30-DC09498B222A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498FE-96E5-4329-988B-48C891BE8E0E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EEBE6-C1B1-4CF2-8DF9-95C3F3631382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A569C-C3BF-4D91-9131-0BB863D91C4A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42E87-BCD9-4993-AF96-53847F0A707F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476EE-CD68-46A6-9958-0F0E82C46F19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3FD6-2230-4062-9E59-8F80D1E07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2B19-7864-481F-9441-152EF5BF8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ACFC-7CCA-4AC8-B0AC-B258DC443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8A83-C05C-4B08-9C61-A4F578D5C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AF661-5995-44C2-A7E1-30767B3CC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88170-FCEF-47BC-B04F-5F1253846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1D938-9E5B-4C42-8FBC-B40818DBF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BA27A-E07A-4F94-B1D0-E7FADD6C0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203A7-7A6B-440E-A4F9-1214507C8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90DF5-988B-4BE3-91A5-AD6652799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87A83-B983-4465-B931-F45510488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9468-126B-4DF4-A9C8-EDC1FE38C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A7B87-8271-439D-A760-40BE9AD1E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EC701-56A8-420F-9E7F-9FFA86B7E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7D17C-A1A6-4082-8810-A0641B9A6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945E4-8CB8-438E-8C6F-0F34E5C51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39EDF-EEA6-4BF5-85C3-86B8C0CC2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F9AE28-0018-46BB-A5BF-A4B082CE6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1FA80F-17BB-4C93-8725-81C965537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F47E22-3D3F-4F43-8A06-E3E041AB7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A92621-F57A-44DE-9978-FEB552040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6D6C02-42E9-4130-BD35-F0D50F80B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0B9E-8E2E-40FF-AAB9-038B2FE6C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425426-FAD5-40ED-90EF-76096F3FB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DF5CC4-CCA9-4071-9008-D36BE5487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75E233-5DE9-4E6B-8742-440503745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0099BC-6EE5-4716-8D3B-93FFF0761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13AA5E-43F6-429E-BBA0-4A5FE92CC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657F14-D1D9-4832-8438-81E1B569A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F66234-EB89-4FDA-AB7B-77662ACBA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D7D2-C17B-473C-B855-E1B731F45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A8FB-CDA3-4259-8E35-E973DFD94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7310-1871-42C9-88FE-1D03684A3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DAC9-FA76-442B-8979-2E1D9F255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7E82-7163-440B-9945-EEC70CD2E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5530-5003-4442-9864-01134B764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56ACC-BF05-4D14-AF03-3709BAEF6EC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BC70C-EBCD-421B-9224-4B763831088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4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55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1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64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65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66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7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8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69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0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1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72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73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4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5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6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7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8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9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0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181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82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3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84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85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86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87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88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9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0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1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2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3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4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5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96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157E4-AE28-43E7-B672-8CF2C076E50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6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</p:pic>
      <p:graphicFrame>
        <p:nvGraphicFramePr>
          <p:cNvPr id="247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7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2/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0" name=""/>
          <p:cNvGraphicFramePr/>
          <p:nvPr/>
        </p:nvGraphicFramePr>
        <p:xfrm>
          <a:off x="468360" y="1413000"/>
          <a:ext cx="7991280" cy="411300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714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louhodobý majet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 vyřazením dlouhodobého majetk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4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, praktické příklad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619280" y="2637000"/>
            <a:ext cx="6400800" cy="22730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000000"/>
                </a:solidFill>
                <a:latin typeface="Garamond"/>
              </a:rPr>
              <a:t>Vyřazení dlouhodobého majetku v důsledku darování  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4000" y="47592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omic Sans MS"/>
              </a:rPr>
              <a:t>Vyřazení dlouhodobého majetku v důsledku darování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71640" y="1700280"/>
            <a:ext cx="7416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omic Sans MS"/>
              </a:rPr>
              <a:t>Pokud účetní jednotka daruje svůj dlouhodobý majetek (který není zcela odepsán) musí zaúčtovat zůstatkovou cenu na účet 543 – Dary.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826560" y="1197000"/>
            <a:ext cx="72709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 případě, že dárce je plátcem DPH, musí odvést DPH ze zůstatkové ceny darovaného majetku finančnímu úřadu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DPH se odvádí na základě daňového dokladu a účtuje se na účet           543 - Dar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755280" y="476280"/>
            <a:ext cx="6870600" cy="90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Příklad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84360" y="1916280"/>
            <a:ext cx="7269120" cy="400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Účetní jednotka (plátce DPH) darovala škole počítač, jehož VC činila 45 000 Kč, dosavadní oprávky činily 33 000 Kč, a odpis za část tohoto roku činil 7 000 Kč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4000" y="33300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Řešení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395280" y="1989000"/>
            <a:ext cx="791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VúD Odpis za část roku    7 000 Kč  551/08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VúD Zůstatková cena       5 000 Kč  543/08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DPH 21%           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      1 050 Kč  543/343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VúD Vyřazení z evidence 45 000 Kč 082/02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Úkol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611280" y="1412640"/>
            <a:ext cx="769608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Účetní jednotka (plátce DPH) darovala nemocnici dodávku, jejíž VC činila 445 000 Kč, dosavadní oprávky činily 305 000 Kč, a odpis za část tohoto roku činil 25 000 Kč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Zaúčtujte odpis za část roku, zůstatkovou cenu a vyřazení z evidenc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Ing. Pavel Štohl – Učebnice účetnictví 2. díl pro střední školy a veřejnost, vydavatel vzdělávací středisko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      Ing. Pavel Štohl, 201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0T14:22:20Z</dcterms:created>
  <dc:creator>mirek</dc:creator>
  <dc:description/>
  <dc:language>en-US</dc:language>
  <cp:lastModifiedBy>Igor</cp:lastModifiedBy>
  <dcterms:modified xsi:type="dcterms:W3CDTF">2014-09-13T15:39:27Z</dcterms:modified>
  <cp:revision>53</cp:revision>
  <dc:subject/>
  <dc:title>Náklady</dc:title>
</cp:coreProperties>
</file>