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0802-BAD1-4EEE-8D90-3E9D95E7CAD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EB00-E822-4F81-A492-335B891BECA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FCE3-ED69-4F7F-9586-22DD712DB48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A3D6-F326-459C-9AB2-EB50B07C3BF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818C-2701-4F30-96DC-FA56D23CE8C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551F-5200-4344-B1C1-392C7A89FE6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4849-A2F6-46E8-B741-F32FAF10290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6DB1-1FD5-471A-BAB3-60366A6D74E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6273-3B01-4795-A574-D18B455F1F7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9B27-7D30-44B0-A28F-964F5DED242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8A6C-F50F-4101-A79F-2099A2E02A0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8BC8-C6C2-4429-A46B-1CDCBD51DFC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E48E-B21E-4512-A4AF-F4C666EFC70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869A-0A01-4654-987F-3AB1E840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1B18-DDD9-4A6F-8B1F-AB8BF063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2E17-67E9-410F-8628-2DCD7398F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E7D4-576C-4E21-9D89-0F6192E84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0A75-3421-4F93-9077-BCC069E14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96E2-DD0A-4CD7-AF22-C8DBBE60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0D9C-3523-4668-ADFD-C384A4AF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4E36-41AF-4AA9-BFE8-188BDB14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98B3-0ED0-4160-B894-5CA17F23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9792-5DA6-46AD-8D42-6AC8DFD7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77D3-A50F-410A-BDBB-0C7F07CD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53D0-3414-4C4E-B425-FF126515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D1E8-CEE4-4D62-A6CD-CD017536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8D6A-07DC-4FD5-AA72-8DCFFDF6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81DD-0C21-4004-946F-608EB301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B423-D414-4268-AF50-8FB0B75C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AF13-150B-45A3-9398-6A16A7B7D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50CD08-7622-4D1D-9C26-38CB13891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BCC24A-A95A-4945-BF11-726B9E3B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278013-33AE-4D78-8411-F1EA9432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94472B-267B-4970-A908-51720F02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6AAC2B-E604-48B6-B372-23E64C1C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807B-9649-4C05-9B23-D2DB8CD0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FDADD3-66FB-48F4-B6A7-04D9380B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66A7FB-B377-4D6C-BB51-9DE558A7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714A64-4E2E-464F-93A5-C06F66C9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430F18-BF47-4AFA-90E3-956D1BD4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A116E9-9607-4681-857D-89FE12EC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2E1B1D-4466-4D85-BD75-5B898645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CFAD77-9075-4E5B-9991-8CE035F2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AA70-D4A1-4BAE-9628-B86DDE66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D6DE-4012-452E-B3C5-30B64646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9CFD-4992-4D17-987D-F7658CF2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1955-F15F-4950-A9AA-A1FC0120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F481-1863-404F-AF75-FC7357C2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1874-487D-4E1B-AB26-FE08B5B3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D550-C111-4B2E-8F69-17729D4B69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51E6-7B88-4FCD-85D5-2042B7B9C9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5DC6-8989-447E-AD17-AFB5694339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Odpis za část roku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5 000 Kč  551/08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Zůstatková cena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35 000 Kč  582/08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Vyřazení z evidenc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70 000 Kč 082/02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aV  Předpis náhrady 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n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40 000 Kč  378/68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vyřadila v důsledku krádeže stroj jehož VC – 175 000 Kč, oprávky činily 90 000 Kč, a odpis za část tohoto roku činí 18 000 Kč. Předepsaná náhrada od pojišťovny činila 62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691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yřaz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kody, manka, živelná pohr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19280" y="2707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Garamond"/>
              </a:rPr>
              <a:t>Vyřazení dlouhodobého majetku v důsledku škod a man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Vyřazení dlouhodobého majetku v důsledku škod a man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129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kud účetní jednotka vyřazuje svůj dlouhodobý majetek (který není ještě zcela odepsán) v důsledku manka či škody musí zaúčtovat zůstatkovou cenu na účet 549 – Zůstatková cena prodaného DHM a DNM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94920" y="836640"/>
            <a:ext cx="79916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ři vyřazení v důsledku škod se předepsané náhrady zaúčtují do výnosů na účet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648 – Ostatní provozní výnosy,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se souvztažným zápisem na vrub účtu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378 – Jiné pohledávky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(náhrady od pojišťovny). U manka použijeme účet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335 – Pohledávky za zaměstnanci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95280" y="764640"/>
            <a:ext cx="7696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kud by se jednalo o vyřazení v důsledku živelných škod (záplavy, povodně, požáry atd.) použijeme účet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582 – Mimořádné škody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ředepsané náhrady zaúčtují do výnosů na účet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688 – Ostatní provozní výnosy,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se souvztažným zápisem na vrub účtu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378 – Jiné pohledávky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(náhrady od pojišťovny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4360" y="1916280"/>
            <a:ext cx="726912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 vyřadila z majetku odcizené auto jehož VC – 350 000 Kč, oprávky činily 200 000 Kč, a odpis za část tohoto roku činí 30 000 Kč. Předepsaná náhrada od pojišťovny činila 100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68360" y="1413000"/>
            <a:ext cx="791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Odpis za část roku    30 000 Kč  551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Zůstatková cena      120 000 Kč  549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Vyřazení z evidence 350 000 Kč 082/02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aV  Předpis náhrady o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jišťovny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100 000 Kč  378/64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 (živelná pohroma)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4360" y="1557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 vyřadila z majetku stroj, který byl zničen v důsledku záplav.           VC – 70 000 Kč, oprávky činily        30 000 Kč, a odpis za část tohoto roku činí 5 000 Kč. Předepsaná náhrada od pojišťovny činila 40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9:42Z</dcterms:modified>
  <cp:revision>53</cp:revision>
  <dc:subject/>
  <dc:title>Náklady</dc:title>
</cp:coreProperties>
</file>