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E25-D3AE-46A1-A0BF-4CAB2D9125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284-5E72-4901-BA16-6E7C484BDF1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1470-BFD8-4486-BE01-AD39EBE7FC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439-88B3-45CD-B872-AB0EE275D0D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415-F175-4558-AE19-FFB57F3389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28D-5139-48FC-AA9B-32EC434763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51B5-43C2-4D78-8FD2-7A9754E2365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336-1246-4287-8781-978A527399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CF16-A755-4ECE-A428-FCE5E03A28E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F9F0-509F-4ABE-AE5F-20812CD6AFC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DA5B-5C6C-4FA6-8E5A-40DA6FC3AE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6B4-8344-4F61-AC23-5638B37B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682-8F4B-45DA-91BA-6AEE19A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985-0118-4E8E-AB10-9E0D4095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E23-F14B-4A6D-9B47-A908AFCD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9B7B-9AB3-46E8-B9AE-4A818AC3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D5F1-198A-44D8-AA33-76F11D9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01BA-0CB3-4998-812F-D83AAE7C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5E78-5A63-4CFA-A54A-7BB8CD0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64F-1128-4E31-A209-BC78EB28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011D-9EE3-47D0-96AE-C50DEBD7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C6B-B32A-4B9D-9C18-598CCAF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E94-2DAD-466A-8BA8-CA32A5D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83BE-A12E-439A-9680-95330C8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C6D5-FAF1-42AE-968D-AE9BB69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C384-4D85-47C6-8593-1C3814F4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E7C1-CEC4-4B93-B825-A1A6E12B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E7C3-EC49-4A67-9F55-44025195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2F0E9-379A-4EB3-BEFA-57B57B96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4AECB-7B38-4771-98E6-DF7D5A49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2C75F-4BFF-45A8-9A92-70936B81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EC67F-14CB-4DDA-BAA1-1719F1E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906A6-F53E-4768-8EAC-FADA4D6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ED5-7783-4ED2-B2C8-98AF71E3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017E1-F3D6-45DE-A01C-69735A78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0ED21-BB09-4CCC-AFEF-8E0314FB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7FF43-3CBD-4170-B764-A11EB727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74056-7156-4D72-A8C4-01B41E0A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23567-68C4-45A1-8EE0-78A5838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7EB3B-2535-4F7A-8A34-A431E12C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1F759-550E-4587-B78D-FE872C9C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C3A-6553-439D-A054-2BC6E39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D77-A83A-4AA0-8900-94862092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AD6-BAFC-4545-80E0-F1121EFB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938-3998-4DE9-9F0F-1C76337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7ED-25F2-48ED-906B-F0C886C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4E0-5953-4508-994E-5C57644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78A8-15DB-4C54-8622-574C0CAD2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B4B-02D9-467A-844B-F51CCA4D15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836-59F9-4714-9957-0B2F5D465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dej, tr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rodej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rodej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prodává svůj dlouhodobý majetek (který není ještě zcela odepsán) musí zaúčtovat zůstatkovou cenu na účet 541 – Zůstatková cena prodaného DHM a DNM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62064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 z prodeje se zaúčtuje na účet 641 – Tržba z prodeje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stup při vyřazení v důsledku prode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řádný odpis za část roku (poloviční odpi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ou cena (VC – opráv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majetku z evidence (V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auto jehož VC – 300 000 Kč, oprávky činily 160 000 Kč, a odpis za část tohoto roku činí 30 000 Kč. Auto prodala odběrateli za 13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110 000 Kč  54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0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130 000 Kč  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436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prodává neodpisovaný dlouhodobý majetek (např. pozemek) 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    541/03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budovu jejíž VC – 2 000 000 Kč, oprávky činily 950 000 Kč, a odpis za část tohoto roku činí 50 000 Kč. Budovu prodala za 1 29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prodala obraz, jehož                VC – 80 000 Kč, prodejní cena činila 1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56Z</dcterms:modified>
  <cp:revision>50</cp:revision>
  <dc:subject/>
  <dc:title>Náklady</dc:title>
</cp:coreProperties>
</file>