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E36F-129A-4E5A-9D56-0AC39E2D859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EB0A-16FD-4113-8F2C-3313CBBE8A0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15A9-7389-454F-8E7E-523CCB891DE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47D0-EEBF-45E3-AF2E-AA0A8B08C63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3A0B-EA44-475A-B933-E226064893C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FEF6-6BD4-444E-8ACE-DB674F961DA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625F-3E47-4EB4-A6C3-D37A76E7B89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A9DC-CF72-4352-A012-D16C8840470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3DE8-FE76-4856-9449-4FE32CFFDF1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E2D4-E530-4F39-8AB7-E73219BA1AE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2FE7-43C5-49A2-85A4-4721C017629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BB13-FD9D-4B55-8E8D-A884401A239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393-46B3-4395-BDE8-475D5C03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6B2-E8ED-4B7A-BF39-B47B2C7A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6A2-437C-41DD-8867-D173B7C3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08C-BFE5-46B6-BBF3-25AC415B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5435-DB6F-4BE3-87CC-750F3AD3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1F3A-9D14-421B-86F1-0FF9073B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95EB-4097-4DEE-8372-9A3B6161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2E82-198C-4782-B53A-5A258FC3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1332-1943-4480-AD47-72FE8536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D6A4-21B7-4171-848F-9748A719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8D18-40E1-48FE-A304-F0D02AA6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DCE-85D6-4DFD-8E2F-CB43BC1A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D0ED-9633-4613-A2C7-D7D8BF3B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BE36-A466-4AEF-B70C-6CFA11FF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DD1E-5468-4587-B548-AC46D263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7AA0-F408-4A04-9FD8-0531D826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3DA7-18D4-4AA9-A4D2-47843F05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CB557-7A90-4CBA-9347-02755A4D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8866D-F699-4AE9-BBA5-A7EB8221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85B1D-E847-4848-8236-BE60859D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E0E8E-73CF-4592-90EC-2450D98B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29B95-8589-4D2C-873A-8AF86110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E58-393E-4013-ABC6-A845A441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72C69-C8C6-4AAF-8E31-F8CC6914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B6B8E-63C0-4A07-B33D-CFB159F2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BEA93-7A8C-4DC8-B953-2FA647B6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1180A-278E-4D84-B134-85A3F7C5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FFF66-64E0-46AE-8EA8-37A24AAF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4C60B-DF7A-4740-A3E2-9BE5A086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A98E8-C6D1-40F2-9B54-97A3CF81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2AA-CB99-4C8A-B2BD-D1272D00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1E2-9F03-47F7-8D3D-3BCB82EE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776-2BA7-4C74-BCE8-DAEDC4CB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2E9-9629-4B25-A315-FB6BAC04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18C-0E5B-457C-8DAD-799C3597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0A2-EF4C-4F8E-B1E2-4A5D164E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D74B-BCE7-43CE-B929-5AE5F93C51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0606-BF4D-4C25-9D1C-727CF9ACB2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04B8-BBA2-4D61-83E2-0E4CFA50E1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účetní program u dodavatele za 75 000 Kč, instalaci provedla vlastními zaměstnanci, a to ve vlastních nákladech 9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dodání programu, instalaci a zařazení programu do užívání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poří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řízení, zařazení d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Pořízení DHM a DN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Pořízení DHM a DN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Dlouhodobý majetek můžeme pořídi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up od dodavatele (výrobní zařízení, nemovitosti, automobi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onájem (finanční nebo operativní leasing – automobily, stavební stroj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tvoření vlastní činností (stavební firma si postaví dům, truhlářská dílna vyrobí nábytek do kanceláří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ezúplatná forma (darováním, zděděním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klad společníka (v případě právnických oso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eřazení z osobního užívání do podnikání (v případě fyzických oso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řízení DHM a DNM dodavatelským způsob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2560" y="1557360"/>
            <a:ext cx="7696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řízení DHM a DNM účtujeme na účt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1 – Pořízení dlouhodobého ne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 – Pořízení dlouhodobého 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á se o účty na kterých se  soustřeďují veškeré náklady související s pořízením DHM a DN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 zařazení do majetku se dokončené investice převedou na vrub příslušných účtů v účtových skupinách 01, 02, 0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stroj u dodavatele za 58 500 Kč, přepravu provedla dopravní firma za 1 200 Kč. Pojištění přepravy materiálu činilo 1 400 Kč. Tento stroj byl zařazen do užívání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– Dodávka stroj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321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8 5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– Přeprava stroj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321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 2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pd – Pojištění přepravy stro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211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 4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Zařazení stroje do užívá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 /042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1 1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14Z</dcterms:modified>
  <cp:revision>43</cp:revision>
  <dc:subject/>
  <dc:title>Náklady</dc:title>
</cp:coreProperties>
</file>