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4423-F771-48C8-A509-BB656BE8020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A81F-DF3A-453A-8C1D-C3917498DD1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3891-D96B-4BA7-9513-7B55E6A3929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FF37-09FD-4750-8D7B-316E8F459A9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4AD8-2498-410B-9560-6E4BC0607A7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7E0A-573E-4697-BD3C-5C62319F099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6B2D-3907-4291-8648-35D3E5C127F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6F5B-FE6D-4F7B-8A83-7C48B788D77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E234-8FDD-4102-BF72-3B82A96BB6D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F028-9DE5-4CA4-9E6D-42ED0739FF7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CF1D-39AC-4EC0-989A-33C9CB290EC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E227-8D84-477E-82C0-CC4EF55AA40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FE5C-549E-480F-8031-1DCE172ACC0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EC4A-533A-4708-B024-7B7B256D724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08FE-89EA-4970-96C4-8F4237C259D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8302-D3DC-4C10-B2E5-E1744CD44EA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A448-6BDA-49EB-A378-1C734EA5250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5B6D-7AE7-4863-A443-063BE513FB6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B593-A6AD-4F5D-9612-6A4E729241D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DC0-AFCA-44A0-8ED6-0C227696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034-6C0C-4EBD-910B-8D578D82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A4D-2B2C-4CE7-AF4F-CCC2ED87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47C-7337-4AAB-898F-BAC218AA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DD35-B6EA-4413-90C7-0A3F026A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07CA-C2F2-4596-87C5-96FF3B54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CDDB-62B6-4B77-A08B-18A027B8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027F-E181-435A-9E94-BD98C054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3D2F-31D7-490B-96AA-611DFF97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BE20-375F-4D4A-84FE-48B48677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42E7-2FBF-4E7A-AF29-E9F33F91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A5B-4FA5-45C8-9FFC-2015E77E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674A-B3AE-4530-8F4C-9D4C9A0C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5081-DB3A-4676-BF9B-7E799051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463E-BA3E-425E-AF08-39AEC9A6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68B8-4F5C-474F-9FD8-52423671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395B-4BE2-4F26-8E9E-C54CBB1F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3842E-BE5B-404B-9682-04E4CE41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5F135-150F-4FDC-A052-BEFAC3C5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6CB0F-8557-4BB5-A3A9-2A777EB5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752B8-A65A-4948-A771-3001BB38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A4913-3858-4AA3-B15D-8FC6A5EB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82E-F6A7-4E95-BD17-DB5D8E30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5C900-D149-4367-BD3B-C6DFB981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89E49-02BC-40CA-94DB-3AD53977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47153-784B-4926-AEF6-A66AED91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BB821-8051-4988-883C-AFF48FD1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2B605-A787-4F38-9B1B-181845F8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8AACB-C22D-4948-BF6C-B2AEBBF0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3BE01-62DE-44AA-92F3-91C870E8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315-77C1-41D5-BD85-69C346F5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749-FD75-47E1-ACBA-959086A8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130-EF23-4CAD-A06C-A47C7AF9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0ED-803D-41ED-9502-7C39A927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F971-4971-4D02-BAE8-4955106D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537-EBB4-4E0D-BF35-3202E79B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D8BF-8390-4E0B-83FB-5A2DE1DA2D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B25F-FE4B-4729-92F0-2F1BF2D188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C68E-2194-471F-9C4F-0126898DC8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Rovnoměrné odpisování (lineární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zoreček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pis     =    Vstupní cena x sazba (v 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3276720" y="400536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1476360" y="1125360"/>
          <a:ext cx="6335640" cy="390708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2560"/>
              </a:tblGrid>
              <a:tr h="3589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 odpisová saz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prvním roce 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dalších letech 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2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p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ýšenou vstupní c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Příklad: rovnoměrné odpisov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pořídila v roce 2009 osobní auto Škoda Octavia za 48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le zákona o dani z příjmů osobní auto patří do odpisové skupiny 2 (doba odpisování 5 let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ito rovnoměrné odpisován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1042920" y="1916280"/>
          <a:ext cx="6577200" cy="3786120"/>
        </p:xfrm>
        <a:graphic>
          <a:graphicData uri="http://schemas.openxmlformats.org/drawingml/2006/table">
            <a:tbl>
              <a:tblPr/>
              <a:tblGrid>
                <a:gridCol w="1644840"/>
                <a:gridCol w="1644480"/>
                <a:gridCol w="1643040"/>
                <a:gridCol w="164484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r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ůstatková 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Inventární karta   odpisový plá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Zrychlené odpisování (degresivní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zoreček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prvním roce        odpis =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stupní ce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koefici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dalších letech     odpis =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2 x Zůstatková ce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 – n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počet let odpisu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4572000" y="335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427640" y="479736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1187280" y="1125360"/>
          <a:ext cx="6193080" cy="3818160"/>
        </p:xfrm>
        <a:graphic>
          <a:graphicData uri="http://schemas.openxmlformats.org/drawingml/2006/table">
            <a:tbl>
              <a:tblPr/>
              <a:tblGrid>
                <a:gridCol w="2529000"/>
                <a:gridCol w="1220760"/>
                <a:gridCol w="1222560"/>
                <a:gridCol w="1220760"/>
              </a:tblGrid>
              <a:tr h="357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eficient pro zrychlené ode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p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prvn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další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ýšen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ůstat,. c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Příklad: zrychleného odpisov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pořídila v roce 2009 osobní auto Škoda Octavia za 48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le zákona o dani z příjmů osobní auto patří do odpisové skupiny 2 (doba odpisování 5 let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ito zrychlené odpisován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1042920" y="1916280"/>
          <a:ext cx="6577200" cy="3786120"/>
        </p:xfrm>
        <a:graphic>
          <a:graphicData uri="http://schemas.openxmlformats.org/drawingml/2006/table">
            <a:tbl>
              <a:tblPr/>
              <a:tblGrid>
                <a:gridCol w="1644840"/>
                <a:gridCol w="1644480"/>
                <a:gridCol w="1643040"/>
                <a:gridCol w="164484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r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ůstatková 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Inventární karta   odpisový plá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6560" y="7461000"/>
            <a:ext cx="7696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aňovým odpi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ňový odpis, opr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ýpočet daňových odpis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aňové odpis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dani z příjmu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dnik je musí brát v úvahu při výpočtu daňové povinnosti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ákon o daních z příjmů (příloha 1) stanovuje pro každý majetek dobu, po kterou bude odepisová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ařazuje jednotlivé druhy majetku do odpisových skupi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dani z příjmu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při pořízení dlouhodobého hmotného majetku zvolí jednu ze dvou meto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ovnoměrné odepisován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rychlené odepisován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volenou metodu musí dodržet do konce odepisování (v průběhu let odepisování změna není možná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ákon umožňuje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odepisování přerušit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a pokračovat až podle rozhodnutí podnikatel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 případě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technického zhodnocení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louhodobého majetku (přístavba, rekonstrukce, generální oprava stroje, zabudování klimatizace do auta apod. dražší než 40.000,- v jednom roce) se zvyšuje hodnota dlouhodobého majetku a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odpisy se provádí ze zvýšené ceny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Odpisové skupin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louhodobý hmotný majetek se rozděluje do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6 odpisových skupin,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 to podle předpokládané doby životnost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468360" y="836640"/>
          <a:ext cx="7488360" cy="4397400"/>
        </p:xfrm>
        <a:graphic>
          <a:graphicData uri="http://schemas.openxmlformats.org/drawingml/2006/table">
            <a:tbl>
              <a:tblPr/>
              <a:tblGrid>
                <a:gridCol w="1008000"/>
                <a:gridCol w="1224000"/>
                <a:gridCol w="5256360"/>
              </a:tblGrid>
              <a:tr h="76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p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ro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vězí dobytek plemenný, kancelářské a školní potřeby plastové, kancelářské stroje, ruční mechanizované nářadí a nást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ě, koberce, cisterny, čerpadla, transportní zařízení, prodejní automaty, traktory, stroje, letadla a kosmické lodě, kolotoče a poutové atrakce, lešení, trolejbusy, nákladní a osobní auta. 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abrikované prostorové buňky z betonu, trezory, dekorativní sochy kovové, turbíny, výtahy, lodě, železniční lokomotivy, tramvaje, vozy metra, skleníky,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my a budovy ze dřeva a plastů, tribuny stadiónů ze dřeva a plastů, bazény ze dřeva a plastů, průmyslové komíny, vodovody a kanalizace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ty, tunely, budovy, stavby, dráhy letišť, studny, dálnice, ulice, silnice, tribuny stadiónů kromě dřevěných a plastových a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ovy hotelů, obchodních domů, muzea, školy a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Metody odepisován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491920"/>
            <a:ext cx="76960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Rovnoměrné odpisování (lineární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rychlené odpisování (degresivní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1:54Z</dcterms:modified>
  <cp:revision>50</cp:revision>
  <dc:subject/>
  <dc:title>Náklady</dc:title>
</cp:coreProperties>
</file>