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D049-A085-4E92-9F3F-B678FD952B5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1CA3-33B1-4EAD-9CCD-3AFD18A145E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41A5-699D-40A9-A37A-9760C34DC70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734F-B4DC-406A-98CE-D18055762D6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0627-1542-434B-817F-B31FB215FF9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C9C4-8201-4945-8F2B-4D6DCF7718C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FAF1-327A-46EA-A5DD-6058C166046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B5D2-CDAB-44B4-AA5A-DFCFCB0160E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652D-E7A2-45F5-9899-7B87085CC6D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6F71-4B0B-4CC0-A71B-10D611C502A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BE74-4C6D-4FF4-8E9C-615DE7EBE1F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EE4C-8596-42D0-A0C4-D7282ACD9EB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6FB4-BE2F-45A2-B644-80CB9529544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BD3-28BD-4C9D-A142-19E0CCE8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AB4-48CB-46F5-BE77-3FE5650F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0A3-C99F-4BA7-89DF-67AA71D5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F2B-36A0-4A40-ACB9-43CABB63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5D30-B771-40BB-B366-D8AF1FED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8EF7-36B1-49FA-9ABC-B8F4ECD1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A082-BDE0-4E1D-86E9-9431A757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D280-436A-4F3E-9B3A-A2E86227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5E74-D299-458D-BD81-87F1F49A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8A31-F32E-42CE-8C9A-CA4E226F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8E92-6406-427C-BE7C-5F4FCF1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2AC-0491-4F32-BCC1-776339A7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09FB-5185-4703-A804-0F45B3F6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6C78-5C8E-4240-9A56-F28EEF8D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F8B3-293E-4812-B1C1-E0A14C6E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222A-2B8B-4CB5-BD91-CE63FF64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AAA0-4168-48F1-8100-F4192BF4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4CF59-106D-4854-9088-7D599780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C5875-1EA7-4C60-9FF8-CBF3B35B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EA09A-4241-4710-9FC8-C746204F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081F0-5C0E-49D9-BA3F-0A49A8B8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283A5-2472-4A68-8B46-73DBC8E8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1CD-9414-4577-85BC-E4914186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A470A-315C-48D8-9F1D-9866D413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71B26-CD10-44AB-AE00-02168267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7947A-352A-4150-9347-A4D745F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DEEA1-48BF-4407-80B5-581AC5B7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82582-45B9-4B71-B678-0E7C2044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CE9E2-15C5-4C4C-A7E3-DE577B28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DD750-CE72-4BF9-8C50-09910E42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8D6-65FF-416C-9D22-194740BC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E2B-2D2D-402D-B738-080CBF78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F77-32D8-4EBC-81BB-8DAC34BB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600-B54E-44C2-AFD9-AD31B556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130-EE26-422C-9B67-6CCCE116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C89-AEFB-43FA-AEB6-5BA7521F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D949-ED34-429F-BB16-88F6EEF0C3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F311-65E6-4F9B-9728-464EA68692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BBE6-73B2-422D-9356-592B20E780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auto za 300 000 Kč. U tohoto auta stanovila rozvrhovou základu na předpokládaný počet ujetých km, a to na 200 000 k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roce 2012 bylo najeto 12 000 km, v roce 2013 - 35 000 k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na 1 k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00 000 Kč/200 000 km = 1,50 Kč/k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20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2 000 x 1,50 = 18 0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20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5 000 x 1,50 = 52 5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etními odpi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ýpočet účetních odpis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Účetní odp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estaví tzv.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pisový pl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odle kterého postupuje při výpočtu odpis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tanovuje účetní odpisy pro jednotlivý majetek např. podle předpokládané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oby použitelnosti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nebo podle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bjemu výkonů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. Výpočet odpisů podle předpokládané doby použitelnosti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jednotka si sama stanoví životnost majetku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tanoví si počet měsíců po které bude tento majetek odepisovat, a to rovnoměrn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odpisy se zpravidla počítají s až od prvního dne následujícího měsíce, kdy byl majetek poříze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11280" y="170028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dne 5.8.2012 stroj za 240 000 Kč u kterého stanovila životnost 48 měsíců. Odpisy zahájí od následujícího měsíce, kdy byl stroj poří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6560" y="1628280"/>
            <a:ext cx="7696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počet měsíčního odpisu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40 000 : 48 = 5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počet odpisů za rok 201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5 000 x 4 = 2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dne 10.5.2012 výrobní stroj za 135 000 Kč u kterého stanovila životnost 54 měsíců. Odpisy zahájí od následujícího měsíce, kdy byl stroj poří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počítejte výši účetních odpisů za rok 201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. Výpočet odpisů podle výko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6560" y="1413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chází se z předem stanovených výkonů (např. u auta z celkového počtu předpokládaných ujetých km za dobu životnosti aut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y se vypočítají tak, že skutečný počet ujetých kilometrů se násobí podílem pořizovací ceny na předpokládaný počet k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2:14Z</dcterms:modified>
  <cp:revision>49</cp:revision>
  <dc:subject/>
  <dc:title>Náklady</dc:title>
</cp:coreProperties>
</file>