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D9D3-E8B3-4DA0-90FA-700BC0CE67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F159-98D3-403C-B968-08B257A3ED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1B3-C618-4BDB-8DAF-790F830881E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DB40-B212-45C8-879C-7F4EBAD3A4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DF13-0FAE-4FDB-BAA1-8BF2B349F10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272A-3C66-44CF-A195-DA647194E3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A1AF-FAF0-498E-842B-5EC9CF246E0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F839-8665-4DC8-B16E-E782A349B66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360A-F1D5-4BD2-B7A1-6A766E9A5A6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DE15-9DF1-4F32-891B-605DA8EFBF7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F36-7ED7-4C9E-8E35-979C3E04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2E0-2B2F-4D1B-B177-85E59125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395-8B19-41CE-B361-5011CF54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96B-E38E-4DD7-A587-81564A6A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68B1-EC03-46B5-B4BB-8DB36869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485D-1F34-4ECC-BEBD-7A874A5D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66AD-8FAD-4A8D-90BF-0EE123B7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0794-E698-4D58-9914-1AA452A6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33DB-5102-4BCC-A6CC-2BA2C252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CF1C-ED3F-461A-9278-E62B7D1B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99E8-5AFC-4C59-9507-14A75EF3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0BA-859E-4AA8-9B91-9297585C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55FC-F9D8-44B6-AEF6-52CA65A8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501F-6DAD-4253-812F-79C31207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C8F0-BFC8-4883-8446-02B64684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6321-F088-4607-9281-09D3456F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15D5-1798-43A5-926E-05B4B70B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90061-FCE0-4030-BD41-73E94397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20918-737E-42FD-A3C3-50F8397F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F5A77-CA11-47DD-B6BC-A7EC7D91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41AE4-222C-4FFD-BBA7-63655C18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A4713-E631-45B1-8D9D-FFAAE999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1B9-24E1-4CB6-B2B7-4365393B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1E13C-41EF-4696-AE3B-AE72B4E3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7509B-C6AB-4F2B-BA30-F233D57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DF1F0-F969-4F1F-BEEC-0C7C4592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6D688-40C3-4813-86F4-80AEEB9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DC189-62A1-4D1E-BA4F-62CC5A0C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AB57B-2452-468F-83CF-B6CFAF1D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FD265-0E39-45D1-904F-99B54E8E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1A3-3D41-4D73-BB98-8E740F96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FBB-E9FC-4330-89BA-ED55A2E5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504-53D1-4515-B8F5-012FD911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975-BD81-495D-A9DD-6100924C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25F-DA9D-4F85-8770-3039BD4A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6AC-F112-48D2-AB13-350E3EFD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308B-72FD-4E8C-B28E-B5F8147ED5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F7A1-23A4-4239-A64A-0C7832AF05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3642-8D0F-4B05-9CEA-779BDCFE3C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, daňov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dpisy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y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y vyjadřují postupné snižování  hodnoty dlouhodobého hmotného a nehmotného majetku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Druhy odpi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1. Účetní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účetnictví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mají vyjadřovat co nejobjektivněji skutečnou míru opotřebení dlouhodobého majetku ve firmě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odpisy si stanovuje firma 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980640"/>
            <a:ext cx="7696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Daňové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 (6. odpis. skupi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Metody odpisová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Firma může zvolit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1. Rovnoměrné ode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2. Zrychlené odepisování</a:t>
            </a: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volenou metodu již v průběhu odepisování nelze změnit,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a následně v odpisování pokračov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37Z</dcterms:modified>
  <cp:revision>43</cp:revision>
  <dc:subject/>
  <dc:title>Náklady</dc:title>
</cp:coreProperties>
</file>