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619F-B5DE-4305-8506-84FDB31AE01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68F1-075C-4D19-9B8C-3A640B8FF0E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043B-2ABE-4B10-9A14-FD9108FA32D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CFF0-1351-4FAD-91E7-B63D78486C2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2097-5703-4AD1-80C4-02555B54F6A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91F2-2D8E-422B-8569-6AE5AC1C0AE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855C-AC13-4F51-8E2D-F11B17EDAB9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3B92-20C3-4BDF-8CDD-B0B06CCCC90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25FF-2A2A-4D86-91C5-B0065901942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C81-5109-44CB-A766-78BC457C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09B-7FD0-485A-8251-13E05A5C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955-AD16-4AE7-B0EB-9F7D6EDB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28B-20A6-4995-BD34-6AFCC442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94EE-2EE7-451F-B155-0FDBBEA3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C994-F367-46D7-95C7-19047A76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7BFF-ABE1-47BA-84EF-65933A23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85DA-85F4-4981-9433-DBAAFDB7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7AAA-F310-4C99-93B9-7C627583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1C5D-C1B1-4E04-9C4D-B4FCC073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DA77-4F7F-49A9-A77B-82F5BA64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019-2070-447A-A85D-92CC78EB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9249-28AB-4383-9B40-39F64B40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A95A-B949-445D-A2B2-D8C92411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5A5B-66CE-455D-8E77-1C97DFB3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75D5-7D13-4157-9A7D-8B8446D4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D934-FD91-4297-BF76-A9653476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F8CFB-485D-4B80-96D7-2ADDC7DA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9409E-9F58-49A0-B6A1-1869AD98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7E338-059D-4D40-8FF3-A5E19FB0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4603B-92D8-463A-A947-33E1C33F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BF34F-D3C1-4BD8-A6E2-EECABABD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EF7-0819-43CF-A5B9-80F561CF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5DC9D-C2AA-4EB2-8E50-3788A26E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40FAA-880F-47CC-8FAC-3C2D47DC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2D82B-6343-48CA-9BD3-2DA1FD2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4AD81-B1B3-4678-9297-4846CC8F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F3516-F74F-4682-8D55-56EBAE92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DD2EE-7AC0-4902-B53F-F75046ED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ECE2D-C6B4-4DFD-8D4A-0ACEE157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39F-06E2-442D-9238-EE7A6B16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CBF-216E-486C-ACF3-4C994BA6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87C-41A3-46EB-9454-B6A39C82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368-BF21-4AF8-8836-BF2BD5AF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8DB-FF81-432F-B248-696981EC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29B-0ACB-4B0F-B78C-30B8FC13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4777-1071-474D-B49E-B80948DB24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84E9-36EF-4F42-9C4F-ABD71C5907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1BC4-CB36-4964-8932-E4E98F269B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potřeb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potřebení, fyzické, morál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potřeb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Opotřeb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majetek se postupně opotřebovává (morálně i fyzicky), po celou dobu své životnosti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potřebení vyjadřujeme odpisy (daňové odpisy se počítají za rok, účetní odpisy měsíčně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v Kč udává velikost opotřebení majet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oučet odpisů označujeme jako oprávk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y jsou pro podnik nákladem, které účtujeme na účet 551 – odpisy dlouhodobého nehmotného a hmotného majet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Rozlišujeme opotřeb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55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fyzické opotřeb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které bývá způsobeno jak vlastním používáním, tak i vlivem prostředí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morální opotřeb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prostředky (zejména stroje) ztrácejí svou hodnotu v důsledku výroby stále dokonalejších a výkonnějších prostředků (strojů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6:05Z</dcterms:modified>
  <cp:revision>41</cp:revision>
  <dc:subject/>
  <dc:title>Náklady</dc:title>
</cp:coreProperties>
</file>