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3133-2E29-4DA2-868E-A9183F1181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568-C53E-4170-8128-B5304E95DCF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4238-19E7-42E9-B1B6-B76320C471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3B57-8ECC-4E3B-BA53-80A10AAD96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E42-2E30-4B68-9328-DBA82D15D2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7D08-DED0-48CB-A22E-27FFDA0116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885-335B-4DDA-B62B-2649009F34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9D7F-88BB-45E8-8AFA-14BD94B66C7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79A9-9354-4D1D-B5A9-4D34A4972F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EF89-4903-4024-838C-77FCE4F265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DEE0-63D8-47D6-9C53-4B19E4B455A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EE23-979D-48A3-8893-B0604C38F06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910-279A-4CAC-BDC7-6BCB9DDF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FE0-CD12-4D4A-9679-762EDCC5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953-A159-4338-A56E-B9025C82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191-B8CE-423C-A910-5CA06B20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FEB2-9E9F-400C-8B22-CDD0F4C2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93C9-2899-43D5-80D0-2089855D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BDC1-0A4F-4FCF-A875-94D29554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2DB8-F58D-4F40-9636-6648D325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8526-A47A-47FB-AFE8-DE12D837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0659-7DEF-43C1-92CE-4EE6E62B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9877-BE88-4E21-8B78-ADFF471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7D9-6611-4CC5-ABE0-B9995D9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3EE0-7FCF-4029-B492-619BE20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088-0DD6-4055-B50E-A7D0712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2706-4D70-42CD-AD50-DAA05BA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691C-7A1D-4639-9837-7F6912A6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B2FC-6FC2-4EEB-ACFC-AE21F146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1467B-3087-40FB-88A9-063875B5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3D3F7-74D2-42E2-8A89-BB6D835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EF2C2-484F-4280-9C82-2AB070C0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16FE2-68D9-4AA7-BC40-B2F6AD4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52B43-823A-4B1A-B82F-C6825AB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06B-A6C6-4A1C-89C8-B269ACA7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B8EA0-BCA0-4C30-9E92-607AE81F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E3F80-FEA4-4481-814B-3EAF787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B72D2-5ACB-4CE4-B1B1-BA7C22F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7AAFA-0055-4A91-AB8E-2F21CE2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B0B1F-550F-4931-927D-2B41C75E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23179-2D28-4541-94EC-34574010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B34E6-593F-48A3-B87C-C85DCE04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4FA-497A-4F28-915C-2B9FA4C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36A-4520-405C-A292-45DAFDA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E3C-2C8D-4664-AE4F-5FD46E20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A3C-11CA-47E6-8040-14F37B6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C90-CCF9-4B90-BD19-7DD23D5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8FE-80B2-4C69-9434-E4CE0DC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E96F-C783-4F6F-8682-3288A924F4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0716-D80B-4DB9-84C9-12B8C7674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30C-9347-485F-8316-3836BFDACC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62864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nechala nainstalovat  (na fakturu) do služebního vozu klimatizaci za 18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Instalace klimatizace  548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41792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technickým zhodnocením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e, rekonstru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Technické zhodnoc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Technické zhodnoc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stupní cenu můžeme v průběhu užívání majetku zvýšit o technické zhodnocení (modernizace, rekonstrukce, nástavba, přístavba) tohoto majetku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ým zhodnocením se rozumí výdaje na nástavby, přístavby, stavební úpravy, rekonstrukce a modernizace majetku, pokud převýšily u jednotlivého hmotného (resp. nehmotného) majetku v úhrnu ve zdaňovacím období částku  4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derniza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rozšíření vybavenosti nebo použitelnosti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Rekonstrukc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rozumí zásahy do majetku, které mají za následek změnu jeho účelu nebo jeho technických parametr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. topení v budově, klimatizace v osobním automobilu apod. (pokud bylo provedeno v hodnotě větší než 40.000 K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é zhodnocení nelze zahrnout do nákladů jednorázově, ale je nutné o jeho hodnotu zvýšit pořizovací cenu (resp. zůstatkovou cenu) příslušného majetku, a to v tom zdaňovacím období, kdy je technické zhodnocení uvedeno do uží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rovedla zateplení správní budovy, kdy fakturovaná částka od dodavatele činila 395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Zateplení budovy      021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robné“ technické zhodnoc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196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na nástavbu, přístavby, stavební úpravy, modernizace a rekonstrukce, které jsou do            40 000 Kč lze účtovat přímo do nákladů, a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hmotného majetku na účet               548 – Ostatní provozní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hmotného majetku na účet            518 – Ostatní služ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19Z</dcterms:modified>
  <cp:revision>46</cp:revision>
  <dc:subject/>
  <dc:title>Náklady</dc:title>
</cp:coreProperties>
</file>