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30E7-91C6-432A-A84A-D896D38389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49D2-8598-401F-A22A-20A60CDE1D8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69E8-AB0E-4B74-B5B5-4D3AFC24266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93B5-C2AF-40D8-BF1F-291DF47C88D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8BA3-FBAB-4B3D-887D-9831A8069A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7356-4261-4514-A016-038EE91445E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E253-1A3B-4B75-BB7A-683275ECDF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2A45-22E9-4EF7-86B9-CCCBF52D66A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0D42-FDD0-4EA9-B0BB-9AE01DC75DF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8B1E-AED2-436F-AF5F-EA29B921889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2BB0-2317-4C80-896D-36373FF4583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CE86-7A1F-4F83-B933-5C37A622BCE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DF9-49B4-4EE2-A163-4ADE2978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294-10BF-4801-A8F8-AF5A7DDB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6C8-AD99-4687-B73B-0D7E1409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F5C-3B15-4CDB-9F5C-B35B4021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CC85-2B88-4A94-B139-2F2A83CA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6564-0A75-4866-B588-49A249FA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FCFB-2690-4E0C-9C0C-3EC82A86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A25B-43D6-4277-85C3-5C4D8BF6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566D-BA9E-4158-975F-F9851B0B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FDDE-C723-4202-8850-6E270C18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83F1-AA5A-463E-8137-39EA187B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2C9-EFE8-4DEB-AAA1-F8F696DC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588A-BAA4-4156-B403-34B640A4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489A-4CD1-4DDF-86B5-3169C5D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D886-C179-4AFD-B4FE-9F4C204F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D909-F0AF-459A-BFA2-7A312F00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6DD4-C7D3-4D89-A0B6-05CB87BF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D7E65-A808-4E72-A8FE-B1914D70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61BB4-3811-4FAA-82AB-52BC0F3D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A79E5-38E0-4F37-9BA1-3AE7D00B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180CC-7B7C-4BEC-9324-7AFABD94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93D46-FB9E-4D06-A7B6-2119792C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49C-E5A8-4796-A2A3-BB128FD9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7DEF2-8642-46FA-AFC7-0C369D94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60957-2C5B-4C7F-AF87-F7A306D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F7A65-89BF-4321-952B-2A4AE34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0DCB3-18A3-498B-AAA3-90672CD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1D1E1-EFCB-4B19-8186-285C5D0B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0928C-7546-4F12-A2E3-044EC0A2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0FAE0-D938-480E-95DD-3AA39ADF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9F1-B7C8-4EAB-9016-CA457C63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76C-F75C-4014-961E-179C876E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ED6-B7CE-4623-925B-B9F92982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9D3-FD37-4D43-AE0D-0AF5A94F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3E6-3F9E-4858-9800-391F290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1D6-295F-4093-8374-AD051E1C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F2B0-96E8-4C7F-B309-73568356DE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4BAA-4274-4FEE-A35D-90E2FFFA82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7199-AC6B-4BA3-8D31-455E2E0058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ama postavila garáž. Při výstavbě ji vznikly tyto náklad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potřeba materiál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85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zdy stavebních dělníků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0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Režijní náklady (odpisy strojů, spotřeba elektřiny atd.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0 000,--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lastní náklady činí 185 000,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ceňová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izovací cena, vlastní náklady, reprodukční pořizovací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čeňová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aramond"/>
              </a:rPr>
              <a:t>Oceňování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M oceňujeme tzv. vstupní cenou, ta může mít tři podob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Comic Sans MS"/>
              </a:rPr>
              <a:t>pořizovací cena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- cena za kterou byl majetek pořízen, včetně vedlejších nákladů (doprava, pojištění přepravy, provize, clo atd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lastní náklad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vyrobíme-li si majetek sami, např. nábytek, výrobní halu at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reprodukční pořizovací cena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neznáme-li cenu, např. při darování, pak se určí odhadem soudního znalce (znalecký posudek) nebo podle ceny obvyklé na trhu v době, kdy jsme majetek pořídi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ořizovací ce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ládá se z ceny pořízení a z vedlejších nákladů, a to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ontá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ůzkumné, geologické a projektové práce (u stave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0920" y="1197000"/>
            <a:ext cx="7489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související s uvedením předmětu do užívání (opravy), kolaudační poplat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a zabezpečení pořizovaného majetku (správní poplatky, poradenské služb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stranění stávajících staveb v důsledku nové výstav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učástí pořizovací ceny mohu být i úroky z úvěru na pořízení DM, ale pouze do kolaud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koupila v zahraničí (mimo EU) výrobní stroj. Cena pořízení stroje činila 150 000 Kč. Dále ji vznikly tyto náklady související s pořízení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 - 30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 stroje – 7 8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tění přepravy – 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izovací cena činí – 188 9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lastní 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13000"/>
            <a:ext cx="76960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sou to přímé náklady (materiál, mzdy, ostatní přímé náklady) a nepřímé náklady (výrobní režie)  související s vytvořením majetku vlastní činnost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23Z</dcterms:modified>
  <cp:revision>43</cp:revision>
  <dc:subject/>
  <dc:title>Náklady</dc:title>
</cp:coreProperties>
</file>