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B2B1F-9135-41A4-8CD3-6904BB4BBC4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BF966-50E1-4320-A9D9-3A8B4FE30DF1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744F6-F539-41FA-BC54-37E20CFE65AA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55B04-0A5B-4924-AAC2-F0CC65128437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60677-FEF5-410F-892F-6B7327B683D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BCA12-C217-4574-80A4-38E7AF2077D1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1E172-165F-4A0C-B36C-9660E2B543CD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B7599-A69D-49AD-86A3-7C8C299C4F0F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7A37E-8976-4F7F-8134-F420C10C6ACA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5BFE5-7C65-4DFF-BAA2-7ABE389C1D5C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B5D0-7EFE-46B8-91EC-AC1AFE61D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8321-F7FF-48C6-8578-A8E8264A6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83B7-7575-4A08-A697-35FCFA8D9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88C6-74A1-4394-B552-F15DD2245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4AE11-DDF9-4A1B-887A-4C8C019FD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CEAB7-9884-4E8C-B6EC-E3FF10549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8C009-1602-4957-8D61-F6A8AB85D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0EEB6-A9D2-4872-8CBB-D6897F917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FA44F-FF96-49B2-8B03-75CA995A6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5B9DF-03C5-4924-ADA7-49FF7581B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A9FDE-931E-4B9E-ABB5-2B42DB665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5AE1-D1EB-4BE1-9CEE-71182EBBA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1A0CC-F665-47AF-BF55-72AA4A09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03475-5E36-4521-AFFC-A2856ED4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59338-86AF-496B-943C-6F6D2F72A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4B116-7E25-4DE9-98C0-B1DE576E4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71B80-ED12-4ED3-AABF-C1A3A0728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9CDA59-6506-49BD-833C-2B1645528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54FACA-537F-4A9A-A7D9-8D10059B1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6AFB3F-9F43-41E2-AD89-5FED0235A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E1295E-99FE-4D53-A882-C9768EBBA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1779D4-4295-49CA-AC60-D4EBFED6F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1D7F-FAD9-439D-8448-1C90052B9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B2B285-96F5-44B9-813D-135F0AEFF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8847BA-AD7A-426E-8112-D180B204B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9B2F87-9834-493F-AE86-002A332C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BDC59E-FD1B-4CB5-8A2D-D92C360D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BD0056-5DE8-4175-AC23-883A4279D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825B96-6D27-42D5-8995-F5CBCAA1D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014AE2-03A8-4FFD-A826-772D35061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EDE7-09C0-46E7-9E20-279FC90E0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1C5E-D4E4-4334-BB1A-5A982BC3D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76BC-3446-4937-9965-4910963D3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8A93-78E7-47AE-B92F-F31AEAEB5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B792-4305-47B0-AD92-9EDCA704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D8BD-54FF-4A12-B5AB-05C7F185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0E9D2-1659-48DC-B5F0-E4A061ACD23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1FF8F-2F24-482E-AA26-FC60406DD15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5D340-CC8A-4126-9B3D-DE2E313F8C5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4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14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louhodobý majet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dlouhodobým finančním majetk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louhodobý finanční majet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76360" y="1916280"/>
            <a:ext cx="6400800" cy="22730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Garamond"/>
              </a:rPr>
              <a:t>Dlouhodobý finanční majetek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Garamond"/>
              </a:rPr>
              <a:t>Dlouhodobý finanční majete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416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Do dlouhodobého finančního majetku firma investuje, chce-li uložit své volné finanční prostředky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611280" y="1052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omic Sans MS"/>
              </a:rPr>
              <a:t>Do dlouhodobého finančního majetku patří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dlouhodobé cenné papíry, které podnik nakupuje na dobu delší než jeden rok (akcie, obligace, vklady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ůjčky poskytnuté podnikům na dobu delší než jeden ro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nemovitosti, umělecké předměty z cenných kovů pořízené podnikem za účelem obchodování s nim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soubor movitých a nemovitých věcí pronajímajících se jako cele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55280" y="-1717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Výňatek z účtového  rozvrhu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042560" y="1341000"/>
            <a:ext cx="769644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Skupina 06 – DF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61 – Podíly v ovládaných a řízených osobác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62 – Podíly v účetních jednotkách pod podstatných vliv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63 – Ostatní cenné papíry a podíl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65 – Dlouhodobé cenné papíry držené do splatnost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66 – Půjčky a úvěry – ovládající a řídící osoba, podstatný vliv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67 – Ostatní půjčk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69 – Jiný dlouhodobý finanční majete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4:22:20Z</dcterms:created>
  <dc:creator>mirek</dc:creator>
  <dc:description/>
  <dc:language>en-US</dc:language>
  <cp:lastModifiedBy>Igor</cp:lastModifiedBy>
  <dcterms:modified xsi:type="dcterms:W3CDTF">2014-09-13T15:32:58Z</dcterms:modified>
  <cp:revision>37</cp:revision>
  <dc:subject/>
  <dc:title>Náklady</dc:title>
</cp:coreProperties>
</file>