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327C-AE95-4C79-BB11-F39E446050E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3022-B77C-4857-ADFA-5410229304E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9208-4399-4EC9-9EF5-5CD76693571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1549-881D-4D55-9361-6D4975B1BFC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CE13-D117-47F1-BB3C-BC5F7192F5A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53FE-238B-46A0-AA35-F03BCCFB808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ACDD-7D9E-4F22-94BF-968810B8CFE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5579-5FEE-43F1-9ABA-BE5C49D04B5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81A-A9E7-4ED2-8CFC-4D576F17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8301-296A-43AD-93AC-DE3DA9A7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93DA-84F9-4BB2-9DDB-7043381D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61F-4205-4FE3-A0F9-63EC52EF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3432-60AA-4798-A042-BBA1EDF3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F7B6-7CAB-451D-AE25-95AFECA1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61D7-F518-4994-A0FA-53C8C309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084C-1A78-4078-BC2C-88FEEBEF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4BB8-5798-41D7-B9D3-BED7C36F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5602-0049-45C8-ABEC-55D27C3D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27EF-E7E7-4628-9CEE-0AE2B6B8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2F4-9568-45D7-8F70-C661388F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85A2-C34E-4B4C-A177-806121D9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2230-4AED-46E1-B7A6-4E86563C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9A38-D8B7-4C8E-9CCE-CA55FC9E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2534-8AE7-4B92-8D72-F73ACD37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C029-BA9C-4F63-92AF-978490E3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8B559-D906-44A4-8ECF-43145702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E701B-9B44-4AF0-9D4B-4A3E11EA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284EE-7CA1-47FF-9CD4-8C8C0EF6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35E83-C1A6-4306-88C9-219E29C0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BF470-7220-46B0-AD67-3037A547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8AE-98B7-4574-8E08-8D308E2C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9B580-22F2-4513-B209-EE2C95ED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3A54A-78AE-483D-86C9-8081E105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4E729-BFA3-4120-9D42-5C0F0DD1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328A2-0E60-4A71-91C9-1DBBB189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FE44B-F5E0-4178-81DA-1F677C39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3E5F53-E5DE-40D3-A4D3-D6A221ED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FF2CE-B801-4AF6-985C-D53EE374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135-B62D-4B4F-94A9-78845FFC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7499-D833-412E-8B71-3E78349A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791C-D0C3-4637-8963-07EF117D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A63-FADD-4B7C-92FD-6487D604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0B9-F5A6-4F67-9E4E-C1F604E1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5A1-3D0B-48AA-A3D8-1F766E53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188E-6FDE-4689-A1B2-61E9B475A5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5FC4-F6B7-400A-B7DC-660F411F4B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327D-676A-4C24-8EBA-1E8180A093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louhodobým nehmotným majet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nehmotn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Dlouhodobý nehmotný majete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louhodobý nehmotný majete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mic Sans MS"/>
              </a:rPr>
              <a:t>Nehmotný dlouhodobý majetek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představuje majetek dlouhodobé povahy, jehož cena je vyšší než 60 000 Kč v každém jednotlivém případě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Mezi nehmotný dlouhodobý majetek patř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oftware (počítačové program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ocenitelná práva (know-how, patenty, licence, autorská práva, goodwil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ehmotné výsledky výzkumné a vývojové činnosti (recepty, technologické postupy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-1717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42560" y="1341000"/>
            <a:ext cx="76964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1 – DN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1 – Zřizovací výd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2 – Nehmotné výsledky výzkumu a vývo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3 – Softw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4 – Ocenitelná prá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5 – Goodwi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9 – Jiný dlouhodobý nehmotný majet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3:26Z</dcterms:modified>
  <cp:revision>37</cp:revision>
  <dc:subject/>
  <dc:title>Náklady</dc:title>
</cp:coreProperties>
</file>