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5DDD-B784-4307-A60E-E6EB1C5D89E7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9B09-1099-49C9-8801-9E821582FE5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C209-CB56-4DD6-B263-D67B577B5CB0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ED95-74F8-4BFE-BCF2-CBBDACD1678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3BBE-812E-4A0F-AA81-BFBCE7E6DE6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B390-C814-47DE-87C9-98A9B4483817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CCC3-AFCE-43FA-89B8-B697C2BC47FC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5F0A-B34A-48C5-A221-C306BA90AF9D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C77A-FFDE-4D0E-86AC-C79A7DFB554C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8134-A258-4AD3-B68E-B876B9737AF8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EC98-F9D4-43E5-91DA-0B0C3863897D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A3DC-9602-4190-8B6D-D8716427F4A8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46A5-7AA2-4FEF-BC2F-61255B0D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6942-9FEA-4543-B179-F84323D9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3958-3651-435F-BA6E-2468DC86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BF41-A5A2-4404-87B0-E10E11BE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6B55-6A59-4919-A374-54E05921F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9CC9-FA5C-42DF-A578-29DD6081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22FE-C626-4664-85CB-17CC4C75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DBED-97A4-44D8-8A5B-4A2A17F6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FF75-3B3B-4BDE-83F9-73A8142D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759F-A72B-4332-BE7E-72462C3C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8867-CC16-4DCB-BCD9-0D64A8A6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FD57-5199-4CA4-AD7F-ABB58426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A72E-53A2-467D-805A-94D94DCD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6819-E4F2-46C0-B147-54931A9E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9C40-F40A-4AF5-8F69-71FE2FB8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5A20-E86C-4B0C-8381-28E18D07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BE41-A7E7-4C26-8D8A-A5DFB9DD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0763-A59A-4D80-B9CA-969FA52C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12EB-4CE8-40A2-882E-381EDD75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A9D4-1EBC-4203-B088-12392D81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51CD-9832-475A-A2CC-5453F589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643A-DF07-4AE7-A468-6D2675B4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90A6-70B7-42B7-BA6D-A1275409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95CF-894A-49FA-B6D4-9500D95A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2DE0-C8BC-49F6-9FC8-43C93E25F93D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F486-6BA8-4F1A-8D9C-EA825B2BDF33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Výukový materiál zpracován v rámci projektu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EU peníze školá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Registrační číslo projektu: CZ.1.07/1.5.00/34.020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666600"/>
            </a:outerShdw>
          </a:effectLst>
        </p:spPr>
      </p:pic>
      <p:graphicFrame>
        <p:nvGraphicFramePr>
          <p:cNvPr id="99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Zaúčtujte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úD – Přeprava zboží vlastním au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úD – Aktivace stroje ve vl. náklade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úD – Přírůstek obalů na sklad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Ing. Pavel Štohl – Učebnice účetnictví  2. díl pro střední školy a veřejnost, vydavatel vzdělávací středisko          Ing. Pavel Štohl, 20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720800" y="365040"/>
            <a:ext cx="6781680" cy="81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ktiv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6666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800" spc="-1" strike="noStrike">
                <a:solidFill>
                  <a:srgbClr val="999900"/>
                </a:solidFill>
                <a:latin typeface="Garamond"/>
              </a:rPr>
              <a:t>Účtování provozních výnosů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80600" y="4350960"/>
            <a:ext cx="645012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Účtování výnosů – učtová sk. 62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Účtová sk. 62 – Aktivac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135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Aktivace představuje přírůstek majetku             (tj. zvýšení stavu aktiv) v důsledku vlastní činnost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Aktivace se účtuje ve vlastních nákladech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dle toho, který druh majetku aktivací vzniká, používáme tyto účt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621 – Aktivace materiálu a zboží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622 – Aktivace vnitropodnikových služe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623 – Aktivace dlouhodobého nehmotného majetk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624 – Aktivace dlouhodobého hmotného majetk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9900"/>
                </a:solidFill>
                <a:latin typeface="Garamond"/>
              </a:rPr>
              <a:t>621 – Aktivace materiálu a zboží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ento účet se využívá v případě, ž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firma vyrábí obaly pro své výrobky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účtování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úD - Přírůstek vlastních obalů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12/62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9900"/>
                </a:solidFill>
                <a:latin typeface="Garamond"/>
              </a:rPr>
              <a:t>621 – Aktivace materiálu a zboží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vé výrobky prodává ve vlastních (podnikových) prodejnách. Předáním do prodejen, se mění (majetková složka) výrobky na zboží. Musí být zaúčtován úbytek výrobků a přírůstek zboží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účtování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úD – Úbytek výrobků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613/12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úD – Převodky na vyrobené a předané zboží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31/62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úD – Předání zboží na prodejnu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32/13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9900"/>
                </a:solidFill>
                <a:latin typeface="Garamond"/>
              </a:rPr>
              <a:t>622 – Aktivace vnitropodnikových služeb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ento účet se používá např. tehdy, jestliže má firma vlastní dopravní prostředky, kterými si sama přepravuje materiál, zboží atd. Jedná se    o tzv. vnitropodnikovou službu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účtování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úD – Doprava mater. vl. podnikovými aut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111/62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62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9900"/>
                </a:solidFill>
                <a:latin typeface="Garamond"/>
              </a:rPr>
              <a:t>623 – Aktivace dlouhodobého nehmotného majetku</a:t>
            </a:r>
            <a:br>
              <a:rPr sz="2800"/>
            </a:b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002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Účet 623 – Aktivace dlouhodobého nehmotného majetku se používá tehdy, jestliže si sami vytvoříme tento majete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apř. pokud se jedná o účetní program zaúčtujem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úD – Aktivace účet. programu ve vl. nákl.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041/62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úD – Zařazení do užívání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013/041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99900"/>
                </a:solidFill>
                <a:latin typeface="Garamond"/>
              </a:rPr>
              <a:t>624 – Aktivace dlouhodobého hmotného majetku</a:t>
            </a:r>
            <a:br>
              <a:rPr sz="3200"/>
            </a:b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Účet 624 – Aktivace dlouhodobého hmotného majetku použijeme, jestliže si sami vyrobíme (postavíme) stroje, přístroje, budovy at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 případě, že jsme si sami postavili garáž zaúčtujem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úD – Aktivace garáže ve vl. nákladech 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042/62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úD – Zařazení garáže do užívání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021/04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8:22:54Z</dcterms:created>
  <dc:creator>Ing. David Holzbauer</dc:creator>
  <dc:description/>
  <dc:language>en-US</dc:language>
  <cp:lastModifiedBy>Igor</cp:lastModifiedBy>
  <dcterms:modified xsi:type="dcterms:W3CDTF">2014-09-13T15:48:46Z</dcterms:modified>
  <cp:revision>22</cp:revision>
  <dc:subject/>
  <dc:title>Účtování výnosů</dc:title>
</cp:coreProperties>
</file>