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1182-8DDA-4127-8A89-070D02A37B2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791E-6207-4B01-B38C-3810709362B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7F64-7BC5-4DBD-9157-5674ABA3FEE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E014-2FB9-472B-934D-B8132D16308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713E-F701-492A-9C6B-C64DEB344976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EA7F-12C8-4995-B113-1E9A6D80AFC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CF64-DFCD-447F-8133-C659016BDF7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F1FE-CFF8-4E2E-9EB8-6330650BEC1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50E4-8008-435B-85F1-D6AC5A03D69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1E8-48B3-48A1-90E5-4A319196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CFA-456E-4251-9F4C-DE319E6B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0FC-BA1C-4885-B0D4-97F7E22C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9C3-963B-45EC-B4D3-66D52FA2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649-7847-45CA-8A1D-9E0EB96E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03C-540F-4122-9960-8EC2948B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EF8-F615-458F-985E-A62EC66B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435-1F29-4B38-9466-DC49657F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AC2-D2C2-4B57-82EE-E338214C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FEF-F984-477C-ADB9-BC61216F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BE5-C4F0-4299-AE95-4ADCB7A9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7B3-ED11-48DB-B304-1D5EE3BB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B715-E171-41E9-991D-125840FC51F1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54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22600" y="365040"/>
            <a:ext cx="6779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měna stav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80600" y="435240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tování výnosů – učtová sk. 6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11 – Změna stavu nedokončené výroby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tomto účet evidujeme přírůstek a úbytek nedokončené výro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dokončená výroba – jedná se o rozpracované výrobky, které ještě neprošly všemi stupni výroby (nenachází se ve skladu odbytu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nedokončené výroby 121/6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nedokončené výroby 611/1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9900"/>
                </a:solidFill>
                <a:latin typeface="Garamond"/>
              </a:rPr>
              <a:t>612 – Změna stavu polotovarů vlastní výroby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se eviduje přírůstek a úbytek polotovarů vlastní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čtujeme podobně jako nedokončenou výrob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lotovary můžeme prod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polotovarů 122/6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polotovarů 612/12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13 – Změna stavu výrobk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se eviduje přírůstek a úbytek již hotových výrobků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výrobků 123/6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výrobků 613/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nedokončené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Úbytek nedokončené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výrobků na skladě odby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Úbytek polotovarů vlast.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9:12Z</dcterms:modified>
  <cp:revision>19</cp:revision>
  <dc:subject/>
  <dc:title>Účtování výnosů</dc:title>
</cp:coreProperties>
</file>