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99BD-A78C-4003-BE0C-E7FABD62F487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9890-9AF6-4B1E-988F-D516F16EBE9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9234-AD17-465B-B550-6BAE1DD7E1F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6623-3359-46BE-8F0B-81A41B771356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94BE-70A5-410B-B4EA-E40E6FA9CDEF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34E5-26CE-44CC-A34A-EC6EA7235DA0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D812-B870-4C67-A5B9-E30A7A50A276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3328-BE1C-4C7B-B425-9F2D2EBFD99E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750E-21EF-4584-B542-41E4C4E6B83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1DD-296C-45CD-9C9D-F04817D7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8F7-87FD-4D7A-8216-AA4E7698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DC1-962F-4B8F-8692-96FAE95F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F52-D290-4B3C-8CED-C194D39F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8321-EAE7-430C-8867-001B5DC3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0D98-D60D-4C88-8C09-2843BE6F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DDDF-D582-4CE4-BD6C-9B9C8F08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A321-81FC-4DAE-ABD1-5C8FF6EF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1D2E-C785-4E84-B4A6-E92DD09D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7963-3E05-47D1-88D4-61578BF6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636A-8AC2-4EC9-B963-C692D449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19D-689E-4046-8D7B-DE130FD1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8F4A-0C9C-473B-B3F0-981970F3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095D-E895-4AD3-8CD9-3984CC6B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EF81-B137-4901-83CA-76C62543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B1F4-8449-4080-9F0A-2F2723CD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A58F-F05C-48B5-B42E-E91E5A72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828-58E8-4643-A35D-3B896B26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18A-5769-4F31-9487-978BB23E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D854-98C5-4B2F-B2F2-0F2DEB45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FE7-0154-41BE-950A-3CB242B0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73B-9C4C-46C2-A7D7-67DBCA26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E35-EF5A-4CA5-9E22-0237B892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B82-9E39-40CB-99F3-37C3342D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F24A-6792-4535-AF0C-F98702B6C111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43D0-0BC3-42BF-A0EE-F27E0128D2C2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</p:pic>
      <p:graphicFrame>
        <p:nvGraphicFramePr>
          <p:cNvPr id="9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22600" y="365040"/>
            <a:ext cx="6779880" cy="8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ž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800" spc="-1" strike="noStrike">
                <a:solidFill>
                  <a:srgbClr val="999900"/>
                </a:solidFill>
                <a:latin typeface="Garamond"/>
              </a:rPr>
              <a:t>Účtování provozních výnosů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80600" y="4352400"/>
            <a:ext cx="645012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Účtování výnosů – učtová sk. 60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01 – Tržby za vlastní výrobky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účtujeme prodej našich vlastních výrobk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dej se může uskutečnit v hotovosti, nebo můžeme výrobky vyfakturovat odběratelů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Tržba za výrobky – 211/6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- Tržba za výrobky – 311/6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602 – Tržby z prodeje služeb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evidujeme námi poskytnuté služby např. poradenské služby, pronájem budov at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Poskytnuté poradenské služby (hrazené v hotovosti) –  211/6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– Pronájem budovy – 311/6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604 – Tržba za zboží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čtujeme zde prodej zboží (které jsme nakoupili a v nezměněném stavu prodávám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Tržba z prodeje zboží – 211/6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- Tržba za prodané zboží – 311/6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Zaúčtujt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– Prodej výrob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Tržba z prodeje zbož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– Pronájem garáž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g. Pavel Štohl – Učebnice účetnictví  2. díl pro střední školy a veřejnost, vydavatel vzdělávací středisko          Ing. Pavel Štohl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8:59Z</dcterms:modified>
  <cp:revision>16</cp:revision>
  <dc:subject/>
  <dc:title>Účtování výnosů</dc:title>
</cp:coreProperties>
</file>