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0759-EBB0-4FB6-ABE7-4A9E152FC5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6604-169A-45A2-8990-37893B4266D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B0FF-0E09-451F-BC24-DACFF8C712B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8F08-BC87-4F0C-A14C-0854EFE16B8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FB98-4FE9-4570-889E-6632D60D202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511F-8D00-44CE-BA8E-F8F99E5EFE8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64A7-013E-460F-8D1C-E9FB270701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9E1B-0185-46A7-983E-3CA79191990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273D-5E9E-4CCB-8F7A-2B48941434E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8BEC-6B15-47EC-B4E2-DA85CEF396C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7072-9E63-419F-8891-4A314D29CF3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1272-A1F7-4C39-BD5C-9BDB88DFF98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4653-06A2-47AE-9058-BA3B1B06B4D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DBB-C217-4F41-8B1F-A410EE8E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5B8-E32F-4BA4-93A3-1614E669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1B8-740D-4040-8C11-2AFBD5A3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ED2-E7E6-4587-A7B8-63330266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2904-2157-4C07-B77F-2BEEFFD5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9358-C475-4F50-BBFD-47C8FFF3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D74A-8A72-4660-929F-DA4B3778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62B9-D3B5-42D7-A04D-25CC1D51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7A4C-06AE-4C96-826A-830756A0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2C82-0D55-443C-AEF3-8EA0B705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FE05-7E61-475A-BB99-923DD029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E10-5D99-42A3-A61B-053166CA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10F0-76F0-484A-9537-D90F1357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CDB2-AE70-4B2A-8665-B8BD4C81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45BC-2398-4ED1-B803-E34E7ED6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652C-989B-41B8-AE78-CB0D93E1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7AC0-4C2E-4305-9353-DF19F919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56717-FAF3-435E-9CED-65D8745D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6ADA-0BCF-4100-8577-CF9AAF27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C8D61-36FE-474A-B77A-F01EBCD4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57D6-7593-4A42-A903-8F81D432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3C491-4C80-4E73-B96B-E31EC2D0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3F6-9955-40C9-9E43-38F36B72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A4EE0-6B43-4E61-A948-0A2D3E71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2006-B82D-41FF-BDC1-E515AAD6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CCF8A-84A1-42AF-9FA9-7510620D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A0B0-780E-4D1F-8A80-C95C22CE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BE51-FF8E-4E2E-A3FA-E66EC383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2017B-F1CF-4B3A-9294-31E291A7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8C87-B023-4169-96B2-904B49E6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D391-B2F9-4AEA-B03B-69B09E1D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D699-0155-4B4A-BD61-FB83EFA6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6D92B-4C25-40FF-8AAC-E5D770D8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635-3444-4907-A1E8-B0D3B3AC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ED872-464D-4F19-B733-0CC2C834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FE9BF-4683-4608-8310-B079A5B3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CEF5B-4FF3-4FCF-8925-839D9D2F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33D47-D2A3-43AE-AD61-076EEBC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5DE64-A96C-4CCC-8BF0-73C8EAEE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79414-78BB-46C5-B258-8EB8932E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70D1F-3ACD-41B1-A15C-29968C77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511DD-04A6-4960-AC21-69C5B8F8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B3DBC-F5E5-4D53-9933-384A1F28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23E30-65D5-4FD6-99FC-47497B32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8B0-EB9F-46F9-8E93-F92753B2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240FD-127B-4EA2-8905-BFBDB23A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E6D28-898F-48F2-81F0-3FD0C7F8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2910A-1929-41F7-8593-48753247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6275F-856D-4F0F-99DF-826A46A1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3BC8B-D3B3-40E8-9BF9-23B2B60D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FDE8C-AF51-4AD8-B4AF-8D22A02B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3AED7-9801-4992-819A-42B2D189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638EF-8B0E-4601-893D-1E4960CD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FBACC-EE08-4EAB-9F9D-64CE6429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22A7E-DA02-4CF5-BE66-3E1CC0EC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4A4-8035-4CA0-8F83-577BD3DA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37B2C-8C64-43D3-9F49-B3A0550D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147-4ADC-4799-A3DC-B846EDC6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AC0-CFCF-4B25-9BA5-63B9B899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94A-7D76-4E8F-8381-D2A2AE68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1429-5A93-4B6A-8D14-6E3BEF7838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6D53-37AF-4EC7-A2C9-52652827D0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5B52-8BD0-4CB4-B864-9574A59A1B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A998-5605-4128-A919-29BD7AF32B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3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4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8CC4-BDB3-4F04-BDA9-D8FCD25518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39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3. Podle místa vz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jedná se o členění výnosů podle hospodářských středis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o to jsou provoz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o představují 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nosy provozní, finanční výnosy a mimořádné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Členění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Členění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ýnosy můžeme členit podle několika krité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1. Podle výnosových druhů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jde o rozdělení podle stejnorodých účtových skupin výnosů, dle účtové osno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dle směrné účtové osnovy si účetní jednotka sestaví účtový rozvrh, kde bude mít např. tyto skupi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092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 – Tržba za vlastní výkony a zbož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1 – Tržba za vlastní výrobk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2 – Tržba z prodeje služ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4 – Tržba za zbož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 – Změna stavu zásob vlastní čin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1 – Změna stavu nedokončené výro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2 – Změna stavu polotov. vlastní výro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3 – Změna stavu výrobků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 Podle vykazování hospodářského      výsled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voz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nanč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Provozní výnos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1992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z hlavní činnosti, např. prodejem výrobků, zboží, služeb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ých skupinách 60.-6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Prodej zboží – 211/6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Finanční 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12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při pohybu peněz, např. přijaté úroky z vkladů, dividendy z akcií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é skupině 6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roky z vkladů – 211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Mimořádné 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6981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nenadále, např. přijaté náhrady od pojišťovny ze šk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é skupině 6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náhrady za škodu od pojišťovny – 378/68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10:22Z</dcterms:created>
  <dc:creator>mirek</dc:creator>
  <dc:description/>
  <dc:language>en-US</dc:language>
  <cp:lastModifiedBy>Igor</cp:lastModifiedBy>
  <dcterms:modified xsi:type="dcterms:W3CDTF">2014-09-13T15:47:34Z</dcterms:modified>
  <cp:revision>15</cp:revision>
  <dc:subject/>
  <dc:title>Výnosy</dc:title>
</cp:coreProperties>
</file>