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B04F-22B2-4D25-884A-AE6510BDEC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E18D-2ECC-44B3-ABE2-41B0CE5C2EF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2649-32A8-4F31-9C20-ACD594A2AC4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CCA8-98CA-4C0C-AD53-54CB10042D3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5E18-86D1-48A9-B5B1-0803D42B53C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7526-1534-454E-837F-31A9C153691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71CE-3E03-4FFF-8E94-B958BCB3690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7EB0-7BBE-42F1-AE82-86383AED0B7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4E32-4288-453B-B41E-FAC4D868AC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8802-E924-4030-9EAB-58F6D136188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84A-EC4B-4B63-92EF-D0E1489B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2FB-2D44-45C2-B58D-7AC99337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EEC5F-C248-4AE0-97B1-6007EF52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54514E-3A06-4AF1-93CA-7F445E43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7A6603-5857-4992-9CC1-B3E750BD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8E1C0E-C73C-45B0-AE87-BCA4FF5B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D0DC06-D5FB-40B1-9C47-7996EBD3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886CD-97C1-4719-A585-E399B7CC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5AADB-DDC4-429B-BB28-4BA9DFFF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48606C-0D4C-40D4-B6E2-7B4FE9D6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CC962C-6F10-4C3A-BF6A-A660FA9B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C7C63-C017-4D40-85B5-D6FAC024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AFC-3E36-47BD-B531-1E348E6E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C786F-4051-430F-969F-08963893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7325D-7CF9-4356-92C0-003BDDB8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0366F-3250-4643-B62D-494EBD2F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3F213-FA60-4475-B527-2D2DC295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323EF-95D9-4CB5-B946-EE8267C4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92A48-AA7D-42DE-9212-C5FD9CD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815F6-D883-492B-B8F2-6260E331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DA724-E8E2-4736-9924-227E7D1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4203A-1E72-4C36-AA35-07A386F2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1D3F5-EB41-4302-8F32-57EBFC15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027-2DD5-4653-B48E-80146A43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1BE81-8198-400B-8DD2-E9698B90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DB94-98C8-4C45-952A-6143F29D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A32B-B0BC-404D-AF38-CA7596D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E527-F0D5-4ACF-B26D-E0041A99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04C1-0289-4A84-A346-0E44801B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99BD-4ACE-40E8-8082-DF926134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7745-7072-45EF-A892-B68543F3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A3A1-6821-4255-B527-6CB2D59C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534-15CE-4FB4-9E25-3D83805B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A3A8-CDDD-44DE-8E70-6D7986C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15FE-633C-455D-9128-46F05B9F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3409-A0BE-4F41-BD8E-973CA9D9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73C6-F06D-412F-8648-FE0C6F07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8F05-2439-4FEF-885C-2016A639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60AF-E640-4035-8C35-D07BA728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D5F1-FB99-4BB1-9975-4A504C33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04EE-D087-4B8A-A58E-2A47736E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F9D1E-3781-4843-9974-8712D0A0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9AFE-12F7-475A-B9F1-C02C00A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08C-65BE-41CF-BD5C-88687154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F767-E790-47F7-B639-185F11E0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4077-1451-4E84-9582-01DF33F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CD5F-2328-4EA3-85D7-5C5DF964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4596-CF73-4BFE-8064-120582DE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ED1C-230A-4A1C-AB85-DBCEFE45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D49A4-A83F-42A0-83E7-76C06E51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EA0D-5836-4C78-A140-87581998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46D1-8F4D-45B5-8150-D28C687E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A2347-33F0-490E-997F-F955590A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7F62-5C2C-417A-8D35-725D2DC7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522-7577-49EB-96D9-FD16A35B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D65CE-6A0E-481B-A832-BAA81813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9EF7-1D63-407D-AECF-5B7EE221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BFA9-BC9B-47E0-B38A-201A5A06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0650-6458-4F21-A526-8FB01034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D804-1952-4659-858A-A719928F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8FF6-A3BD-483C-93EB-90FCD4F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B50F-E015-48D2-AE2A-3A2FD6D6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7EA4B-095A-48E3-81E2-0FD20F85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439D-8A8E-4660-82D3-71DEB8DF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0DD98-92EA-42F2-9607-57A29CB1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2A1-A159-4A89-A6A7-B65FDD35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DEB5-D1EE-4430-A85D-A66D6C60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763A1-B8BA-4090-A835-EB01F1A2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98E0-EA87-4D72-9F11-84ACF9DC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0541A-9FA7-47A2-BB14-AFB28B5D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97E1-B9F1-4C50-90B8-C994C36F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49AF-7F63-497C-86D1-75B453A7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7C10-9EA6-4E56-8AAF-CC14D662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FA55C-4312-4040-A321-D7959B2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1382-0F37-48E3-837A-23A20F2F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93A07-C15A-4A67-9902-81AEDFF1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D53-E3B8-48FB-8DF0-A3205B36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9F07E-BA0D-4583-83E8-7DF48F89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D8EAB-5A68-42BC-B23E-5C98F135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677C-E85F-4D74-AC24-A7F183A2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1C97A-5D9C-44B8-AA74-9B7D470D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9E367-727D-4297-8639-5CE3E6ED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6B44-DDA6-40A5-ABCF-465027B0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FB1B2-DEC9-48E4-A8E9-74620C8C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0199B-E178-4E2D-9FF0-EF2FDC13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5F2E-F965-4735-B285-72DB8E7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3352B-2F5C-427F-BBEC-D9DB8E6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5DC-57EA-44C9-AA3E-972E2B5D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A8290-BE8B-4F72-B8C2-E8EBC227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7BB62-725E-434E-9ECB-F10987DF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26B8E-E4CE-43C4-9FA0-785B74C4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274AE-B7B5-4AB6-8383-7D7741B2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6E6CD-ECDD-4FE6-BD32-CEC7708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7E749-0F08-4541-9637-7BE6CDAE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80A19-D87A-4CE7-A050-6C0F2ED2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E44890-BB2C-4755-8935-E76D0B3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E8771-6FEB-4CB8-9C33-2EA4A159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53066-8A73-49A4-9A3B-DA64D33E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69E-291F-4198-BD4D-7C6D446B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01CFE-BB0B-42DB-BEA0-44FE8ADE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21326-41A4-4358-9E4D-49136C4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C8988-5072-4ACE-A0CD-8F49AF68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59962-F836-4348-AAE6-E78D73BA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4F041-FD4E-49B9-A607-51505DF1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4D3AF-FA7E-4AE2-A386-E5D4AA0A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9248A-1DCE-4773-8B43-280D00C3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44728-4878-47BE-A66D-2DE3118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170A0-F93D-422B-BB2F-C2FAD08E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727F1-ACDE-4B26-AD3B-58DC009D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F0E-F249-4010-8345-A9CB8875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E637B-54D0-4637-8EB4-DB1AD71E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AC194-9767-470E-A1BC-4035ABC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E8570-841E-48FC-A1A8-64ADFD5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0688D-3901-428B-A694-EE66996F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7E7A4-88CC-43F9-96E6-2F77448B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8C71E-62AA-4BEC-887B-BFC9E20A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4AED-B373-4927-9E27-119BA9D2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278652-3F73-4C41-A60C-FA28E75D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51852-8FC2-4070-94EF-56F64F43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D80AC6-1C48-4803-98BC-7CC3D6F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103E-7C9F-4A51-8F99-65C92BCC8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2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2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3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0DED-D633-4019-ADE1-E397DC81A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4F64-8427-469F-B9A2-557540DE0C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164-C2B0-4103-B80B-933B23558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797B-E35F-45D6-B68F-9B30E31D44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9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0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1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6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265A-474E-4902-ABB6-393C1277DD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2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51BE-DF05-4E4C-B1CB-FB1A8AEF1B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9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0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FA9F-C416-4B77-9481-9BA7CC87E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B167-D845-446B-98FD-72760CA983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4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4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5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5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6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6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6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7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4116-BEB2-43D3-B317-5BC4CE73E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78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íjem, vý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Charakteristika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y představují výkony podni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lavní složku výnosů tvoří tržby z prodeje výrobků, zboží či služ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usíme rozlišovat výnosy a příjm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íjmy představují přírůstky peněžních prostředk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559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nastat situace, kdy všechny t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 pojmy splývají ve stejném okamžik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VPD -Tržba inkasovaná v hotovosti za služ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Zaúčtujeme:  211/6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Jedná se současně o výnos, příjem a taktéž tržb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ale nastat situace, kdy každý z těchto pojmů nastává v jiném časovém okamž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vyrobením výrobku vzniká firmě výnos – 123/613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tržba vzniká až v okamžiku prodeje – 311/6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příjem vzniká v okamžiku platby od odběratele – 211/3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výnosy a příjm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47Z</dcterms:modified>
  <cp:revision>18</cp:revision>
  <dc:subject/>
  <dc:title>Výnosy</dc:title>
</cp:coreProperties>
</file>