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ED28-9183-4F56-9A45-055CA107C4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8A22-036C-4693-81C9-B98A71B15D2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D7D9-CE50-4A89-9DCC-8EBA2D75791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BDAA-B419-4F90-AC94-2325584BE9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F2F8-F3D8-4AC7-806A-E8E4F72027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86DA-8503-4ABA-B25A-9630F02641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B9AD-EAB9-4988-90F8-3B7820FCE2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E7E6-E98A-4695-846D-B4661A3A77F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4CD0-12E9-43F6-BEFA-48DA7A92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335-1862-43F1-AEC8-016FC24C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D65-A02A-428F-8092-DD0F2649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2C1-2B68-4194-818E-2D7990D4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975-CD32-4315-B20E-96263969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D2C-47D9-46C8-BC76-8A2E77B3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BE4-B21C-4B33-9219-FF1DC40D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974-3325-4F58-B3D1-217ACE15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059-FE03-4AE0-9B7F-8AEE89DA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441-36FC-4AA7-897B-51D7317C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2A4-567D-4CB9-AC03-A8448535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C81-EABE-40B8-BF2C-28309E3B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C96E-665C-4318-B76E-559AC994963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škody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mořádné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mimořádný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82 - Šk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škody, které nám vznikly v důsledku mimořádných situací. Například škody na majetku v důsledku živelných poh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úD – Škoda na materiálu v důsledku záplav – 582/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88 – Ostatní mimořádné nákla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opravy nákladů z minulých období (účtuje se pouze u významných částe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ě odhadneme částku spotřebované energie za minulý rok a skutečná spotřeba bude vyš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eme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58/321 (3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Škoda na zboží v důsledku požá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škození stroje v důsledku zápl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troj nebyl zcela odeps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48:29Z</dcterms:created>
  <dc:creator>Ing. David Holzbauer</dc:creator>
  <dc:description/>
  <dc:language>en-US</dc:language>
  <cp:lastModifiedBy>Igor</cp:lastModifiedBy>
  <dcterms:modified xsi:type="dcterms:W3CDTF">2014-09-13T15:45:38Z</dcterms:modified>
  <cp:revision>17</cp:revision>
  <dc:subject/>
  <dc:title>Účtování nákladů</dc:title>
</cp:coreProperties>
</file>