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9A72-53A2-4A48-BE27-C1A3D6192F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6BAF-7E57-4E80-85A9-3C45CDDCE7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1815-D924-482D-9A07-B0A3D07F48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08E-7288-423C-B8B4-77C9A1F11FB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5884-9B58-4DAB-B87F-20A7AB608B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679E-277F-4A56-AAE4-14B32E351F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CCE-1544-4E8C-AC4C-ECB8BFD55E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2B9-FCC0-4866-99E4-7542BB7FFA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2ED4-E235-42A6-B367-69A0289688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17F4-9ADF-4B4A-93D7-23BC19773A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B3D-0F7D-42C4-8EDD-5911A930CD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9BE-30DD-4FA7-BAED-1C54C62B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83D-49D9-4DF3-A457-2E4B91F2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BC4-07BD-4021-8BD2-6D4D2BD9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D2E-575E-4E77-B5F1-C20E6AFB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8D1-054F-46D9-AB9C-C968656A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FAC-0AFF-457A-A1CE-92F1C8D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DEE-0F43-4AC9-AF58-1746066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E1C-EE43-4B98-A48C-3B802527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600-6933-45A9-BBCA-F7D26B58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9D3D-8CEC-4F67-80D0-A39C386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137-EDAE-42A2-A5F7-682154C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2C3-0FD3-4CD4-8F57-746F45B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AA9-9A00-48A8-9C1D-0F1CEEFE632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pisy, rezervy, opravné polo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sk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51 – Odpisy dlouhodobého HM a N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 zachyc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et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isy DHM a DN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 – 551/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zřizovacích výdajů – 551/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2 – Tvorba a zúčtování zákonný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tvorbu (zrušení) rezerv, a to např. na opravu DHM (od 2. odpisové skupiny), dle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na opravu střechy –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 (po opravě střechy)– 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4 – Tvorba a zúčtování ostatní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účet používáme pro tvorbu a čerpání rezerv, které nesplňují podmínky Z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opravu majetku, který se nachází v            1. odpisové skupi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na opravu počítače – 554/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čerpání rezervy – 459/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8 – Tvorba a zúčtování zákonných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pohledávkám (viz. neuhrazené pohledávky), které 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opravné položky k pohledávce, která je 6. měsíců po splatnosti – 558/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9 – Tvorba a zúčtování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zásobám, DM, pohledávkám, které ne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opravné položky k materiálu – 559/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pravná položka k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účetního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Čerpání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17Z</dcterms:modified>
  <cp:revision>18</cp:revision>
  <dc:subject/>
  <dc:title>Účtování nákladů</dc:title>
</cp:coreProperties>
</file>