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316B-5DB8-4790-AB24-C7F0B42A68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D905-B4A5-4171-8655-095BDE41278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5933-D50A-485C-87DA-6C3D6D87BF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E50F-64FC-477F-8E82-40CEC3800F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7930-FF4A-4B3F-9F06-3A8281153D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6FFE-B6AA-4697-BA27-8D0D9B3FBE1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DEDE-5F96-43C8-A24D-AD5A0F60B92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89F9-4ACC-4CAD-998C-8FB29CE5BA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B52B-2FB7-4B8A-A7E0-C0E997C338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21E6-B613-40BF-A121-742E80BB2C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90CF-E536-47F3-850F-6559D7AD4F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4C43-7CDC-4FC9-90CA-11892DC0B9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04B0-3C18-418B-955F-0AE706F32F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EF35-E4AC-4898-AF0E-907E3734BD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665-8711-495E-9345-99716992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959-B8DC-4B07-9113-47376F48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AF6-1346-40A3-95D5-E1AB6068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F8A-E079-43C7-8F36-5035CF3A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DFD-1A07-4159-9EC4-6F1146C3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40C-0A3A-45D2-8B97-18C594E5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192-5760-4BEA-99F6-F316DA23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11E-022C-45C7-9B42-D9563A8E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BA3-DDE9-45FC-A4E1-7A9396E1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923-277B-4DAF-8FD5-1CF5DBED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4E9-689D-48F1-BA3C-21C37D6D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2C2-BA31-45E3-9D14-3D1B9462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86F8-12C8-45A4-891D-E71B4EF4D718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8 – Ostatní provozní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é zhodnocení u DHM, jehož částka nepřesáhne Kč 40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odpovědnosti za šk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majetk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Instalace klimatizace do služebního auta – (15 000,-- Kč) – 548/2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9 – Manka a ško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manka a škody u provozního majetku (dlouhodobý majetek, zásob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 inventarizaci bylo zjištěno manko u zboží – 549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u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Klimatizace do auta – 18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pohledávky za odběr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Smluvní pokuta od dod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C prodané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ý 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zůstatková cena, dary, pokuty a pená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Times New Roman"/>
              </a:rPr>
              <a:t>541 – Zůstatková cena prodaného DHM a DNM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C prodávaného DHM a DNM. U odpisovaného majetku se zde účtuje rozdíl mezi vstupní cenou a jeho opráv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ůstatková cena prodávaného stroje 541/0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U neodpisovaného majetku účtujem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ozemek 541/0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2 – Prodaný materiál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 se zde úbytek materiálu, který byl prodán. Úbytek se zaúčtuje (v případě nákupu materiálu) v pořizovacích cená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řebytečný materiál – 542/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3 - Da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dary, které účetní jednotka poskytla jinému subjek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y mohou mít peněžní formu, ale může se jednat i o věcné dary, např. počítače , auto, zbož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Peněžní dar zdrav. zařízení – 54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44 – Smluvní pokuty a pená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smluvní pokuty a úroky z prodlení a penále, které vyplývají ze smluvních vztahů. Například musíme uhradit úroky z prodlení, pokud nezaplatíme dodavateli včas dlužnou čás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hrada smluvní pokuty – 544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5 – Ostatní pokuty a penál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okuty a penále, které nám udělili státní instituce, např. FÚ, zdravotní pojišťovny, správa sociálního zabezpečen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pokuty od FÚ za nedostatky v účetnictví – 545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6 – Odpis pohledávek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např. nedobytnou pohledáv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Odpis pohledávky za odběrateli – 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04Z</dcterms:modified>
  <cp:revision>18</cp:revision>
  <dc:subject/>
  <dc:title>Účtování nákladů</dc:title>
</cp:coreProperties>
</file>