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CC2E1-F0CF-4E80-AF39-6A1A9BFD8D2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FE312-AFF4-47B0-803C-6424132151EB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B5C66-3029-434A-8B32-5083D5C18318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6B272-FB99-4B08-B800-022BEEA2D39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193B9-7890-42DE-ADB4-ED15A9485A6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6158F-AABA-4D70-9883-266C8E56B21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39ADA-71B8-4275-BDD6-B08BE631818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6608E-0D7D-4C0A-A9CF-D3795D10F84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A5286-B2F1-48C7-9B63-3ECE4FE6DAE4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3889-6838-4131-AD28-39D566CA5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3EB4-CCA0-4C14-9E85-DEAC3B5D3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A4F6-F2F2-4320-9212-25D6DBC1F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9658-0D24-4A4A-BCB0-A5F6C7495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DB39-9B51-4927-A867-047185EC9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9706-3D2F-42B1-B613-34856AAF0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EE89-51C8-4CAF-8789-20B2D5EB0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D4D5-6218-48E6-9748-5114E118B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68CE-6969-465B-9BA2-24DF4B6F7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19F4-8933-411A-8016-978F7F2E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773B-0C3D-4200-BCE6-088989146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53B1-D288-4115-B271-0FC1722C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874FC-55BB-4F36-A461-84B99B71CFF5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330033"/>
            </a:outerShdw>
          </a:effectLst>
        </p:spPr>
      </p:pic>
      <p:graphicFrame>
        <p:nvGraphicFramePr>
          <p:cNvPr id="56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39640" y="4724280"/>
          <a:ext cx="7561440" cy="11908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/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108160" y="365040"/>
            <a:ext cx="6404040" cy="81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áklady a výnos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nákla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ně silniční, z nemovitosti, z převodu nemovitosti, poplat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330033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Účtování provozních nákladů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785960" y="4352400"/>
            <a:ext cx="6092640" cy="12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tování nákladů – účtová sk. 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531 – Silniční daň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tujeme zde silniční daň, kterou má povinnost platit účetní jednotka, pokud v podnikání používá motorová vozid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etní jednotka musí zaplatit silniční daň i za své zaměstnance, kteří využili pro služební cesty svá soukromá vozid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Předpis silniční daně – 531/3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532 – Daň z nemovitost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ato daň se účtuje, jestli-že má účetní jednotka vlastní nemovitos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Předpis daně z nemovitosti – 532/3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538 – Ostatní daně a poplatk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tujeme zde např.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otřeba kol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álniční znám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aň z převodu nemovit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ědická da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arovací daň a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PD – nákup dálničních známek – 538/2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Zaúčtujte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1. VPD – Nákup kolků (spotřeb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2. VúD – Předpis silniční dan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3. VPD – Úhrada daně z nemovit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4. VúD – Předpis daně z převodu nemovit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Ing. Pavel Štohl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5T07:34:59Z</dcterms:created>
  <dc:creator>Ing. David Holzbauer</dc:creator>
  <dc:description/>
  <dc:language>en-US</dc:language>
  <cp:lastModifiedBy>Igor</cp:lastModifiedBy>
  <dcterms:modified xsi:type="dcterms:W3CDTF">2014-09-13T15:45:51Z</dcterms:modified>
  <cp:revision>18</cp:revision>
  <dc:subject/>
  <dc:title>Účtování nákladů</dc:title>
</cp:coreProperties>
</file>