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0403-2CB8-459F-BB8E-72EC1832C5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ED1A-3B77-4962-B1F0-A729D893618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B972-741F-4BE9-A7B4-583BFFB5AD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9944-E522-4C90-BF26-60C63137242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E015-6E4C-43A4-BF36-F8D391A5935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9B75-EA90-4C03-BA20-D60D2D794A0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E552-6CD3-40D0-9F97-84CD817722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F709-71EE-47BD-8E2C-7737ECE6C4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BD4D-F0F9-40F2-860A-2428DF30D8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81CE-762C-42CB-B107-5F20C05A9C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2EF6-84D6-4161-995D-8BD21B77A9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B619-F4B4-4B0A-A96D-73738B3D6C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61CE-3D76-414D-9108-992FE25EAEC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CD9F-245A-44A8-87D9-27CFFDAE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DA7-92AF-4E24-AB55-CA48752C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625-588C-429D-875D-10F389EB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E811-75D2-4E77-B5E8-72820456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8B8-A595-4A18-B7D9-0DBFF8D8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814-EC9C-44AE-8391-3AE1BF89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B97E-4E5D-476C-AAC4-706B2AA0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C38-77E0-4FEA-A8D1-7053CEA1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807-2663-4B6D-950A-0614D177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E77-FF55-4415-BDAA-1DBA3A95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751-1B66-4934-A3C1-68653FD4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F2A-0E4C-48CF-92E8-9BCAEBEC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3394-10DF-4D90-B0E0-50E0917AD2B6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8 – Ostatní sociální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říspěvek na stravování, který převyšuje 55 % z hodnoty stravné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vydání stravenek zaměstnancům – 528/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hrubé mzdy zaměst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hrubé mzdy společ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Zákonné soc. a zdr. Pojišt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íspěvek na stravování do 5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íspěvek na stravování nad 5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hrubá mzda, sociální pojištění, sociální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1 – Mzdové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přiznanou hrubou mzdu (zaměstnancům) ze závislé čin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Hrubá mzda zaměstnanců – 521/3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22 – Příjmy společníků a členů družstva ze      závislé činnosti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přiznanou hrubou mzdu ze závislé činnosti společníkům (pracující ve společ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hrubá mzda společníků – 522/3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4 – Zákonné sociální pojiště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zdravotní a sociální pojištění, které je povinen hradit zaměstnavatel za své zaměst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soc. a zdrav. poj. – 524/3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Odvod soc. a zdrav. poj. – 336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5 – Ostatní sociální pojiště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říspěvky na penzijní připojištění a zdravotní pojištění, které zaměstnavatel poskytuje svým zaměstnanc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330033"/>
                </a:solidFill>
                <a:latin typeface="Times New Roman"/>
              </a:rPr>
              <a:t>526 – Sociální náklady individuálního podnikate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í se zde náklady na zdravotní a sociální pojištění podnikate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to účet používá OSV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odvod zdrav. poj. za OSVČ – 526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7 – Zákonné sociální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účtujeme náklady, které byly vynaloženy za účelem vytvoření pracovních a sociálních podmínek a péče o zdraví zaměstnanc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 se např. o příspěvek na stravování       (a to do výše 55 % z hodnoty stravov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vydání stravenek zaměstnancům -  527/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55Z</dcterms:modified>
  <cp:revision>16</cp:revision>
  <dc:subject/>
  <dc:title>Účtování nákladů</dc:title>
</cp:coreProperties>
</file>