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52A0-30C9-4C1D-82B9-2BDEC86C84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8360-1F9B-408B-BEEB-A2068FA805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E0DF-57FC-4415-ABE2-95792308ED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FEDD-116D-4A59-A70B-1A74429647E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3C3A-D964-49DB-8436-7D34C79BF5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AB68-51D9-4066-98B6-71502C0D7E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C795-5C36-4F1D-88AD-F8510195C9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B585-5D25-4C24-9902-CC1F039705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1AC2-C252-46EA-8AB9-967247648F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A7D6-F48A-4B34-BA12-4CCD3B751A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05E9-74DD-4FA0-BEC2-2C208D9CDB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296-76E5-492A-B7A4-43B0D452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A25-FE5C-4123-9887-AA915505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E1A-8AD7-46DD-87FC-BCCC98C2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585-2A82-4BFF-A795-A6BAEC42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964-ED7D-4C5F-911C-BF4D2306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B13-A0DE-4F9D-BF94-ACA59666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1B7-40F5-446F-AA8C-0D2965D1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E96-EE35-4CE0-A07E-9AEC53D0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86D-722A-4717-9E46-3711F9B0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977-C222-46A4-B69A-DCF0FFF1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5A5-3827-438C-9946-9D6815D1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5BB-E992-478D-9130-CA749C42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B535-B800-4269-B9CA-6A57425B87CB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potřeba, prodej, manko, přirozený úbyt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sk.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omto účtu účtujeme na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 spotřeba základní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ocné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ozní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hradních díl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al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skopis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ncelářských potřeb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obné nákupy za hotov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kup odborných časopis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pagační předměty, které jsou opatřeny obchodním jménem firmy, jejichž hodnota nepřesáhne 500,-- Kč bez DPH a nepodléhají spotřební dan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ý úbytek u materiálu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spotřeba materiálu  - 501/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manko do normy u základního materiálu (přirozený úbytek) - 501/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kancelářských potřeb - 501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2 – Spotřeba energi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elektrické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plynu, páry a vody, které jsou určeny k energetickým účel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Spotřebovaná elektrická energie - 502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77240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330033"/>
                </a:solidFill>
                <a:latin typeface="Times New Roman"/>
              </a:rPr>
              <a:t>504 – Prodané zboží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úbytek prodaného zboží, a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ořizovacích ce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Manko do normy u zboží (přirozený úbyt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výdej zboží ze skladu   504/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Spotřeba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Dodávka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irozený úbytek u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kancelářských potř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é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30Z</dcterms:modified>
  <cp:revision>20</cp:revision>
  <dc:subject/>
  <dc:title>Účtování nákladů</dc:title>
</cp:coreProperties>
</file>