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80C2-8622-461E-AB78-AE39C64C5E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CAE-889A-443D-9A0B-3154E1F1F6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8791-F61D-4F95-96E3-BD4FA120D72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5956-C789-42C2-870C-495E5FAB5C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99F1-A2B9-4CD2-822A-B324258841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A844-1BF5-4447-A00D-0F09EBD1BE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6E9A-77CD-4EDD-8125-AC782B321C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3464-F9FC-4404-8395-17CE3A9C65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86E5-B6CC-4C33-8FBB-2774FD557E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2839-8605-4040-9998-9C9ABD9AD0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8FBC-77A2-4F22-A369-2D75A5E654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885-6E65-4921-8CF1-40DD9601C4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BB2F-117C-405F-B27E-123C5E560F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CC1B-1587-4B3A-8FC4-3C1D206132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CFBE-C34B-4E66-BFDF-3A19686926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F084-F7E0-4B1B-A45B-95F95B5E387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7D3-2351-41F6-A049-60E27F13074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D80-D028-46EF-B723-CDBDF3DF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AED-2B9F-461A-AA21-B8DE2FB8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C17-29E5-42E7-9EB6-08C26F07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FDB-1CB7-47AC-BFC3-B93681A9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639B-09EE-4037-849B-B2202F1B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D2C3-D49F-4B7F-9F5F-559A8E3B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2E5E-2FDE-43FF-A07E-381F3187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6013-5BBB-4646-8DF2-565E968F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8A15-C05A-407B-BCBE-B3965000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1803-AABE-4840-AB6F-FA0D9D37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F457-98E8-483C-B8BF-C905DFD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17F-8539-40B0-A8B8-68384C2D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C6EC-3F25-45C1-8404-6624F10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543F-061F-4395-9CD1-C72C53FC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469C-DF59-4120-AF8B-1BCF0950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87E5-F518-41C8-A9E4-CB6F5127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C59A-FF59-4C6F-A7C2-A288C391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39106-E934-4129-832E-AA896B7F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95272-2433-4DE5-BA15-907E2734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CE6AE-9D95-456A-93F5-219DDF6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5BF48-4331-4389-AE1A-A1378692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E7152-88BA-4216-B554-78A5D63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362-1334-4F56-995E-E231056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2C45B-4D2B-4111-BFC6-5A28FC49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B2323-FCD7-42EB-8DCD-097FE6DE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BAD22-7A4B-4E1C-B005-79E5EBD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1379E-10F5-4621-9A98-815CA350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07E9E-2F23-4960-9097-E23D8CBA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B9965-C746-48CC-ABF2-5A453A13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52641-3722-4DCF-A3EF-0FB41471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A29-B4D0-498C-94BB-FCCBE17D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54D-0DBE-469A-8AFA-305A1886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CD9-5318-42AF-8F47-7D29DD1D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D87-892B-4B83-9794-FA2C8BBA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80F-C29F-4FEB-A414-AB3E74E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AB1-BA8A-4E23-8C78-69D6AEF8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A0B-E3E4-4C63-87E1-D7ACEDD97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443D-8CA7-4516-89B4-A1738818E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588-5AD6-4387-A564-7D9F69ABF8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4. Podle kalku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Přímé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lze přesně určit spotřebu na kalkulační jedn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u základního materiálu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kolová mzda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Nepřímé náklady (režijní)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nelze přímo určit na jednici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energie (osvětlení)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. Podle místa vzni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edná se o členění nákladů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odle hospodářských středis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é středisko je relativně samostatně hospodařící vnitropodnikový útvar, který sleduje své náklady, výnosy a zjišťuje výsledek hospoda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 vnitropodnikových útvarů (HS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sprá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výro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dopra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odbytu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 základě těchto informací se provádí hodnocení hospodárnosti a efektivnosti jednotlivých výkon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áklady hospodářského střediska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lze rozdělit n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rvot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převzaté z finančního účetnictv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druhotné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vznikající ze styků s ostatními středi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Daňově účinné náklad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jsou dle ZDP daňově uznatelné (slouží na dosažení a zajištění příjmů „výnosů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a zaměstnanců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21/3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1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2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8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hrada silniční daně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1/21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daňově neúčinné nákl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ZDP neuznává jako daňově účinn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robněji budeme řešit pří výpočtu dan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kup občerstve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3/2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ta od FÚ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5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ovací daň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8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3/22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 členíme náklady podle vztahu k objemu výrob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é máme náklady podle vykazování hospodářského výsledk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Členění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můžeme členit podle několika kritérií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1. Podle nákladových druh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náklad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e účtové osno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 Na základě účtové osnovy si účetní jednotka sestaví účtový rozvr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 – Spotřebované nákup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1 – 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2 – Spotřeba e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3 – Spotřeba ostatních neskladovatelných dodáve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4 – Prodané zbož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 –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2 – Cestovn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3 – Náklady na reprezenta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8 – Ostatní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2. Podle vykazování hospodářského výsled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voz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é skupiny 50 až 5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atří zde náklady, které souvisí s běžnou podnikatelskou činností (souvisí se  zajištěním provozu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stov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dpisy DM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ové nákla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ištění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Finanč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á skupiny 56 až 5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se týkají finančního majet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ceni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roky z úvěrů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ankovní poplat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rz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ztrát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ladní schod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řizovací ceny prodaných C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) Mimořádné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jsou neočekávané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nepředvídateln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kody v důsledku živelných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ro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na změnu met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vorba mimořádných rezer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3. Podle vztahu k objemu výrob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fixní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neměnné) - nejsou závislé na objemu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atří zde např.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aňové 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držba a správa budov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ilní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proměnlivé) - mění se s objemem výkonu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mzdy výrobních dělní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oc. a zdrav. pojištění, které hradí firma za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yto dělník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41Z</dcterms:modified>
  <cp:revision>26</cp:revision>
  <dc:subject/>
  <dc:title>Náklady</dc:title>
</cp:coreProperties>
</file>