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C33A-2AE9-4EE1-BA12-829225F61F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A9CC-20A2-4E81-9128-B171D8449C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EEF1-F4E3-4FF9-80A8-EEC781D0D8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7EC-A1F2-4383-80ED-34FB6080760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C541-01E8-4CF7-8206-E8D0691E1D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CAB-0A05-4E88-8054-1FEE26DF86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84DE-253F-4B93-80F7-5E2BFFF1A3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B025-77B9-4BDD-990D-EA64830914F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9A3-9FA3-4C7D-AAE7-E4672E39FC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86E-C9C1-49E8-B0F1-94476342074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054-4B5F-4406-B454-5B57003371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4E8-7E49-4864-8F85-CD8F40B1D4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BF0-5C42-44B9-A9DA-85F10246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E3C-BC57-40B8-B622-3C17DEB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E9E-DD61-4BD0-8095-0C858EF3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5EE-0602-4D04-A6E7-9B133AA4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D0AB-26AD-4471-8F03-B67E018A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F1C-49E5-4DE4-9E62-8241688F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0F4C-8FCE-4754-9C80-B9FE6724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595F-6C40-4BA1-B187-C5D2D97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0C4F-6708-43EB-94CA-406B4FE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37C7-7F00-43B9-A391-792F3A5A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AC4-F4F7-41FE-8213-6EDA41A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007-C777-4507-80BC-4D6003C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D3BB-88D3-45C7-AF70-12D68265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FB36-AD83-481D-B7DC-F051073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5D5-6C5C-4E4E-889F-74A36B47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EB2B-2CB1-4C65-9DE7-C00AD405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E629-371F-49B4-969B-89FD4670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1A61E-94F2-448D-926C-35225047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5B7AB-AF9B-4459-AEE0-ECA685A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DE9A5-456A-4400-813D-A06C8F88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DF705-64EC-4CE1-9E8D-14839E27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4721D-0EA9-424A-8A19-311B54CC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D81-39A7-45E9-9ED1-A6DB105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67BC0-141A-4755-BFB2-AEB10E40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6DDDE-4717-438B-B92E-58023F67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E1FFC-59A3-4738-AFF0-F584237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D3117-91ED-4778-8A85-E056E817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731E1-7963-4890-8311-19B34E85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51047-DF77-4A37-AA78-EB414E90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35FE0-7802-4A57-AE48-9F7891F3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477-A6EE-4028-BB95-CC3B3C7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888-397C-4BD1-A1C2-0D8F7E57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364-6508-46E4-879A-8AB5248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BC1-2E6E-4056-8BD9-ED9A55F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A4D-69FD-4303-BD2A-A5EB2E1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E20-215D-4387-87F4-3EED6F6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E556-02F1-4711-B492-3642EA3A2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7823-7459-43E4-83F4-46C3725AFF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BB79-6279-4360-9404-32C34A65DB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nákla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náklady a výdaj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výdaje, spotř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Charakteristika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představují peněžní vyjádření spotřeby živé a zvěcnělé práce, která byla vynaložena v souvislosti s činností účetní jednotk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 základě nákladů a výnosů zjišťujeme hospodářský výsledek účetní jedno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áklady je třeba odlišovat od výdaj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jsou úbytkem peněžních prostředků bez vazby na konkrétní výkon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se přeměňují v náklady jen tehdy, jestliže vynaložený majetek vstupuje bezprostředně do tvorby výrobku, práce či služb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materiálu v hotovosti představuje výdaj peněžních prostředků, ale nákladem bude až samotná spotřeba materiálu (je zde časový nesoulad mezi výdajem a nákladem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eme následovně (způsob A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. VPD - nákup materiálu (bez vedlejších výdajů)     112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Výdejka – spotřeba materiálu 501/1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kud 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tní jednotka nakoupila materiál, který bude ihned spotřebov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ak se jedná současně 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da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nákl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etní jednotka nakoupila za hotové kancelářské potřeby, které byly ihned použ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účtujeme násled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ancelářských potřeb 501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alší 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kolků v hotovosti, které nebyly použity, zaúčtujeme, jako úbytek peněžních prostředk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olků 213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protože zatím nebyly použity, nejedná se o nákla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mile tyto kolky použijeme, tak se jedná o náklad a zaúčtuje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spotřeba kolků 538/2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chom nakoupily kolky, které ihned použijeme, tak se jed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 výdaj a souběžně i nákl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nákup kolků – 538/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57Z</dcterms:modified>
  <cp:revision>30</cp:revision>
  <dc:subject/>
  <dc:title>Náklady</dc:title>
</cp:coreProperties>
</file>