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CF8E-411E-4948-B6AD-5A89CCD2BE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9174-B5B6-4BC5-8FB2-02FF2486F7B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A604-9B21-409B-8A1C-4F494BBE8F4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0723-EAE3-4FE3-AEFB-62F8B0CB8EF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3602-32D3-45F1-BCD1-7477B03850A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A758-100F-48C4-8A55-0CEAE6A81F9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DD71-14A8-4114-8EB0-E234A89F150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F5C3-4A35-42C8-8DB5-5EC527C9F92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E8AA-9FD5-4492-B34B-0A8F3B33F37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F395-C250-460A-97F7-162EDA64EFA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F0B2-704E-4663-AA84-025948B4D8F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9EAD-7758-4B76-A592-BDB7EDE5AC3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D60A-3622-4AED-B3AD-DA959E71528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5FFB-6920-47DC-B974-6BCAA8A5C75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úročený vklad + 2. zúročený vklad + ... + poslední zúročený vkl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AC5-E4BA-45E1-BC71-E3119F4E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251-741D-491C-BDAC-89DCE20C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6F5-B558-494C-83AF-80330060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16A5-6317-4113-A590-1FC5A48C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DC14-EF58-4768-853A-BBE79660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F678-8FCB-466A-B111-C8471333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DCA-C1D1-4D8D-99C9-70570546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C4D-55CE-4C5F-B126-841CF406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A541-FF25-41BF-BB88-3CA9A8D9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282-8897-4606-B3F5-9789345D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040-6EB6-4981-A1B9-1A789051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177-998A-4E32-BCFF-776DB10A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D1D1-1B9C-4827-882F-B9B5D66D3F0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Times New Roman"/>
              </a:rPr>
              <a:t>UMOŘOVÁNÍ DLUHU</a:t>
            </a:r>
            <a:endParaRPr b="0" lang="en-US" sz="8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788000" y="4572000"/>
            <a:ext cx="435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Užití GP v praxi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Ze základního vzorc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který vyjadřuje velikost dluhu, jenž můžeme za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let umořit,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dvodím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obecné vztahy pro výpočet velikostí veličin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ční splátka, anuita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čet let, po které dluh splácíme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ZOR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47636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97080" y="979560"/>
            <a:ext cx="360360" cy="35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3"/>
              <p:cNvSpPr txBox="1"/>
              <p:nvPr/>
            </p:nvSpPr>
            <p:spPr>
              <a:xfrm>
                <a:off x="4788000" y="2276640"/>
                <a:ext cx="6332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1258920" y="765000"/>
            <a:ext cx="788508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843280" y="4365720"/>
                <a:ext cx="328608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3"/>
              <p:cNvSpPr txBox="1"/>
              <p:nvPr/>
            </p:nvSpPr>
            <p:spPr>
              <a:xfrm>
                <a:off x="4716360" y="3068640"/>
                <a:ext cx="1238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0"/>
              <p:cNvSpPr txBox="1"/>
              <p:nvPr/>
            </p:nvSpPr>
            <p:spPr>
              <a:xfrm>
                <a:off x="1476360" y="836640"/>
                <a:ext cx="2160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0"/>
              <p:cNvSpPr txBox="1"/>
              <p:nvPr/>
            </p:nvSpPr>
            <p:spPr>
              <a:xfrm>
                <a:off x="1835280" y="1989000"/>
                <a:ext cx="21603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30"/>
              <p:cNvSpPr txBox="1"/>
              <p:nvPr/>
            </p:nvSpPr>
            <p:spPr>
              <a:xfrm>
                <a:off x="2050920" y="2997360"/>
                <a:ext cx="2403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3618360" y="112536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rany nejprve zaměníme pro lepší orientac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4716360" y="3141720"/>
                <a:ext cx="11271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Object 7"/>
              <p:cNvSpPr txBox="1"/>
              <p:nvPr/>
            </p:nvSpPr>
            <p:spPr>
              <a:xfrm>
                <a:off x="1187280" y="765000"/>
                <a:ext cx="187200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Rectangle 3"/>
          <p:cNvSpPr/>
          <p:nvPr/>
        </p:nvSpPr>
        <p:spPr>
          <a:xfrm>
            <a:off x="140328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11280" y="83664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692280"/>
            <a:ext cx="788508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08720" y="4437000"/>
                <a:ext cx="346212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</m:d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1908000" y="1268280"/>
            <a:ext cx="216000" cy="21780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800"/>
              <a:gd name="textAreaBottom" fmla="*/ 207360 h 217800"/>
            </a:gdLst>
            <a:ahLst/>
            <a:rect l="textAreaLeft" t="textAreaTop" r="textAreaRight" b="textAreaBottom"/>
            <a:pathLst>
              <a:path w="21600" h="21780">
                <a:moveTo>
                  <a:pt x="3600" y="0"/>
                </a:moveTo>
                <a:arcTo wR="3600" hR="3600" stAng="16200000" swAng="-5400000"/>
                <a:lnTo>
                  <a:pt x="0" y="18180"/>
                </a:lnTo>
                <a:arcTo wR="3600" hR="3600" stAng="10800000" swAng="-5400000"/>
                <a:lnTo>
                  <a:pt x="18000" y="217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1187280" y="1700280"/>
                <a:ext cx="21085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1260360" y="2565360"/>
                <a:ext cx="23972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76720" y="3009960"/>
            <a:ext cx="217440" cy="290520"/>
          </a:xfrm>
          <a:custGeom>
            <a:avLst/>
            <a:gdLst>
              <a:gd name="textAreaLeft" fmla="*/ 10440 w 217440"/>
              <a:gd name="textAreaRight" fmla="*/ 207000 w 217440"/>
              <a:gd name="textAreaTop" fmla="*/ 10440 h 290520"/>
              <a:gd name="textAreaBottom" fmla="*/ 280080 h 290520"/>
            </a:gdLst>
            <a:ahLst/>
            <a:rect l="textAreaLeft" t="textAreaTop" r="textAreaRight" b="textAreaBottom"/>
            <a:pathLst>
              <a:path w="21600" h="28848">
                <a:moveTo>
                  <a:pt x="3600" y="0"/>
                </a:moveTo>
                <a:arcTo wR="3600" hR="3600" stAng="16200000" swAng="-5400000"/>
                <a:lnTo>
                  <a:pt x="0" y="25248"/>
                </a:lnTo>
                <a:arcTo wR="3600" hR="3600" stAng="10800000" swAng="-5400000"/>
                <a:lnTo>
                  <a:pt x="18000" y="28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7"/>
              <p:cNvSpPr txBox="1"/>
              <p:nvPr/>
            </p:nvSpPr>
            <p:spPr>
              <a:xfrm>
                <a:off x="1332000" y="3500280"/>
                <a:ext cx="23968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2700360" y="177156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44720" y="220356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3"/>
              <p:cNvSpPr txBox="1"/>
              <p:nvPr/>
            </p:nvSpPr>
            <p:spPr>
              <a:xfrm>
                <a:off x="3851280" y="3573360"/>
                <a:ext cx="8748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2340000" y="4437000"/>
                <a:ext cx="21081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7"/>
              <p:cNvSpPr txBox="1"/>
              <p:nvPr/>
            </p:nvSpPr>
            <p:spPr>
              <a:xfrm>
                <a:off x="1692360" y="5229360"/>
                <a:ext cx="210816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7"/>
              <p:cNvSpPr txBox="1"/>
              <p:nvPr/>
            </p:nvSpPr>
            <p:spPr>
              <a:xfrm>
                <a:off x="5148360" y="765000"/>
                <a:ext cx="23446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025280" y="5950080"/>
            <a:ext cx="660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hledáme převrácenou hodnotu pravé strany </a:t>
            </a:r>
            <a:r>
              <a:rPr b="0" lang="en-US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je vhodné mít levou stranu také ve tvaru jednoduchého zlomk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7"/>
              <p:cNvSpPr txBox="1"/>
              <p:nvPr/>
            </p:nvSpPr>
            <p:spPr>
              <a:xfrm>
                <a:off x="6443640" y="1557360"/>
                <a:ext cx="22924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5981760" y="2421000"/>
                <a:ext cx="31622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797440" y="3357720"/>
                <a:ext cx="3346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3"/>
              <p:cNvSpPr txBox="1"/>
              <p:nvPr/>
            </p:nvSpPr>
            <p:spPr>
              <a:xfrm>
                <a:off x="3851280" y="3573360"/>
                <a:ext cx="851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87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ŘEŠENÉ  PŘÍKLADY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802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ý dluh umořím za 7 let pravidelnými ročními anuitami 15 000,- Kč při 2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8789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7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5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2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30"/>
              <p:cNvSpPr txBox="1"/>
              <p:nvPr/>
            </p:nvSpPr>
            <p:spPr>
              <a:xfrm>
                <a:off x="1116000" y="5013360"/>
                <a:ext cx="23655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457080" y="357192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40720" y="357336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2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30"/>
              <p:cNvSpPr txBox="1"/>
              <p:nvPr/>
            </p:nvSpPr>
            <p:spPr>
              <a:xfrm>
                <a:off x="3421080" y="5013360"/>
                <a:ext cx="29242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0"/>
              <p:cNvSpPr txBox="1"/>
              <p:nvPr/>
            </p:nvSpPr>
            <p:spPr>
              <a:xfrm>
                <a:off x="6300720" y="5300640"/>
                <a:ext cx="21668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17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802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musí činit každoroční anuity, abychom zaplatili dluh 90 000,- Kč za 10 let při 21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7896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90 000,- Kč</a:t>
            </a:r>
            <a:r>
              <a:rPr b="0" lang="en-US" sz="3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21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32"/>
              <p:cNvSpPr txBox="1"/>
              <p:nvPr/>
            </p:nvSpPr>
            <p:spPr>
              <a:xfrm>
                <a:off x="1042920" y="4581360"/>
                <a:ext cx="25192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1162440" y="5854680"/>
            <a:ext cx="750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Všimněte si, že splátka je vždy větší než část, kterou si „bere“ banka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21 % z 90 000,- Kč, tzn. 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18 9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8360" y="342756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12360" y="342900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21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2"/>
              <p:cNvSpPr txBox="1"/>
              <p:nvPr/>
            </p:nvSpPr>
            <p:spPr>
              <a:xfrm>
                <a:off x="3564000" y="4581360"/>
                <a:ext cx="3308400" cy="11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2"/>
              <p:cNvSpPr txBox="1"/>
              <p:nvPr/>
            </p:nvSpPr>
            <p:spPr>
              <a:xfrm>
                <a:off x="6804000" y="4869000"/>
                <a:ext cx="216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umořím dluh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50 000,- Kč při 15 % p.a. pravidelnými ročními anuitami 9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8789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50 000,- Kč</a:t>
            </a:r>
            <a:r>
              <a:rPr b="0" lang="en-US" sz="19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9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Times New Roman"/>
              </a:rPr>
              <a:t>!!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15 % z 50 000,- Kč, tzn.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7 5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6"/>
              <p:cNvSpPr txBox="1"/>
              <p:nvPr/>
            </p:nvSpPr>
            <p:spPr>
              <a:xfrm>
                <a:off x="1042920" y="5084640"/>
                <a:ext cx="293364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</m:d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3528360" y="285120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12360" y="285264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1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6"/>
              <p:cNvSpPr txBox="1"/>
              <p:nvPr/>
            </p:nvSpPr>
            <p:spPr>
              <a:xfrm>
                <a:off x="3924360" y="5084640"/>
                <a:ext cx="37432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num>
                              <m:den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9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6"/>
              <p:cNvSpPr txBox="1"/>
              <p:nvPr/>
            </p:nvSpPr>
            <p:spPr>
              <a:xfrm>
                <a:off x="7596360" y="5734080"/>
                <a:ext cx="15476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4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umořím dluh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200 000,- Kč při 17 % p.a. pravidelnými ročními anuitami 30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789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200 000,- Kč</a:t>
            </a:r>
            <a:r>
              <a:rPr b="0" lang="en-US" sz="19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7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Times New Roman"/>
              </a:rPr>
              <a:t>!!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17 % z 200 000,- Kč, tzn.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34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5562720"/>
            <a:ext cx="7878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Za daných podmínek dluh nelze splatit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01440" y="292248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85080" y="292428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17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7802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PŘÍKLADY  NA 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14400" y="60948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aký dluh umořím za 20 let pravidelnými ročními anuitami 60 000,- 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) 17 % p.a.,  b) 12 % p.a.,  c) 7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10800"/>
              </a:spcBef>
              <a:buClr>
                <a:srgbClr val="ffff00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musí činit každoroční anuity, abychom při 11 % p.a. zaplatili dluh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80 000,- Kč za a) 5 let, b) 7 let, c) 9 let?</a:t>
            </a:r>
            <a:r>
              <a:rPr b="0" lang="cs-CZ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2666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337 666,- Kč, b) 448 167,- Kč, c) 635 641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5791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48 703,- Kč, b) 38 199,- Kč, c) 32 508,- Kč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Nejjednodušší přípa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terým se budeme zabývat v hodinách matematik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2640" y="2356920"/>
            <a:ext cx="80010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plácení dluhu a z něho plynoucích úroků pravidelnými, stále stejně velkými částkami, po dobu několika úrokovacích období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umořím dluh 500 000,- Kč při  8 % p.a. pravidelnými ročními anuitami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a) 50 000,- Kč, b) 70 000,- Kč, c) 100 000,- Kč?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10800"/>
              </a:spcBef>
              <a:buClr>
                <a:srgbClr val="ffff00"/>
              </a:buClr>
              <a:buSzPct val="8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umořím dluh 100 000,- Kč pravidelnými ročními anuitami 15 000,- Kč při  a) 17 % p.a., b) 12 % p.a., c) 8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242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20 let a 11 měsíců, b) 11 let, c) 6 let a 8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551664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500" spc="-1" strike="noStrike">
                <a:solidFill>
                  <a:srgbClr val="ffff00"/>
                </a:solidFill>
                <a:latin typeface="Times New Roman"/>
              </a:rPr>
              <a:t>a) dluh nelze splatit, b) 14 let a 2 měsíce, c) 9 let a 11 měsíců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5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78–8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Důležité pojmy: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dluh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roční splátka, anuita</a:t>
            </a: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mír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čitel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6518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Dluh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2000" y="852480"/>
            <a:ext cx="7556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44928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inanční hodnota, kterou musíme splatit (umořit) za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úrokovacích obdobíc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187280" y="2060640"/>
            <a:ext cx="7651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ční splátka, anuit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332000" y="2624040"/>
            <a:ext cx="7556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44928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avidelně placená částka, vždy koncem úrokovacího obdob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187280" y="3860640"/>
            <a:ext cx="7651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mír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332000" y="4354560"/>
            <a:ext cx="7556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44928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ýše odměny vyjádřená v procente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187280" y="5157720"/>
            <a:ext cx="7651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čitel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2268360" y="5676840"/>
                <a:ext cx="19447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značení definovaných veličin odpovídá označení v MFCHT:</a:t>
            </a:r>
            <a:br>
              <a:rPr sz="3200"/>
            </a:b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na 29, Vzorce finanční aritmetik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456840"/>
            <a:ext cx="80280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116000" y="12682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jak dlouho umoříme (splatíme) dluh 5 000,- Kč   při úročení 10 % p.a. ročními anuitami (splátkami)      1 150,- Kč placenými koncem roku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116000" y="270828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1187280" y="342900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1979640" y="342900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000,- Kč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1979640" y="400536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0 % p.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1979640" y="450864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- Kč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3706920" y="4005360"/>
            <a:ext cx="226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4500720" y="4005360"/>
            <a:ext cx="226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,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979640" y="508464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262080"/>
          <a:ext cx="8785080" cy="8632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50920" y="1125360"/>
          <a:ext cx="8785080" cy="86364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50920" y="1989000"/>
          <a:ext cx="8785080" cy="86364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50920" y="2852640"/>
          <a:ext cx="8785080" cy="8650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50920" y="3718080"/>
          <a:ext cx="8785080" cy="8632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50920" y="4581360"/>
          <a:ext cx="8785080" cy="86364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50920" y="5445000"/>
          <a:ext cx="8785080" cy="8650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276720" y="126828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3413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.   5 00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134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0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1341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34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6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134136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134136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2000" y="134136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4 3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6237360"/>
            <a:ext cx="817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Za daných podmínek umoříme dluh za necelých 6 let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205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.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 3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2205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220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3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205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71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12000" y="215892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63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20500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220500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30700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.   3 63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30672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3067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64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067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786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3070080"/>
            <a:ext cx="117180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3070080"/>
            <a:ext cx="129528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12000" y="30700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849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933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.  2 849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0920" y="3933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393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8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933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86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12000" y="393372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984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393372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393372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973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.   1 984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0920" y="4797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4797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98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797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52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0560" y="4797360"/>
            <a:ext cx="12049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479736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12000" y="479736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032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661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6.   1 032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092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64000" y="566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03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566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047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566100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00720" y="566100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12000" y="566244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27640" y="127008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213192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299556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3789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472608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558972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134136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4000" y="220500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13192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3067200"/>
            <a:ext cx="2324160" cy="502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99412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4000" y="393372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386064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479736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472428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24000" y="566100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58792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32880" y="1341360"/>
            <a:ext cx="113184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545"/>
              <p:cNvSpPr txBox="1"/>
              <p:nvPr/>
            </p:nvSpPr>
            <p:spPr>
              <a:xfrm>
                <a:off x="5867280" y="198900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545"/>
              <p:cNvSpPr txBox="1"/>
              <p:nvPr/>
            </p:nvSpPr>
            <p:spPr>
              <a:xfrm>
                <a:off x="5867280" y="112536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45"/>
              <p:cNvSpPr txBox="1"/>
              <p:nvPr/>
            </p:nvSpPr>
            <p:spPr>
              <a:xfrm>
                <a:off x="5867280" y="2851200"/>
                <a:ext cx="9921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545"/>
              <p:cNvSpPr txBox="1"/>
              <p:nvPr/>
            </p:nvSpPr>
            <p:spPr>
              <a:xfrm>
                <a:off x="5867280" y="3718080"/>
                <a:ext cx="9921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45"/>
              <p:cNvSpPr txBox="1"/>
              <p:nvPr/>
            </p:nvSpPr>
            <p:spPr>
              <a:xfrm>
                <a:off x="5867280" y="464652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545"/>
              <p:cNvSpPr txBox="1"/>
              <p:nvPr/>
            </p:nvSpPr>
            <p:spPr>
              <a:xfrm>
                <a:off x="5867280" y="544500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r>
                          <m:t xml:space="preserve">1,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550"/>
              <p:cNvSpPr txBox="1"/>
              <p:nvPr/>
            </p:nvSpPr>
            <p:spPr>
              <a:xfrm>
                <a:off x="6804000" y="1054080"/>
                <a:ext cx="80316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50"/>
              <p:cNvSpPr txBox="1"/>
              <p:nvPr/>
            </p:nvSpPr>
            <p:spPr>
              <a:xfrm>
                <a:off x="6804000" y="1916280"/>
                <a:ext cx="9921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50"/>
              <p:cNvSpPr txBox="1"/>
              <p:nvPr/>
            </p:nvSpPr>
            <p:spPr>
              <a:xfrm>
                <a:off x="6804000" y="2781360"/>
                <a:ext cx="103500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50"/>
              <p:cNvSpPr txBox="1"/>
              <p:nvPr/>
            </p:nvSpPr>
            <p:spPr>
              <a:xfrm>
                <a:off x="6804000" y="4508640"/>
                <a:ext cx="8031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550"/>
              <p:cNvSpPr txBox="1"/>
              <p:nvPr/>
            </p:nvSpPr>
            <p:spPr>
              <a:xfrm>
                <a:off x="6804000" y="5373720"/>
                <a:ext cx="7714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53"/>
              <p:cNvSpPr txBox="1"/>
              <p:nvPr/>
            </p:nvSpPr>
            <p:spPr>
              <a:xfrm>
                <a:off x="7164360" y="3933720"/>
                <a:ext cx="2556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7667640" y="260280"/>
            <a:ext cx="1476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luh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(konec roku)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75280" y="304920"/>
            <a:ext cx="2190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kutečná splát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3800" y="304920"/>
            <a:ext cx="75240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úro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(10%)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04920"/>
            <a:ext cx="927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nui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04920"/>
            <a:ext cx="10220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lu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zač. roku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2360" y="304920"/>
            <a:ext cx="5875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0720" y="260280"/>
            <a:ext cx="3311280" cy="60483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53440" y="6278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1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8026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(umořování dluhu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1258920" y="1125360"/>
                <a:ext cx="601020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luh = součet všech skutečných spláte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1268280"/>
            <a:ext cx="5400720" cy="10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16360" y="2349360"/>
            <a:ext cx="0" cy="648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35280" y="2852640"/>
            <a:ext cx="294624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součet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členů GP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0"/>
              <p:cNvSpPr txBox="1"/>
              <p:nvPr/>
            </p:nvSpPr>
            <p:spPr>
              <a:xfrm>
                <a:off x="4664160" y="2709720"/>
                <a:ext cx="25207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3"/>
              <p:cNvSpPr txBox="1"/>
              <p:nvPr/>
            </p:nvSpPr>
            <p:spPr>
              <a:xfrm>
                <a:off x="2792520" y="4821120"/>
                <a:ext cx="37764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2771640" y="4941720"/>
            <a:ext cx="3816360" cy="158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99240" y="414972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= r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65560" y="422100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(každý následující sčítanec – člen GP je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krát větší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0"/>
              <p:cNvSpPr txBox="1"/>
              <p:nvPr/>
            </p:nvSpPr>
            <p:spPr>
              <a:xfrm>
                <a:off x="2340000" y="3284640"/>
                <a:ext cx="7491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7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5:19Z</dcterms:modified>
  <cp:revision>95</cp:revision>
  <dc:subject/>
  <dc:title>Posloupnosti</dc:title>
</cp:coreProperties>
</file>