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6335-861E-4DAE-A3B8-7A4AFDDC65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25CA-4364-41DF-A455-58A08D6092D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708D-4E8B-4C58-9F53-3948FFBF063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B34E-5740-46C7-A5E8-EB0CAA87110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8BBF-B70A-4CF2-9734-F6C479D06CD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2869-3AF0-485B-A7AB-27BF2D0FC86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3062-C26E-41FB-8DDA-423CE3DA4B6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AB93-66EE-4B22-A94A-1D5346CDEB4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2638-8CC7-46AF-98F9-B1D50A1535A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2DD6-BE95-487A-B742-5E8BC4A91A0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B985-D459-4C45-811A-BD0358651B8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3A00-2B5F-4B98-80FE-ECB735208E9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3CD9-DA18-417A-8FEE-6B0161AE397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82B7-B96E-4461-8EAF-2D03B5DF01C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3ACC-A092-4B37-9D7E-CCE149558AB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B203-17F4-4570-8BBC-907ACD8D3B2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953F-41AB-45DB-B3D0-AEB87044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491-FDED-42EC-BA14-C785214D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D10-73F6-4E32-89B2-5EFEAB3E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4FF-AE58-4911-9885-D623A27A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49B-8DD1-4186-830D-902F1703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E6A9-5B3D-4A80-93F2-88F4FF1E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640-0348-45E6-9B64-A3B56E32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405-3560-445C-8BD6-D31AC04E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9FD-B30C-4138-B97D-0610EBDE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BA7-B33A-4B36-A218-4EAC76C1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426-DD41-415D-A1A0-65517BF2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F1D-9034-464C-B917-D13F79C5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F019-DC9F-46B7-BEAF-9D59777804E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116000" y="3429000"/>
            <a:ext cx="76960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konci úrokovacího období se připíše úrok za uplynulé období a v příštím úrokovacím období se počítá úrok nejen z původní jistiny, ale také z připsaných úroků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143000" y="609480"/>
            <a:ext cx="7802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SLOŽENÉ ÚROKOVÁNÍ</a:t>
            </a:r>
            <a:endParaRPr b="0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788000" y="4835520"/>
                <a:ext cx="223200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3"/>
              <p:cNvSpPr txBox="1"/>
              <p:nvPr/>
            </p:nvSpPr>
            <p:spPr>
              <a:xfrm>
                <a:off x="4716360" y="907920"/>
                <a:ext cx="1381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3"/>
              <p:cNvSpPr txBox="1"/>
              <p:nvPr/>
            </p:nvSpPr>
            <p:spPr>
              <a:xfrm>
                <a:off x="4714920" y="2060640"/>
                <a:ext cx="11318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3"/>
              <p:cNvSpPr txBox="1"/>
              <p:nvPr/>
            </p:nvSpPr>
            <p:spPr>
              <a:xfrm>
                <a:off x="4284720" y="2924280"/>
                <a:ext cx="207468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3"/>
              <p:cNvSpPr txBox="1"/>
              <p:nvPr/>
            </p:nvSpPr>
            <p:spPr>
              <a:xfrm>
                <a:off x="4067280" y="3860640"/>
                <a:ext cx="230508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Rectangle 3"/>
          <p:cNvSpPr/>
          <p:nvPr/>
        </p:nvSpPr>
        <p:spPr>
          <a:xfrm>
            <a:off x="1187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258920" y="2492280"/>
                <a:ext cx="18003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3"/>
              <p:cNvSpPr txBox="1"/>
              <p:nvPr/>
            </p:nvSpPr>
            <p:spPr>
              <a:xfrm>
                <a:off x="1619280" y="907920"/>
                <a:ext cx="138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1" name="Rectangle 3"/>
          <p:cNvSpPr/>
          <p:nvPr/>
        </p:nvSpPr>
        <p:spPr>
          <a:xfrm>
            <a:off x="4716360" y="189000"/>
            <a:ext cx="12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1332000" y="1628640"/>
                <a:ext cx="138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340000" y="97956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9080" y="907920"/>
            <a:ext cx="215640" cy="28908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89080"/>
              <a:gd name="textAreaBottom" fmla="*/ 278640 h 289080"/>
            </a:gdLst>
            <a:ahLst/>
            <a:rect l="textAreaLeft" t="textAreaTop" r="textAreaRight" b="textAreaBottom"/>
            <a:pathLst>
              <a:path w="21600" h="28944">
                <a:moveTo>
                  <a:pt x="3600" y="0"/>
                </a:moveTo>
                <a:arcTo wR="3600" hR="3600" stAng="16200000" swAng="-5400000"/>
                <a:lnTo>
                  <a:pt x="0" y="25344"/>
                </a:lnTo>
                <a:arcTo wR="3600" hR="3600" stAng="10800000" swAng="-5400000"/>
                <a:lnTo>
                  <a:pt x="18000" y="289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3"/>
              <p:cNvSpPr txBox="1"/>
              <p:nvPr/>
            </p:nvSpPr>
            <p:spPr>
              <a:xfrm>
                <a:off x="4427640" y="1484280"/>
                <a:ext cx="1380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3"/>
              <p:cNvSpPr txBox="1"/>
              <p:nvPr/>
            </p:nvSpPr>
            <p:spPr>
              <a:xfrm>
                <a:off x="2916360" y="1628640"/>
                <a:ext cx="7347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3"/>
              <p:cNvSpPr txBox="1"/>
              <p:nvPr/>
            </p:nvSpPr>
            <p:spPr>
              <a:xfrm>
                <a:off x="6156360" y="1528920"/>
                <a:ext cx="7351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451920" y="2133720"/>
            <a:ext cx="26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známá v exponentu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vnici logaritmuje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3"/>
              <p:cNvSpPr txBox="1"/>
              <p:nvPr/>
            </p:nvSpPr>
            <p:spPr>
              <a:xfrm>
                <a:off x="6964200" y="3141720"/>
                <a:ext cx="2179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3"/>
              <p:cNvSpPr txBox="1"/>
              <p:nvPr/>
            </p:nvSpPr>
            <p:spPr>
              <a:xfrm>
                <a:off x="6804000" y="40766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log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1187280" y="189000"/>
            <a:ext cx="259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  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3"/>
              <p:cNvSpPr txBox="1"/>
              <p:nvPr/>
            </p:nvSpPr>
            <p:spPr>
              <a:xfrm>
                <a:off x="2916360" y="1700280"/>
                <a:ext cx="807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1403280" y="981000"/>
                <a:ext cx="15098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3"/>
              <p:cNvSpPr txBox="1"/>
              <p:nvPr/>
            </p:nvSpPr>
            <p:spPr>
              <a:xfrm>
                <a:off x="1403280" y="2278080"/>
                <a:ext cx="12366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476360" y="3500280"/>
                <a:ext cx="165564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2482920" y="1125360"/>
            <a:ext cx="287280" cy="360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720"/>
              <a:gd name="textAreaBottom" fmla="*/ 346680 h 360720"/>
            </a:gdLst>
            <a:ahLst/>
            <a:rect l="textAreaLeft" t="textAreaTop" r="textAreaRight" b="textAreaBottom"/>
            <a:pathLst>
              <a:path w="21600" h="27115">
                <a:moveTo>
                  <a:pt x="3600" y="0"/>
                </a:moveTo>
                <a:arcTo wR="3600" hR="3600" stAng="16200000" swAng="-5400000"/>
                <a:lnTo>
                  <a:pt x="0" y="23515"/>
                </a:lnTo>
                <a:arcTo wR="3600" hR="3600" stAng="10800000" swAng="-5400000"/>
                <a:lnTo>
                  <a:pt x="18000" y="2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1042920" y="1628640"/>
                <a:ext cx="15098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2987640" y="2421000"/>
                <a:ext cx="7761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5724360" y="907920"/>
                <a:ext cx="19893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788000" y="2995560"/>
                <a:ext cx="2206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±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5364000" y="3860640"/>
                <a:ext cx="23767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219640" y="4653000"/>
                <a:ext cx="32497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020000" y="1052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4859280" y="1844640"/>
                <a:ext cx="16272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3"/>
              <p:cNvSpPr txBox="1"/>
              <p:nvPr/>
            </p:nvSpPr>
            <p:spPr>
              <a:xfrm>
                <a:off x="6877080" y="2060640"/>
                <a:ext cx="9381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802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a jakou částku vzroste vklad 30 000,- Kč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5 let při 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3"/>
              <p:cNvSpPr txBox="1"/>
              <p:nvPr/>
            </p:nvSpPr>
            <p:spPr>
              <a:xfrm>
                <a:off x="1116000" y="5229360"/>
                <a:ext cx="1808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3312720" y="3573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97440" y="3573360"/>
            <a:ext cx="24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3"/>
              <p:cNvSpPr txBox="1"/>
              <p:nvPr/>
            </p:nvSpPr>
            <p:spPr>
              <a:xfrm>
                <a:off x="2916360" y="5229360"/>
                <a:ext cx="26604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3"/>
              <p:cNvSpPr txBox="1"/>
              <p:nvPr/>
            </p:nvSpPr>
            <p:spPr>
              <a:xfrm>
                <a:off x="5580000" y="5300640"/>
                <a:ext cx="2482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22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3635280" y="907920"/>
            <a:ext cx="1224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8026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Stroj ztrácí opotřebením každoročně 5 % své ceny. Jaká bude jeho cena za 10 let, když původně stál 11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1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3"/>
              <p:cNvSpPr txBox="1"/>
              <p:nvPr/>
            </p:nvSpPr>
            <p:spPr>
              <a:xfrm>
                <a:off x="1116000" y="5373720"/>
                <a:ext cx="1809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3457080" y="2997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1800" y="299736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95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3"/>
              <p:cNvSpPr txBox="1"/>
              <p:nvPr/>
            </p:nvSpPr>
            <p:spPr>
              <a:xfrm>
                <a:off x="2843280" y="5445000"/>
                <a:ext cx="2732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3"/>
              <p:cNvSpPr txBox="1"/>
              <p:nvPr/>
            </p:nvSpPr>
            <p:spPr>
              <a:xfrm>
                <a:off x="5580000" y="5445000"/>
                <a:ext cx="24843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86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1908000" y="765000"/>
            <a:ext cx="93528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80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ou částku musíme dnes uložit, aby nám vzrostla za 10 let na 130 000,- Kč při 1,7 % p.a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,7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3"/>
              <p:cNvSpPr txBox="1"/>
              <p:nvPr/>
            </p:nvSpPr>
            <p:spPr>
              <a:xfrm>
                <a:off x="1042920" y="5157720"/>
                <a:ext cx="15256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3"/>
              <p:cNvSpPr txBox="1"/>
              <p:nvPr/>
            </p:nvSpPr>
            <p:spPr>
              <a:xfrm>
                <a:off x="4427640" y="5518080"/>
                <a:ext cx="26971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 833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3"/>
              <p:cNvSpPr txBox="1"/>
              <p:nvPr/>
            </p:nvSpPr>
            <p:spPr>
              <a:xfrm>
                <a:off x="2556000" y="5230800"/>
                <a:ext cx="18446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7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3673080" y="3789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57800" y="3789360"/>
            <a:ext cx="26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17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16000" y="1413000"/>
            <a:ext cx="12952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by musel dnes stát přístroj, jehož hodnota by po 15 letech byla 100,-Kč? Odpisy činí 14 % p.a.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4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3"/>
              <p:cNvSpPr txBox="1"/>
              <p:nvPr/>
            </p:nvSpPr>
            <p:spPr>
              <a:xfrm>
                <a:off x="1116000" y="5084640"/>
                <a:ext cx="152568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3528360" y="3789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3440" y="378936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86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23"/>
              <p:cNvSpPr txBox="1"/>
              <p:nvPr/>
            </p:nvSpPr>
            <p:spPr>
              <a:xfrm>
                <a:off x="2627280" y="5157720"/>
                <a:ext cx="15969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6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3"/>
              <p:cNvSpPr txBox="1"/>
              <p:nvPr/>
            </p:nvSpPr>
            <p:spPr>
              <a:xfrm>
                <a:off x="4211640" y="5373720"/>
                <a:ext cx="19861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5292720" y="1341360"/>
            <a:ext cx="1224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5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se jistina ztrojnásobí při 2,4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,4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3"/>
              <p:cNvSpPr txBox="1"/>
              <p:nvPr/>
            </p:nvSpPr>
            <p:spPr>
              <a:xfrm>
                <a:off x="3203640" y="4365720"/>
                <a:ext cx="213840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3"/>
              <p:cNvSpPr txBox="1"/>
              <p:nvPr/>
            </p:nvSpPr>
            <p:spPr>
              <a:xfrm>
                <a:off x="1042920" y="4365720"/>
                <a:ext cx="227664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3"/>
              <p:cNvSpPr txBox="1"/>
              <p:nvPr/>
            </p:nvSpPr>
            <p:spPr>
              <a:xfrm>
                <a:off x="5292720" y="5084640"/>
                <a:ext cx="1967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3"/>
              <p:cNvSpPr txBox="1"/>
              <p:nvPr/>
            </p:nvSpPr>
            <p:spPr>
              <a:xfrm>
                <a:off x="7246800" y="5373720"/>
                <a:ext cx="18972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6708960" y="6237360"/>
            <a:ext cx="24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46 let a 4 měsíce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57080" y="31417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42160" y="3141720"/>
            <a:ext cx="26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4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43280" y="242100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67560" y="213372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1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98920" y="2349360"/>
            <a:ext cx="152280" cy="720720"/>
          </a:xfrm>
          <a:custGeom>
            <a:avLst/>
            <a:gdLst>
              <a:gd name="textAreaLeft" fmla="*/ 0 w 152280"/>
              <a:gd name="textAreaRight" fmla="*/ 55080 w 152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67560" y="263844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3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836640"/>
            <a:ext cx="1728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6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klesne hodnota stroje o čtvrtinu při každoročních odpisech 20 % své původní ceny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784520"/>
            <a:ext cx="249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0,75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0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3"/>
              <p:cNvSpPr txBox="1"/>
              <p:nvPr/>
            </p:nvSpPr>
            <p:spPr>
              <a:xfrm>
                <a:off x="971640" y="4540320"/>
                <a:ext cx="22762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673080" y="33163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7800" y="331632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80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2396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00640" y="230832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4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2452680"/>
            <a:ext cx="152640" cy="720720"/>
          </a:xfrm>
          <a:custGeom>
            <a:avLst/>
            <a:gdLst>
              <a:gd name="textAreaLeft" fmla="*/ 0 w 152640"/>
              <a:gd name="textAreaRight" fmla="*/ 55080 w 152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00640" y="281304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3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3"/>
              <p:cNvSpPr txBox="1"/>
              <p:nvPr/>
            </p:nvSpPr>
            <p:spPr>
              <a:xfrm>
                <a:off x="3132000" y="4540320"/>
                <a:ext cx="26560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5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3"/>
              <p:cNvSpPr txBox="1"/>
              <p:nvPr/>
            </p:nvSpPr>
            <p:spPr>
              <a:xfrm>
                <a:off x="5724360" y="5261040"/>
                <a:ext cx="18288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3"/>
              <p:cNvSpPr txBox="1"/>
              <p:nvPr/>
            </p:nvSpPr>
            <p:spPr>
              <a:xfrm>
                <a:off x="7523280" y="5477040"/>
                <a:ext cx="1620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3276720" y="692280"/>
            <a:ext cx="10792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456840"/>
            <a:ext cx="77994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1116000" y="1125360"/>
            <a:ext cx="802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jakou částku vzroste za 4 roky hodnota jednorázového vkladu 40 000,- Kč při 10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16000" y="242100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1116000" y="2997360"/>
            <a:ext cx="129528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2050920" y="2997360"/>
            <a:ext cx="2376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7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é jsou každoroční odpisy stroje, když jeho cena za 30 let klesla na pětinu své původní ceny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0,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3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3"/>
              <p:cNvSpPr txBox="1"/>
              <p:nvPr/>
            </p:nvSpPr>
            <p:spPr>
              <a:xfrm>
                <a:off x="1092240" y="4610160"/>
                <a:ext cx="13636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3"/>
              <p:cNvSpPr txBox="1"/>
              <p:nvPr/>
            </p:nvSpPr>
            <p:spPr>
              <a:xfrm>
                <a:off x="1019160" y="5978520"/>
                <a:ext cx="2865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2496600" y="381780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2040" y="3817800"/>
            <a:ext cx="200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?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63880" y="259380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87800" y="2378160"/>
            <a:ext cx="20340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10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2522520"/>
            <a:ext cx="152280" cy="720720"/>
          </a:xfrm>
          <a:custGeom>
            <a:avLst/>
            <a:gdLst>
              <a:gd name="textAreaLeft" fmla="*/ 0 w 152280"/>
              <a:gd name="textAreaRight" fmla="*/ 55080 w 152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88160" y="288288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5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3"/>
              <p:cNvSpPr txBox="1"/>
              <p:nvPr/>
            </p:nvSpPr>
            <p:spPr>
              <a:xfrm>
                <a:off x="2460600" y="4610160"/>
                <a:ext cx="1576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r>
                              <m:t xml:space="preserve">0,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3"/>
              <p:cNvSpPr txBox="1"/>
              <p:nvPr/>
            </p:nvSpPr>
            <p:spPr>
              <a:xfrm>
                <a:off x="3971880" y="4897440"/>
                <a:ext cx="12128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g>
                      <m:e>
                        <m:r>
                          <m:t xml:space="preserve">0,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3"/>
              <p:cNvSpPr txBox="1"/>
              <p:nvPr/>
            </p:nvSpPr>
            <p:spPr>
              <a:xfrm>
                <a:off x="5195880" y="4970520"/>
                <a:ext cx="1393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7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3"/>
              <p:cNvSpPr txBox="1"/>
              <p:nvPr/>
            </p:nvSpPr>
            <p:spPr>
              <a:xfrm>
                <a:off x="3900600" y="5978520"/>
                <a:ext cx="2414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3"/>
              <p:cNvSpPr txBox="1"/>
              <p:nvPr/>
            </p:nvSpPr>
            <p:spPr>
              <a:xfrm>
                <a:off x="6276960" y="5905440"/>
                <a:ext cx="2092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% 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2484360" y="1197000"/>
            <a:ext cx="1008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8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ou úrokovou míru poskytuje banka, když vklad 25 000,- Kč vzrostl za 8 let na hodnotu 98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5 000,- Kč</a:t>
            </a:r>
            <a:r>
              <a:rPr b="0" lang="cs-CZ" sz="19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98 000,- Kč</a:t>
            </a:r>
            <a:r>
              <a:rPr b="0" lang="cs-CZ" sz="19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8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3"/>
              <p:cNvSpPr txBox="1"/>
              <p:nvPr/>
            </p:nvSpPr>
            <p:spPr>
              <a:xfrm>
                <a:off x="1042920" y="4581360"/>
                <a:ext cx="13636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3"/>
              <p:cNvSpPr txBox="1"/>
              <p:nvPr/>
            </p:nvSpPr>
            <p:spPr>
              <a:xfrm>
                <a:off x="971640" y="5948280"/>
                <a:ext cx="28652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2145600" y="37465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31400" y="3746520"/>
            <a:ext cx="193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?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23"/>
              <p:cNvSpPr txBox="1"/>
              <p:nvPr/>
            </p:nvSpPr>
            <p:spPr>
              <a:xfrm>
                <a:off x="2411280" y="4581360"/>
                <a:ext cx="169704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8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3"/>
              <p:cNvSpPr txBox="1"/>
              <p:nvPr/>
            </p:nvSpPr>
            <p:spPr>
              <a:xfrm>
                <a:off x="4140360" y="4941720"/>
                <a:ext cx="1303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3851280" y="6021360"/>
                <a:ext cx="2351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3"/>
              <p:cNvSpPr txBox="1"/>
              <p:nvPr/>
            </p:nvSpPr>
            <p:spPr>
              <a:xfrm>
                <a:off x="6156360" y="5950080"/>
                <a:ext cx="22543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% 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2843280" y="1197000"/>
            <a:ext cx="1152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9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jakou částku vzroste vklad 25 000,-Kč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a 8 let při 2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0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troj ztrácí opotřebením každoročně 15 % své ceny. Jaká bude jeho cena za 5 let, když původně stál 150 000,- Kč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1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jakou částku by vzrostlo 1 000,- Kč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a 50 let při 4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1523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0 460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 033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4038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6 556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2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ou částku musíme dnes uložit, aby nám vzrostla za 10 let na 150 000,-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1,2 % p.a., b) 2,3 % p.a., c) 3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3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50 000,-Kč na 200 000,-Kč při a) 1,0 % p.a., b) 2,1 % p.a., c) 3,2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4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se jistina zdvojnásobí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ři 3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213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133 133,- Kč, b) 119 491,- Kč , c) 106 338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0 let a 2 měsí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4495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139 let a 4 měsíce, b) 66 let a 8 měsíců, c) 44 le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5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klesne hodnota stroje na polovinu při každoročních odpisech 10 %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vé ceny?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6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o třetinu své původní hodnoty při 3,0 % p.a.?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7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klesne hodnota stroje na třetinu při každoročních odpisech 12 %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vé původní ceny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1752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 let a 7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8 let a 7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3962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 let a 9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60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8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o 35 % své původní hodnoty při 2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16040" indent="0">
              <a:lnSpc>
                <a:spcPct val="12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é jsou každoroční odpisy stroje, když jeho cena za 3 roky klesla o čtvrtinu své původní ceny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16040" indent="0">
              <a:lnSpc>
                <a:spcPct val="12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0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ou úrokovou míru by musel poskytovat bankovní ústav, když by se hodnota našeho vkladu za 6 let měla ztrojnásobit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2 let 2 měsí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0,09 % p.a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,14 % p.a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41–6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4360" y="549360"/>
          <a:ext cx="8064360" cy="4167000"/>
        </p:xfrm>
        <a:graphic>
          <a:graphicData uri="http://schemas.openxmlformats.org/drawingml/2006/table">
            <a:tbl>
              <a:tblPr/>
              <a:tblGrid>
                <a:gridCol w="1079280"/>
                <a:gridCol w="849240"/>
                <a:gridCol w="663840"/>
                <a:gridCol w="815760"/>
                <a:gridCol w="538200"/>
                <a:gridCol w="733320"/>
                <a:gridCol w="863640"/>
                <a:gridCol w="419400"/>
                <a:gridCol w="574560"/>
                <a:gridCol w="720720"/>
                <a:gridCol w="806400"/>
              </a:tblGrid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556000" y="3500280"/>
            <a:ext cx="7776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219560"/>
            <a:ext cx="110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4221000"/>
            <a:ext cx="914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4221000"/>
            <a:ext cx="7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500280"/>
            <a:ext cx="7761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4221000"/>
            <a:ext cx="9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3500280"/>
            <a:ext cx="5810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4219560"/>
            <a:ext cx="538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421956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85080" y="4219560"/>
            <a:ext cx="934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4360" y="3500280"/>
            <a:ext cx="7779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3500280"/>
            <a:ext cx="621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3500280"/>
            <a:ext cx="5461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27640" y="4221000"/>
            <a:ext cx="4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933720"/>
            <a:ext cx="708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79280" y="5013360"/>
                <a:ext cx="84250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6" name="Rectangle 22"/>
          <p:cNvSpPr/>
          <p:nvPr/>
        </p:nvSpPr>
        <p:spPr>
          <a:xfrm>
            <a:off x="179280" y="57340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vzroste za 4 roky uložená částka na hodnotu 58 564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932280"/>
            <a:ext cx="8064360" cy="792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7440" y="23493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vkla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1700280"/>
            <a:ext cx="397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700280"/>
            <a:ext cx="39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1700280"/>
            <a:ext cx="3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1700280"/>
            <a:ext cx="397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4219560"/>
            <a:ext cx="93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6364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2000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4221000"/>
            <a:ext cx="692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8800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42195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221000"/>
            <a:ext cx="692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5493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úrok (10 %) / Kč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4221000"/>
            <a:ext cx="576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4221000"/>
            <a:ext cx="576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4005360"/>
            <a:ext cx="6494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42210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složené úrokov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1116000" y="1341360"/>
                <a:ext cx="14652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2556000" y="1125360"/>
                <a:ext cx="1439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9"/>
              <p:cNvSpPr txBox="1"/>
              <p:nvPr/>
            </p:nvSpPr>
            <p:spPr>
              <a:xfrm>
                <a:off x="3995640" y="1125360"/>
                <a:ext cx="17636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1114560" y="2773440"/>
                <a:ext cx="15602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2700360" y="2205000"/>
                <a:ext cx="399744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211640" y="1125360"/>
            <a:ext cx="15112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2198520"/>
            <a:ext cx="2158920" cy="129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2700360" y="3490920"/>
                <a:ext cx="2970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5651640" y="3422520"/>
                <a:ext cx="194472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1116000" y="5157720"/>
                <a:ext cx="15638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142" name=""/>
          <p:cNvCxnSpPr>
            <a:stCxn id="137" idx="3"/>
            <a:endCxn id="138" idx="3"/>
          </p:cNvCxnSpPr>
          <p:nvPr/>
        </p:nvCxnSpPr>
        <p:spPr>
          <a:xfrm>
            <a:off x="5736960" y="1522440"/>
            <a:ext cx="937080" cy="1324800"/>
          </a:xfrm>
          <a:prstGeom prst="curvedConnector5">
            <a:avLst>
              <a:gd name="adj1" fmla="val 122867"/>
              <a:gd name="adj2" fmla="val 49986"/>
              <a:gd name="adj3" fmla="val 122867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050920" y="2773440"/>
            <a:ext cx="649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2771640" y="4437000"/>
                <a:ext cx="43293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flipV="1">
            <a:off x="2627280" y="1844640"/>
            <a:ext cx="1584360" cy="936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2771640" y="5734080"/>
                <a:ext cx="31496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5867280" y="5734080"/>
                <a:ext cx="19195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8" name="Rectangle 3"/>
          <p:cNvSpPr/>
          <p:nvPr/>
        </p:nvSpPr>
        <p:spPr>
          <a:xfrm>
            <a:off x="1042920" y="189000"/>
            <a:ext cx="78454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Úrok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a stejné úrokovací doby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se mě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a vypočítává se nejen z původní jistiny, ale také z předešle připsaných úroků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1125360"/>
            <a:ext cx="29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úročení 1. vkladu je stejné jako u jednoduchého úrokov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630520"/>
            <a:ext cx="151308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2198520"/>
            <a:ext cx="151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08000" y="21985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vytknět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9"/>
              <p:cNvSpPr txBox="1"/>
              <p:nvPr/>
            </p:nvSpPr>
            <p:spPr>
              <a:xfrm>
                <a:off x="7956720" y="6237360"/>
                <a:ext cx="3585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2195640" y="3357720"/>
                <a:ext cx="347508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2268360" y="189000"/>
                <a:ext cx="23212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7"/>
              <p:cNvSpPr txBox="1"/>
              <p:nvPr/>
            </p:nvSpPr>
            <p:spPr>
              <a:xfrm>
                <a:off x="2195640" y="1052640"/>
                <a:ext cx="2652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8"/>
              <p:cNvSpPr txBox="1"/>
              <p:nvPr/>
            </p:nvSpPr>
            <p:spPr>
              <a:xfrm>
                <a:off x="2195640" y="1989000"/>
                <a:ext cx="2700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1"/>
              <p:cNvSpPr txBox="1"/>
              <p:nvPr/>
            </p:nvSpPr>
            <p:spPr>
              <a:xfrm>
                <a:off x="2411280" y="3068640"/>
                <a:ext cx="184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8"/>
          <p:cNvSpPr/>
          <p:nvPr/>
        </p:nvSpPr>
        <p:spPr>
          <a:xfrm>
            <a:off x="1187280" y="5589720"/>
            <a:ext cx="7620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i složeném úrokování roste jistina exponenciálně (rychle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633600" y="2154600"/>
            <a:ext cx="4175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ednotlivé jistiny tvoří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3789360"/>
            <a:ext cx="313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kvocient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339840"/>
            <a:ext cx="603000" cy="4168800"/>
          </a:xfrm>
          <a:custGeom>
            <a:avLst/>
            <a:gdLst>
              <a:gd name="textAreaLeft" fmla="*/ 29160 w 603000"/>
              <a:gd name="textAreaRight" fmla="*/ 573840 w 603000"/>
              <a:gd name="textAreaTop" fmla="*/ 29160 h 4168800"/>
              <a:gd name="textAreaBottom" fmla="*/ 4139640 h 4168800"/>
            </a:gdLst>
            <a:ahLst/>
            <a:rect l="textAreaLeft" t="textAreaTop" r="textAreaRight" b="textAreaBottom"/>
            <a:pathLst>
              <a:path w="21600" h="149254">
                <a:moveTo>
                  <a:pt x="3600" y="0"/>
                </a:moveTo>
                <a:arcTo wR="3600" hR="3600" stAng="16200000" swAng="-5400000"/>
                <a:lnTo>
                  <a:pt x="0" y="145654"/>
                </a:lnTo>
                <a:arcTo wR="3600" hR="3600" stAng="10800000" swAng="-5400000"/>
                <a:lnTo>
                  <a:pt x="18000" y="1492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63640" y="256536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348000" y="3068640"/>
            <a:ext cx="1584360" cy="792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3862440"/>
            <a:ext cx="432000" cy="1484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484280"/>
              <a:gd name="textAreaBottom" fmla="*/ 1463400 h 1484280"/>
            </a:gdLst>
            <a:ahLst/>
            <a:rect l="textAreaLeft" t="textAreaTop" r="textAreaRight" b="textAreaBottom"/>
            <a:pathLst>
              <a:path w="21600" h="74170">
                <a:moveTo>
                  <a:pt x="3600" y="0"/>
                </a:moveTo>
                <a:arcTo wR="3600" hR="3600" stAng="16200000" swAng="-5400000"/>
                <a:lnTo>
                  <a:pt x="0" y="70570"/>
                </a:lnTo>
                <a:arcTo wR="3600" hR="3600" stAng="10800000" swAng="-5400000"/>
                <a:lnTo>
                  <a:pt x="18000" y="741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3645000"/>
            <a:ext cx="1368360" cy="907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4076640"/>
            <a:ext cx="674640" cy="1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1415880" y="4665600"/>
                <a:ext cx="30736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708360" y="455436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2637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očáteční jistina je prvním členem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mortizace majetku (odpis)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2880" y="1700280"/>
            <a:ext cx="7970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yjadřuj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1073160" indent="-35712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potřebení příslušné položky dlouhodobého majetku v důsledku používání (fyzický odpis)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073160" indent="-35712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používání“ – zastarávání (morální odpis) tohoto majetk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 určí obdobně jako nárůst hodnoty – ale naopak z původní ceny odečítáme hodnotu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280" y="980640"/>
            <a:ext cx="716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kvocient GP pro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nárůst hodnot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úročení vklad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řipisujeme úroky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ú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okles hodnot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mortizace majetk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pisujeme odpisy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5867280" y="1579680"/>
                <a:ext cx="235908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3"/>
              <p:cNvSpPr txBox="1"/>
              <p:nvPr/>
            </p:nvSpPr>
            <p:spPr>
              <a:xfrm>
                <a:off x="5940360" y="3019320"/>
                <a:ext cx="232272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187280" y="46530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elikost jistiny za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úrokovacích období pro nárůst i pokles hodnoty tak můžeme zapsat zjednodušeně pomocí hodnoty úročitel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1844640"/>
            <a:ext cx="9367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3213000"/>
            <a:ext cx="936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5940360" y="5661000"/>
                <a:ext cx="25923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Ze základního vzorc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který vyjadřuje velikost jistiny po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letech,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odvodím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čáteční jistina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čet let, po které se jistina úročí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roková míra, kterou se jistina úročí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7:25Z</dcterms:modified>
  <cp:revision>97</cp:revision>
  <dc:subject/>
  <dc:title>ÚROKOVÁNÍ</dc:title>
</cp:coreProperties>
</file>