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FE76-4909-44A6-9799-B5DD4421D9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4766-F39C-4232-89D1-D86DEBA826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6B0-2598-4A11-A7B5-9B7DF95998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A625-CDB8-4332-960C-8C4DDD0D56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DE96-9303-4F71-ABA3-BCB665DBE6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FCD5-B587-4C35-9042-790AEBA344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6D3A-B397-43CB-8A61-1E3EA266B7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FEC-683B-4E0B-B879-79E8AA1DEA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021-418C-4A5D-B6C8-BAC6F13518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40F7-03D8-44BB-9560-E39B716E9D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A88D-9A25-4DBD-9510-4144479FF3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9F05-BCD3-4AD5-BAD5-FA5CAB25BF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9D5-48F7-4F69-AEA5-AB6776545B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3693-03B0-4881-B647-BDD60C6709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E0E6-291A-4F34-BB7B-E671068196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8A57-D91F-4922-88C0-CEE4C85D25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066-3565-4CF9-93E3-93C6927927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A14-E3CC-4D05-8B59-D4149BAE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526-81C5-4A2D-8FA6-4180241D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99F-013E-4A95-85F0-AF843345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DBC-152B-4A01-A33C-0F75163D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2A8-82CF-48CE-85DA-D9ECE8E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029-0866-416B-801C-E0690FDB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ED5-92EC-4173-A033-981EE0E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75D-1D4B-4424-BE3F-2859612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D3F-DB68-4AE3-8B44-8FB0212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97E-A8E8-4FE1-B5EC-E4519C2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928-636F-4F07-B143-64544F68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6DE-7DA8-46AB-AD10-0450B4A0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EC39-2CFA-424B-B6B6-FA240C34B64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ÚROKOV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jednoduch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5435640" y="620640"/>
                <a:ext cx="936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851280" y="816120"/>
                <a:ext cx="1631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z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1773360"/>
                <a:ext cx="1584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627280" y="1557360"/>
                <a:ext cx="1575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7020000" y="1557360"/>
                <a:ext cx="1927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42920" y="2781360"/>
                <a:ext cx="154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2590920" y="2565360"/>
                <a:ext cx="247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74920" y="1628640"/>
            <a:ext cx="936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1800" y="2643120"/>
            <a:ext cx="977760" cy="785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4560" y="1630440"/>
            <a:ext cx="129708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2638440"/>
            <a:ext cx="12175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292720" y="256536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7020000" y="2570040"/>
                <a:ext cx="1927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42920" y="386064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2627280" y="3645000"/>
                <a:ext cx="2664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27640" y="371628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371628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5292720" y="3645000"/>
                <a:ext cx="176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7018200" y="364500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580000" y="2637000"/>
            <a:ext cx="14414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042920" y="494172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627280" y="4726080"/>
                <a:ext cx="273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427640" y="479736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79736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5280120" y="472608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018200" y="472608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580000" y="3716280"/>
            <a:ext cx="14400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782800"/>
            <a:ext cx="358560" cy="5032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309">
                <a:moveTo>
                  <a:pt x="3600" y="0"/>
                </a:moveTo>
                <a:arcTo wR="3600" hR="3600" stAng="16200000" swAng="-5400000"/>
                <a:lnTo>
                  <a:pt x="0" y="26709"/>
                </a:lnTo>
                <a:arcTo wR="3600" hR="3600" stAng="10800000" swAng="-5400000"/>
                <a:lnTo>
                  <a:pt x="18000" y="30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860640"/>
            <a:ext cx="358560" cy="5050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5080"/>
              <a:gd name="textAreaBottom" fmla="*/ 487800 h 505080"/>
            </a:gdLst>
            <a:ahLst/>
            <a:rect l="textAreaLeft" t="textAreaTop" r="textAreaRight" b="textAreaBottom"/>
            <a:pathLst>
              <a:path w="21600" h="30418">
                <a:moveTo>
                  <a:pt x="3600" y="0"/>
                </a:moveTo>
                <a:arcTo wR="3600" hR="3600" stAng="16200000" swAng="-5400000"/>
                <a:lnTo>
                  <a:pt x="0" y="26818"/>
                </a:lnTo>
                <a:arcTo wR="3600" hR="3600" stAng="10800000" swAng="-5400000"/>
                <a:lnTo>
                  <a:pt x="18000" y="3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9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ne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stále z téže původní jistin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1773360"/>
            <a:ext cx="50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78280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94172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628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7017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989000"/>
            <a:ext cx="10098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6620040" y="5734080"/>
                <a:ext cx="233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7093080" y="5373720"/>
                <a:ext cx="163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643280" y="3284640"/>
                <a:ext cx="26895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935000" y="3214800"/>
                <a:ext cx="2765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979640" y="181080"/>
                <a:ext cx="2320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908000" y="1117440"/>
                <a:ext cx="2391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1908000" y="2054160"/>
                <a:ext cx="2460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2340000" y="2852640"/>
                <a:ext cx="18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rot="16200000">
            <a:off x="-849960" y="208224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989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429000"/>
            <a:ext cx="176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úrok je diferencí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3360"/>
            <a:ext cx="459000" cy="409752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4097520"/>
              <a:gd name="textAreaBottom" fmla="*/ 4075200 h 4097520"/>
            </a:gdLst>
            <a:ahLst/>
            <a:rect l="textAreaLeft" t="textAreaTop" r="textAreaRight" b="textAreaBottom"/>
            <a:pathLst>
              <a:path w="21600" h="192690">
                <a:moveTo>
                  <a:pt x="3600" y="0"/>
                </a:moveTo>
                <a:arcTo wR="3600" hR="3600" stAng="16200000" swAng="-5400000"/>
                <a:lnTo>
                  <a:pt x="0" y="189090"/>
                </a:lnTo>
                <a:arcTo wR="3600" hR="3600" stAng="10800000" swAng="-5400000"/>
                <a:lnTo>
                  <a:pt x="18000" y="192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76000" y="2349360"/>
            <a:ext cx="431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21440" y="2781000"/>
            <a:ext cx="1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3429000"/>
            <a:ext cx="432000" cy="17287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86382">
                <a:moveTo>
                  <a:pt x="3600" y="0"/>
                </a:moveTo>
                <a:arcTo wR="3600" hR="3600" stAng="16200000" swAng="-5400000"/>
                <a:lnTo>
                  <a:pt x="0" y="82782"/>
                </a:lnTo>
                <a:arcTo wR="3600" hR="3600" stAng="10800000" swAng="-5400000"/>
                <a:lnTo>
                  <a:pt x="18000" y="86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284640"/>
            <a:ext cx="719280" cy="108108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81080"/>
              <a:gd name="textAreaBottom" fmla="*/ 1046160 h 1081080"/>
            </a:gdLst>
            <a:ahLst/>
            <a:rect l="textAreaLeft" t="textAreaTop" r="textAreaRight" b="textAreaBottom"/>
            <a:pathLst>
              <a:path w="21600" h="32459">
                <a:moveTo>
                  <a:pt x="3600" y="0"/>
                </a:moveTo>
                <a:arcTo wR="3600" hR="3600" stAng="16200000" swAng="-5400000"/>
                <a:lnTo>
                  <a:pt x="0" y="28859"/>
                </a:lnTo>
                <a:arcTo wR="3600" hR="3600" stAng="10800000" swAng="-5400000"/>
                <a:lnTo>
                  <a:pt x="18000" y="32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933720"/>
            <a:ext cx="43164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5229360"/>
            <a:ext cx="8028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jednoduchém úrokování roste hodnota jistiny lineárně (pozvoln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íklady jsou velmi jednoduché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276720" y="4508640"/>
                <a:ext cx="4051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48360" y="4365720"/>
            <a:ext cx="360360" cy="647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647640"/>
              <a:gd name="textAreaBottom" fmla="*/ 630360 h 647640"/>
            </a:gdLst>
            <a:ahLst/>
            <a:rect l="textAreaLeft" t="textAreaTop" r="textAreaRight" b="textAreaBottom"/>
            <a:pathLst>
              <a:path w="21600" h="38802">
                <a:moveTo>
                  <a:pt x="3600" y="0"/>
                </a:moveTo>
                <a:arcTo wR="3600" hR="3600" stAng="16200000" swAng="-5400000"/>
                <a:lnTo>
                  <a:pt x="0" y="35202"/>
                </a:lnTo>
                <a:arcTo wR="3600" hR="3600" stAng="10800000" swAng="-5400000"/>
                <a:lnTo>
                  <a:pt x="18000" y="38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je tržní hodnota směnky s nominální hodnotou 120 000,- Kč po 5 letech při úročení 1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2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1116000" y="5084640"/>
                <a:ext cx="25750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3660840" y="5087880"/>
                <a:ext cx="30240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6640560" y="5303880"/>
                <a:ext cx="2278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byla nominální hodnota směnky, jejíž tržní hodnota je po 10 letech 51 000,- Kč při 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1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5292720" y="234936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4788000" y="3357720"/>
                <a:ext cx="3027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5292720" y="5145120"/>
                <a:ext cx="2289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788000" y="443700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1,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kolik let vzroste hodnota směnky z 10 000,- Kč na 100 000,- Kč při 1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2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478944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4140360" y="3932280"/>
                <a:ext cx="24271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5005440" y="6165720"/>
                <a:ext cx="1334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4140360" y="3068640"/>
                <a:ext cx="37065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500720" y="472428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4716360" y="566100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588000" y="4941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7862760" y="3357720"/>
                <a:ext cx="1254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6534000" y="5661000"/>
                <a:ext cx="708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 je úročena směnka, jejíž hodnota za 4 roky vzrostla 40 000,- Kč na 5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4 ro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4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85928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82920" y="3860640"/>
                <a:ext cx="22910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3"/>
              <p:cNvSpPr txBox="1"/>
              <p:nvPr/>
            </p:nvSpPr>
            <p:spPr>
              <a:xfrm>
                <a:off x="4930920" y="6080040"/>
                <a:ext cx="15523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6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4346640" y="3068640"/>
                <a:ext cx="3433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3"/>
              <p:cNvSpPr txBox="1"/>
              <p:nvPr/>
            </p:nvSpPr>
            <p:spPr>
              <a:xfrm>
                <a:off x="4282920" y="4724280"/>
                <a:ext cx="1882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4859280" y="5589720"/>
                <a:ext cx="1144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3"/>
              <p:cNvSpPr txBox="1"/>
              <p:nvPr/>
            </p:nvSpPr>
            <p:spPr>
              <a:xfrm>
                <a:off x="6546960" y="4968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3"/>
              <p:cNvSpPr txBox="1"/>
              <p:nvPr/>
            </p:nvSpPr>
            <p:spPr>
              <a:xfrm>
                <a:off x="7835760" y="3284640"/>
                <a:ext cx="1308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516720" y="5589720"/>
                <a:ext cx="600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Rozlišujeme dva druhy úrokování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Jednoduché úrokování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AP v praxi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užití výjimečné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cenné papíry, směn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47640" y="3860640"/>
            <a:ext cx="759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Složené úroková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GP v prax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raxi daleko častěji využíva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běžné účty, půjč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4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na konci roku je úročena, a to buď v jednoduchém či složeném úrokování, jednorázově uložená částka, tzv. jistina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jistin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dob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ací období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1840" y="259920"/>
            <a:ext cx="7651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76500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dměna (např. finančního ústavu) uvedená     v Kč za zapůjčenou čás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05080" y="2521080"/>
            <a:ext cx="773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stin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63640" y="3139920"/>
            <a:ext cx="730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půjčená či uložená peněžní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nač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 baseline="-25000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počáteční (původní)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1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2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n-tého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konečná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1916280"/>
            <a:ext cx="7485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še úroku závisí na veličinác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ací obdob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7280" y="2133360"/>
            <a:ext cx="75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likož se v hodinách matematiky zaměřujeme na nejjednodušší typy příkladů finanční matematiky, bude ve všech příkladech toto období  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jeden ro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87280" y="4005360"/>
            <a:ext cx="7651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47640" y="4653000"/>
            <a:ext cx="7596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ýše odměny ze zapůjčené jisti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 úrokovací období (1 rok, per annum: zkratka – p.a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jádřená v procentec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1,5 %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87280" y="189000"/>
            <a:ext cx="756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dob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47640" y="836640"/>
            <a:ext cx="759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oba, na kterou je jistina zapůjčena či ulože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0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cento je jedna setina ze základ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696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z 59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0 % z 6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5 % z 8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7 % z 2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907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% z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067280" y="155736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067280" y="227664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067280" y="3068640"/>
                <a:ext cx="253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4016520" y="383544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2871720" y="5416560"/>
                <a:ext cx="1452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435600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43564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580000" y="3789360"/>
                <a:ext cx="12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6934320" y="400536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92320" y="3968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 za stejné úrokovací doby se nemění a vypočítává se stále z téže původní jistin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692280"/>
            <a:ext cx="7802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JEDNODUCH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16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966960" y="765000"/>
            <a:ext cx="81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aká je tržní hodnota dluhopisu s nominální hodnotou 40 000,- Kč po 4 letech při úročení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966960" y="1700280"/>
            <a:ext cx="817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971640" y="2276640"/>
            <a:ext cx="19843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1763640" y="2276640"/>
            <a:ext cx="2305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708360" y="2997360"/>
          <a:ext cx="5257800" cy="194436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049400"/>
                <a:gridCol w="968400"/>
                <a:gridCol w="1008000"/>
              </a:tblGrid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35280" y="4292640"/>
            <a:ext cx="1322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216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149720"/>
            <a:ext cx="70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38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6720" y="4292640"/>
            <a:ext cx="100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3068640"/>
            <a:ext cx="12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nominální hodnota dluhopis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221000"/>
            <a:ext cx="5257800" cy="720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3640" y="5084640"/>
                <a:ext cx="4895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22"/>
          <p:cNvSpPr/>
          <p:nvPr/>
        </p:nvSpPr>
        <p:spPr>
          <a:xfrm>
            <a:off x="1042920" y="57340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hodnota dluhopisu na 56 000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28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640" y="3068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2:27Z</dcterms:modified>
  <cp:revision>96</cp:revision>
  <dc:subject/>
  <dc:title>ÚROKOVÁNÍ</dc:title>
</cp:coreProperties>
</file>