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959-F4A6-4195-9781-A24DBE266C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2EB-BCD0-4128-A047-9918FC935A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3040-85D5-40B6-B71B-0C0D9FE63C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2798-C466-4148-AA57-7FA72BC69E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115-ECA1-4C08-8760-8A7FCBF0A7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98D-A1F8-4889-ACD0-0E7F180B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9B5-ADC7-4B7E-9EF6-8A41A5A7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5AA-0EE3-4E25-B389-2436D3C7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04C-C948-4849-BD9D-CA266DA6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6D9-92E4-4970-93AA-DA059351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4E9F-4584-4FAC-9186-687631C2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C51-5B09-44DC-BBAF-1DBA876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0444-5DD7-4277-B8FF-075E3B6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B30-CB26-4263-8184-1725A7A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5484-412D-4155-A023-403C08E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23A0-58E7-40AA-B0B1-BA85171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309-5B5D-42A0-8FF0-B4A9BE3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603D-2E85-4D1E-BFB5-95C0121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051-6CA1-4E81-AC0D-3328D9D5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DD8C-4BF5-4885-AB81-D5236808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3D79-9D1C-41F1-9FA2-E2F85A29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2FF0-1295-41DF-BAAA-1E41BD03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5BF-7B44-4410-AD61-F398C11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611-9DFA-465E-ABEE-C5DF98C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29A-E39F-4BFE-806B-3CBB3DE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34F-5A70-45D9-A868-52E183D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029-053E-4106-998F-DA7081A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78A-28F7-40CE-9837-28B32A4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120-4139-4978-AAEA-5C2D2912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090-4CF1-499C-8051-1968AB246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FB3-F50F-41CF-AF15-F110FFC3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66680" y="260280"/>
                <a:ext cx="238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619280" y="1413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GP lze vyjádřit pomocí prvního a kvocie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821200" y="1447920"/>
                <a:ext cx="244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5819760" y="5877000"/>
                <a:ext cx="3032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19280" y="1413000"/>
                <a:ext cx="2685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19280" y="278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619280" y="2852640"/>
                <a:ext cx="2684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19280" y="422100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92720" y="2997360"/>
            <a:ext cx="385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vnice vydělí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26654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292720" y="350028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ejné výrazy krátíme, zvlášť levou, zvlášť pravou stra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3132000" y="4292640"/>
                <a:ext cx="10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3205080" y="5518080"/>
                <a:ext cx="947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854680" y="2852640"/>
                <a:ext cx="2124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6659640" y="3500280"/>
                <a:ext cx="130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7059600" y="4076640"/>
                <a:ext cx="914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2989440" y="4436640"/>
            <a:ext cx="1439640" cy="8636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060360" y="4437000"/>
            <a:ext cx="1368360" cy="9367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321300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40360" y="3357720"/>
            <a:ext cx="1439640" cy="2232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332000" y="3789360"/>
                <a:ext cx="3773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826920" y="189000"/>
                <a:ext cx="2270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5"/>
          <p:cNvSpPr/>
          <p:nvPr/>
        </p:nvSpPr>
        <p:spPr>
          <a:xfrm>
            <a:off x="1290600" y="12938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258920" y="1270080"/>
                <a:ext cx="2673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332000" y="2494080"/>
            <a:ext cx="259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332000" y="2565360"/>
                <a:ext cx="2549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332000" y="371808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5292720" y="2708280"/>
            <a:ext cx="385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použijeme algebraický vzorec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437000"/>
            <a:ext cx="381456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5364000" y="3213000"/>
                <a:ext cx="360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332000" y="4941720"/>
            <a:ext cx="374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843280" y="5013360"/>
                <a:ext cx="21175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V="1">
            <a:off x="3670200" y="5125680"/>
            <a:ext cx="1440000" cy="86364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41480" y="5126040"/>
            <a:ext cx="136836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411280" y="6021360"/>
                <a:ext cx="2854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H="1" flipV="1">
            <a:off x="2700000" y="2997000"/>
            <a:ext cx="2663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5756400" y="5600880"/>
                <a:ext cx="3387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5580000" y="1844640"/>
                <a:ext cx="9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427640" y="2492280"/>
                <a:ext cx="226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003640" y="3068640"/>
                <a:ext cx="1717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5506920" y="3500280"/>
                <a:ext cx="889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5364000" y="260280"/>
                <a:ext cx="2610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219640" y="836640"/>
                <a:ext cx="2427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945560" y="981000"/>
                <a:ext cx="11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7380360" y="1846440"/>
                <a:ext cx="11667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6877080" y="2349360"/>
                <a:ext cx="2266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7020000" y="3284640"/>
                <a:ext cx="1655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7524720" y="4149720"/>
                <a:ext cx="125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908000" y="256536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3789360"/>
            <a:ext cx="24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1"/>
            <a:endCxn id="308" idx="1"/>
          </p:cNvCxnSpPr>
          <p:nvPr/>
        </p:nvCxnSpPr>
        <p:spPr>
          <a:xfrm flipV="1" rot="10800000">
            <a:off x="1820160" y="2854080"/>
            <a:ext cx="73800" cy="1224720"/>
          </a:xfrm>
          <a:prstGeom prst="curvedConnector5">
            <a:avLst>
              <a:gd name="adj1" fmla="val 271568"/>
              <a:gd name="adj2" fmla="val 49985"/>
              <a:gd name="adj3" fmla="val 271568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543564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900000" y="260280"/>
                <a:ext cx="360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Line 5"/>
          <p:cNvSpPr/>
          <p:nvPr/>
        </p:nvSpPr>
        <p:spPr>
          <a:xfrm>
            <a:off x="1620720" y="141300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716360" y="6095880"/>
                <a:ext cx="3687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620720" y="141300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547640" y="2708280"/>
            <a:ext cx="4321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1620720" y="2781360"/>
                <a:ext cx="37990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547640" y="4076640"/>
            <a:ext cx="388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429000"/>
            <a:ext cx="36716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700360" y="4149720"/>
                <a:ext cx="12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4716360" y="4221000"/>
                <a:ext cx="442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6723000" y="4869000"/>
                <a:ext cx="2421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7805880" y="5445000"/>
                <a:ext cx="133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7"/>
              <p:cNvSpPr txBox="1"/>
              <p:nvPr/>
            </p:nvSpPr>
            <p:spPr>
              <a:xfrm>
                <a:off x="2843280" y="5229360"/>
                <a:ext cx="1311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59280" y="400536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Object 7"/>
              <p:cNvSpPr txBox="1"/>
              <p:nvPr/>
            </p:nvSpPr>
            <p:spPr>
              <a:xfrm>
                <a:off x="1042920" y="260280"/>
                <a:ext cx="311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Line 5"/>
          <p:cNvSpPr/>
          <p:nvPr/>
        </p:nvSpPr>
        <p:spPr>
          <a:xfrm>
            <a:off x="1619280" y="141300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6227640" y="5877000"/>
                <a:ext cx="273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547640" y="1413000"/>
                <a:ext cx="40910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547640" y="2781360"/>
            <a:ext cx="410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547640" y="2852640"/>
                <a:ext cx="3405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47640" y="4221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500280"/>
            <a:ext cx="338472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3708360" y="4292640"/>
                <a:ext cx="1146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308720" y="3573360"/>
                <a:ext cx="1308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7667640" y="4149720"/>
                <a:ext cx="94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80000" y="5373720"/>
                <a:ext cx="1014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24360" y="6165720"/>
                <a:ext cx="850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5943600" y="2852640"/>
                <a:ext cx="264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321300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1187280" y="2133720"/>
            <a:ext cx="795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ozhodněte, zd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jsou členy jedné GP. Pokud ano, určete kvocient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4932360" y="2205000"/>
                <a:ext cx="379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547640" y="1281240"/>
                <a:ext cx="42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Rectangle 3"/>
          <p:cNvSpPr/>
          <p:nvPr/>
        </p:nvSpPr>
        <p:spPr>
          <a:xfrm>
            <a:off x="5076720" y="189000"/>
            <a:ext cx="406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tvoří GP, musí být prostřední číslo geometrickým průměrem čísel krajníc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5508720" y="1628640"/>
                <a:ext cx="3168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187280" y="5446800"/>
                <a:ext cx="1729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1187280" y="3139920"/>
                <a:ext cx="1629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619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843280" y="3068640"/>
                <a:ext cx="3176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291636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4067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1187280" y="549360"/>
                <a:ext cx="36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Rectangle 3"/>
          <p:cNvSpPr/>
          <p:nvPr/>
        </p:nvSpPr>
        <p:spPr>
          <a:xfrm>
            <a:off x="1116000" y="2637000"/>
            <a:ext cx="802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a zadaná čísla jsou kladná, vynecháme ve vzorci A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6084720" y="3139920"/>
                <a:ext cx="1114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116000" y="113652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308720" y="3139920"/>
                <a:ext cx="12495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5292720" y="422100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2881440" y="5402160"/>
                <a:ext cx="15764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4537080" y="5402160"/>
                <a:ext cx="695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097080" y="5473800"/>
                <a:ext cx="148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5219640" y="5373720"/>
                <a:ext cx="2343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q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763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43280" y="1281240"/>
                <a:ext cx="5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3995640" y="1281240"/>
                <a:ext cx="462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05928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1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4284720" y="3581280"/>
                <a:ext cx="3024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3"/>
          <p:cNvSpPr/>
          <p:nvPr/>
        </p:nvSpPr>
        <p:spPr>
          <a:xfrm>
            <a:off x="1116000" y="494172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a kvocient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632720" cy="4699080"/>
        </p:xfrm>
        <a:graphic>
          <a:graphicData uri="http://schemas.openxmlformats.org/drawingml/2006/table">
            <a:tbl>
              <a:tblPr/>
              <a:tblGrid>
                <a:gridCol w="2808360"/>
                <a:gridCol w="48243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1319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13992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G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olikrát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4. pro GP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763640" y="13413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87280" y="18900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341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800360" y="2455920"/>
                <a:ext cx="21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195640" y="3141720"/>
                <a:ext cx="175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124000" y="3841920"/>
                <a:ext cx="164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06720" y="4489560"/>
                <a:ext cx="124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341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002280" y="2403360"/>
                <a:ext cx="222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2000" y="3068640"/>
                <a:ext cx="193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6316560" y="3716280"/>
                <a:ext cx="2192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227640" y="5013360"/>
                <a:ext cx="10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280200" y="4508640"/>
                <a:ext cx="1496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619280" y="5373720"/>
                <a:ext cx="3105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076720" y="189000"/>
                <a:ext cx="183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19280" y="134136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52640" y="195120"/>
                <a:ext cx="180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547640" y="148428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692360" y="2133720"/>
                <a:ext cx="14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835280" y="2637000"/>
                <a:ext cx="949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76360" y="3284640"/>
                <a:ext cx="1973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619280" y="4508640"/>
                <a:ext cx="1463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3640" y="3933720"/>
                <a:ext cx="1606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042920" y="6095880"/>
                <a:ext cx="328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651640" y="1341360"/>
            <a:ext cx="122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580000" y="1484280"/>
                <a:ext cx="197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6012000" y="2133720"/>
                <a:ext cx="149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651640" y="2492280"/>
                <a:ext cx="117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580000" y="3429000"/>
                <a:ext cx="2192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96000" y="5300640"/>
                <a:ext cx="277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724360" y="4149720"/>
                <a:ext cx="2519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4535640" y="6161040"/>
                <a:ext cx="4608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4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87640" y="4508640"/>
                <a:ext cx="8524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1538280" y="143208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971640" y="260280"/>
                <a:ext cx="17334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3"/>
          <p:cNvSpPr/>
          <p:nvPr/>
        </p:nvSpPr>
        <p:spPr>
          <a:xfrm>
            <a:off x="1114560" y="1484280"/>
            <a:ext cx="324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619280" y="314172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19280" y="3789360"/>
                <a:ext cx="1679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584360" y="4419720"/>
                <a:ext cx="1314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2419200"/>
                <a:ext cx="2229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7280" y="5877000"/>
                <a:ext cx="2740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924360" y="4437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835280" y="5157720"/>
                <a:ext cx="912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581360"/>
                <a:ext cx="401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511280" y="517536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"/>
          <p:cNvSpPr/>
          <p:nvPr/>
        </p:nvSpPr>
        <p:spPr>
          <a:xfrm>
            <a:off x="2951280" y="434808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508640"/>
            <a:ext cx="35856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891040" y="1413000"/>
            <a:ext cx="1657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5316480" y="260280"/>
                <a:ext cx="2225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748480" y="198900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477040" y="3357720"/>
                <a:ext cx="179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459400" y="2708280"/>
                <a:ext cx="2117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748480" y="5877000"/>
                <a:ext cx="2922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819760" y="414972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8340840" y="3429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Rectangle 3"/>
          <p:cNvSpPr/>
          <p:nvPr/>
        </p:nvSpPr>
        <p:spPr>
          <a:xfrm>
            <a:off x="7332840" y="3286080"/>
            <a:ext cx="122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9400" y="3429000"/>
            <a:ext cx="4334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9400" y="35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8320" y="420372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5"/>
          <p:cNvSpPr/>
          <p:nvPr/>
        </p:nvSpPr>
        <p:spPr>
          <a:xfrm>
            <a:off x="1619280" y="141300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260280"/>
                <a:ext cx="173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547640" y="1773360"/>
                <a:ext cx="1973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828800" y="3286080"/>
                <a:ext cx="109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565360"/>
                <a:ext cx="2008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03280" y="5229360"/>
                <a:ext cx="33609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407844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95928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3"/>
          <p:cNvSpPr/>
          <p:nvPr/>
        </p:nvSpPr>
        <p:spPr>
          <a:xfrm>
            <a:off x="2998800" y="321300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sud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476360" y="342900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554120" y="404028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735520" y="141300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076720" y="26028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678640" y="1773360"/>
                <a:ext cx="1973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5318280" y="3141720"/>
                <a:ext cx="149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715000" y="2565360"/>
                <a:ext cx="193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1064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6831000" y="3284640"/>
            <a:ext cx="122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sudý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064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8280" y="3500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607000" y="414972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33920" y="5157720"/>
            <a:ext cx="3610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042920" y="260280"/>
                <a:ext cx="297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692360" y="836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908000" y="2565360"/>
                <a:ext cx="189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908000" y="3284640"/>
                <a:ext cx="1862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050920" y="3860640"/>
                <a:ext cx="1131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940360" y="1844640"/>
                <a:ext cx="2228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565360"/>
                <a:ext cx="1790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012000" y="3141720"/>
                <a:ext cx="17539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796000" y="4149720"/>
                <a:ext cx="1387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435640" y="5373720"/>
                <a:ext cx="3213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844640"/>
                <a:ext cx="2265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050920" y="4869000"/>
                <a:ext cx="1022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5"/>
          <p:cNvSpPr/>
          <p:nvPr/>
        </p:nvSpPr>
        <p:spPr>
          <a:xfrm>
            <a:off x="1403280" y="9079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971640" y="404640"/>
                <a:ext cx="2682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1413000"/>
                <a:ext cx="1779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332000" y="2205000"/>
                <a:ext cx="18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258920" y="2852640"/>
                <a:ext cx="1379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Line 5"/>
          <p:cNvSpPr/>
          <p:nvPr/>
        </p:nvSpPr>
        <p:spPr>
          <a:xfrm>
            <a:off x="4930920" y="90792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27640" y="404640"/>
                <a:ext cx="3103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4932360" y="981000"/>
                <a:ext cx="1781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4932360" y="1714680"/>
                <a:ext cx="21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07080" y="2205000"/>
                <a:ext cx="129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6804000" y="2421000"/>
                <a:ext cx="18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6516720" y="4870440"/>
                <a:ext cx="1582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6657840" y="2997360"/>
                <a:ext cx="24861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932360" y="5516640"/>
                <a:ext cx="343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4807080" y="3070080"/>
                <a:ext cx="1152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1403280" y="386064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14560" y="5373720"/>
            <a:ext cx="345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516720" y="3933720"/>
                <a:ext cx="2055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03Z</dcterms:modified>
  <cp:revision>324</cp:revision>
  <dc:subject/>
  <dc:title>Posloupnosti</dc:title>
</cp:coreProperties>
</file>