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3640-6DCE-41EA-9EB5-38169AFBFB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6C3D-2818-44E1-8FBF-EB55BF5FD7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098D-BA83-4B8B-B870-66B42A0B6D6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BE24-FFEB-4F0A-872A-C00BEF1E034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8983-E082-49DD-AF6E-CFAD446AEF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1A6-E8A8-4CE1-A56C-D636FCF7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92B-6F5A-4A08-BB14-63B0C95D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51E-C9F3-4E95-B481-D8C4A525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7E0-2281-493C-8482-1AD0C220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F5DB-D599-452B-AD44-A461EFF2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0FF3-A620-457F-8600-9503F55F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87E5-1963-4851-A1EC-F531F5B6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E67-2852-487A-B1CA-2F374E6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09EF-0C21-4CE9-A315-0FB344C4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8C32-2925-4DD7-86F8-E2CD39BF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A3C1-F0E5-4A77-88B9-6887373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0FF-0E4A-4F50-BC1D-E2284F5F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7209-890D-41B0-9A10-AD79DE9C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1A6D-DBBC-480E-BD1E-20340A8B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7307-16FD-40DB-9F74-ECA00D7E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7A93-4384-45F9-B694-42E25398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151-162D-4981-AD2A-F2E3CEE0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2AE-2453-45FB-A808-B0B9E338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DF9-20DB-431C-8396-6501923F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BDD-5BC9-4D14-864F-13CF383C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60E-299A-4E29-B69A-87EB91FF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CD9-97E9-40B2-98B0-3E98B9F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0F0-B0A1-403A-BDCE-FA2D3099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A12-587B-42F4-8851-3A3C1A76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B77C-C90C-4801-A8FD-00AE7905B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DD07-F791-49E7-93ED-99DCFB0E5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529560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042920" y="189000"/>
                <a:ext cx="317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Line 5"/>
          <p:cNvSpPr/>
          <p:nvPr/>
        </p:nvSpPr>
        <p:spPr>
          <a:xfrm>
            <a:off x="1619280" y="134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lze vyjádřit pomocí prvního a difere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5419800" y="1521000"/>
                <a:ext cx="3251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796000" y="5877000"/>
                <a:ext cx="3068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1403280" y="2492280"/>
                <a:ext cx="527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403280" y="3645000"/>
            <a:ext cx="52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03280" y="3716280"/>
                <a:ext cx="1932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403280" y="4797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3860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08360" y="386064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19640" y="45799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421956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80000" y="40766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1835280" y="4941720"/>
                <a:ext cx="1309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2268360" y="5516640"/>
                <a:ext cx="1079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6156360" y="3716280"/>
                <a:ext cx="2160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7381800" y="4292640"/>
                <a:ext cx="982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995640" y="3933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005000"/>
            <a:ext cx="2592360" cy="1655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212840" y="239760"/>
                <a:ext cx="245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Line 5"/>
          <p:cNvSpPr/>
          <p:nvPr/>
        </p:nvSpPr>
        <p:spPr>
          <a:xfrm>
            <a:off x="1763640" y="1413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1763640" y="1628640"/>
                <a:ext cx="3600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763640" y="278136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7"/>
              <p:cNvSpPr txBox="1"/>
              <p:nvPr/>
            </p:nvSpPr>
            <p:spPr>
              <a:xfrm>
                <a:off x="1835280" y="3068640"/>
                <a:ext cx="209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835280" y="4221000"/>
            <a:ext cx="20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108240" y="4309920"/>
                <a:ext cx="819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3059280" y="4797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140360" y="5589720"/>
            <a:ext cx="50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 není jednoznačně určen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5640" y="3213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284720" y="321300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995640" y="3932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357192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356000" y="342900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211640" y="6093000"/>
            <a:ext cx="4681440" cy="72720"/>
            <a:chOff x="4211640" y="6093000"/>
            <a:chExt cx="4681440" cy="72720"/>
          </a:xfrm>
        </p:grpSpPr>
        <p:sp>
          <p:nvSpPr>
            <p:cNvPr id="275" name=""/>
            <p:cNvSpPr/>
            <p:nvPr/>
          </p:nvSpPr>
          <p:spPr>
            <a:xfrm>
              <a:off x="4211640" y="616572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11640" y="609300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Rectangle 3"/>
          <p:cNvSpPr/>
          <p:nvPr/>
        </p:nvSpPr>
        <p:spPr>
          <a:xfrm>
            <a:off x="4067280" y="4797360"/>
            <a:ext cx="50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oustava – nekonečně mnoho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692360" y="1557360"/>
                <a:ext cx="36320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692360" y="2781360"/>
            <a:ext cx="367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619280" y="2997360"/>
                <a:ext cx="1539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1908000" y="4076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050920" y="4365720"/>
                <a:ext cx="1049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3203640" y="4365720"/>
            <a:ext cx="594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u prvního členu pomocí soustavy rovnic není možné dopočít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84360" y="5877000"/>
            <a:ext cx="66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– 1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elze jednoznačně urči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1214280" y="239760"/>
                <a:ext cx="248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3492360" y="2924280"/>
                <a:ext cx="11509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3492360" y="3605040"/>
                <a:ext cx="648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2556000" y="6453360"/>
            <a:ext cx="6408360" cy="72720"/>
            <a:chOff x="2556000" y="6453360"/>
            <a:chExt cx="6408360" cy="72720"/>
          </a:xfrm>
        </p:grpSpPr>
        <p:sp>
          <p:nvSpPr>
            <p:cNvPr id="290" name=""/>
            <p:cNvSpPr/>
            <p:nvPr/>
          </p:nvSpPr>
          <p:spPr>
            <a:xfrm>
              <a:off x="2556000" y="652608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56000" y="645336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1157400" y="239760"/>
                <a:ext cx="2685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Line 5"/>
          <p:cNvSpPr/>
          <p:nvPr/>
        </p:nvSpPr>
        <p:spPr>
          <a:xfrm>
            <a:off x="1835280" y="141300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1835280" y="1700280"/>
                <a:ext cx="3960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835280" y="2852640"/>
            <a:ext cx="38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835280" y="3068640"/>
                <a:ext cx="2259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835280" y="41497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2987640" y="4508640"/>
                <a:ext cx="1082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4284720" y="3716280"/>
                <a:ext cx="1025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6516720" y="3068640"/>
                <a:ext cx="2128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7308720" y="3571920"/>
                <a:ext cx="1177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524720" y="4076640"/>
                <a:ext cx="981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364000" y="5445000"/>
                <a:ext cx="3032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21164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11640" y="3429000"/>
            <a:ext cx="208908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1187280" y="260280"/>
                <a:ext cx="2259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Line 5"/>
          <p:cNvSpPr/>
          <p:nvPr/>
        </p:nvSpPr>
        <p:spPr>
          <a:xfrm>
            <a:off x="1692360" y="1413000"/>
            <a:ext cx="1798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692360" y="1700280"/>
                <a:ext cx="3566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692360" y="285264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763640" y="3068640"/>
                <a:ext cx="199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763640" y="4149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2916360" y="4292640"/>
                <a:ext cx="957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3924360" y="371628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6156360" y="2852640"/>
                <a:ext cx="16732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6804000" y="3645000"/>
                <a:ext cx="1374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6948360" y="4508640"/>
                <a:ext cx="11937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4067280" y="5516640"/>
                <a:ext cx="303372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392436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995640" y="3429000"/>
            <a:ext cx="2016360" cy="1512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1187280" y="260280"/>
                <a:ext cx="343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Line 5"/>
          <p:cNvSpPr/>
          <p:nvPr/>
        </p:nvSpPr>
        <p:spPr>
          <a:xfrm>
            <a:off x="1835280" y="1341360"/>
            <a:ext cx="280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1692360" y="1557360"/>
                <a:ext cx="5465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763640" y="2708280"/>
            <a:ext cx="54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763640" y="2781360"/>
                <a:ext cx="2457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1763640" y="3860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2771640" y="5157720"/>
                <a:ext cx="1181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4284720" y="285264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6804000" y="3933720"/>
                <a:ext cx="180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7451640" y="4508640"/>
                <a:ext cx="1376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5651640" y="5877000"/>
                <a:ext cx="3251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7"/>
              <p:cNvSpPr txBox="1"/>
              <p:nvPr/>
            </p:nvSpPr>
            <p:spPr>
              <a:xfrm>
                <a:off x="1763640" y="3933720"/>
                <a:ext cx="2227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835280" y="501336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4140360" y="3933720"/>
                <a:ext cx="1008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2987640" y="5661000"/>
                <a:ext cx="885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5145120" y="4078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33840" y="40780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78560" y="44370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05480" y="429408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43650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45120" y="479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1116000" y="333360"/>
                <a:ext cx="317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Line 5"/>
          <p:cNvSpPr/>
          <p:nvPr/>
        </p:nvSpPr>
        <p:spPr>
          <a:xfrm>
            <a:off x="1706400" y="1434960"/>
            <a:ext cx="259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1633680" y="1577880"/>
                <a:ext cx="52686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1633680" y="2730600"/>
            <a:ext cx="53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1633680" y="2801880"/>
                <a:ext cx="206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633680" y="388296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425680" y="3954600"/>
                <a:ext cx="1343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2124000" y="5300640"/>
                <a:ext cx="1670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7"/>
              <p:cNvSpPr txBox="1"/>
              <p:nvPr/>
            </p:nvSpPr>
            <p:spPr>
              <a:xfrm>
                <a:off x="2627280" y="5805360"/>
                <a:ext cx="9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729400" y="5894280"/>
                <a:ext cx="273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865680" y="2801880"/>
                <a:ext cx="973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871880" y="29480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160960" y="29476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05320" y="3306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232240" y="316404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8400" y="32346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2714760" y="4459320"/>
                <a:ext cx="852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4871880" y="3666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90520" y="239760"/>
                <a:ext cx="2552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7"/>
              <p:cNvSpPr txBox="1"/>
              <p:nvPr/>
            </p:nvSpPr>
            <p:spPr>
              <a:xfrm>
                <a:off x="1763640" y="1413000"/>
                <a:ext cx="35989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763640" y="3141720"/>
            <a:ext cx="367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1763640" y="3213000"/>
                <a:ext cx="32749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2700360" y="5661000"/>
                <a:ext cx="1311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5219640" y="3213000"/>
                <a:ext cx="666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5364000" y="4437000"/>
                <a:ext cx="1737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5940360" y="4869000"/>
                <a:ext cx="1212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6156360" y="6095880"/>
                <a:ext cx="281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1979640" y="4437000"/>
                <a:ext cx="1998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 flipV="1">
            <a:off x="3994200" y="465408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282920" y="4654440"/>
            <a:ext cx="180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27640" y="5013360"/>
            <a:ext cx="142920" cy="144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354560" y="48704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4941000"/>
            <a:ext cx="144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2916360" y="6165720"/>
                <a:ext cx="984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7"/>
              <p:cNvSpPr txBox="1"/>
              <p:nvPr/>
            </p:nvSpPr>
            <p:spPr>
              <a:xfrm>
                <a:off x="6084720" y="5300640"/>
                <a:ext cx="852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763640" y="43657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79640" y="558972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994200" y="537480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19280" y="2781360"/>
            <a:ext cx="576360" cy="5047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1042920" y="58680"/>
                <a:ext cx="2389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Line 5"/>
          <p:cNvSpPr/>
          <p:nvPr/>
        </p:nvSpPr>
        <p:spPr>
          <a:xfrm>
            <a:off x="1619280" y="106668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7"/>
              <p:cNvSpPr txBox="1"/>
              <p:nvPr/>
            </p:nvSpPr>
            <p:spPr>
              <a:xfrm>
                <a:off x="1547640" y="1139760"/>
                <a:ext cx="3600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619280" y="2147760"/>
            <a:ext cx="35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7"/>
              <p:cNvSpPr txBox="1"/>
              <p:nvPr/>
            </p:nvSpPr>
            <p:spPr>
              <a:xfrm>
                <a:off x="1619280" y="2205000"/>
                <a:ext cx="22939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1476360" y="4076640"/>
                <a:ext cx="3673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619280" y="3284640"/>
                <a:ext cx="33591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7"/>
              <p:cNvSpPr txBox="1"/>
              <p:nvPr/>
            </p:nvSpPr>
            <p:spPr>
              <a:xfrm>
                <a:off x="4068720" y="2205000"/>
                <a:ext cx="2190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692360" y="328464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5076720" y="3573360"/>
                <a:ext cx="50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3995640" y="4581360"/>
                <a:ext cx="32655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6443640" y="1989000"/>
                <a:ext cx="2160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7632720" y="4724280"/>
                <a:ext cx="1511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7"/>
              <p:cNvSpPr txBox="1"/>
              <p:nvPr/>
            </p:nvSpPr>
            <p:spPr>
              <a:xfrm>
                <a:off x="7380360" y="5157720"/>
                <a:ext cx="1249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 flipH="1">
            <a:off x="4571640" y="2722680"/>
            <a:ext cx="2305080" cy="7920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7"/>
              <p:cNvSpPr txBox="1"/>
              <p:nvPr/>
            </p:nvSpPr>
            <p:spPr>
              <a:xfrm>
                <a:off x="1547640" y="5359320"/>
                <a:ext cx="1872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3419640" y="564804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19640" y="586440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80" idx="1"/>
          </p:cNvCxnSpPr>
          <p:nvPr/>
        </p:nvCxnSpPr>
        <p:spPr>
          <a:xfrm flipH="1" flipV="1" rot="10800000">
            <a:off x="1618920" y="3033360"/>
            <a:ext cx="2160" cy="714960"/>
          </a:xfrm>
          <a:prstGeom prst="curvedConnector5">
            <a:avLst>
              <a:gd name="adj1" fmla="val -14400000"/>
              <a:gd name="adj2" fmla="val 49974"/>
              <a:gd name="adj3" fmla="val -14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3708360" y="5300640"/>
                <a:ext cx="1606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1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7"/>
              <p:cNvSpPr txBox="1"/>
              <p:nvPr/>
            </p:nvSpPr>
            <p:spPr>
              <a:xfrm>
                <a:off x="3708360" y="5805360"/>
                <a:ext cx="18464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2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5580000" y="5373720"/>
                <a:ext cx="1168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5580000" y="5805360"/>
                <a:ext cx="17287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4" name=""/>
          <p:cNvGrpSpPr/>
          <p:nvPr/>
        </p:nvGrpSpPr>
        <p:grpSpPr>
          <a:xfrm>
            <a:off x="3708360" y="5734080"/>
            <a:ext cx="3024360" cy="72720"/>
            <a:chOff x="3708360" y="5734080"/>
            <a:chExt cx="3024360" cy="72720"/>
          </a:xfrm>
        </p:grpSpPr>
        <p:sp>
          <p:nvSpPr>
            <p:cNvPr id="405" name=""/>
            <p:cNvSpPr/>
            <p:nvPr/>
          </p:nvSpPr>
          <p:spPr>
            <a:xfrm>
              <a:off x="3708360" y="580680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08360" y="573408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08360" y="6669000"/>
            <a:ext cx="3600360" cy="72720"/>
            <a:chOff x="3708360" y="6669000"/>
            <a:chExt cx="3600360" cy="72720"/>
          </a:xfrm>
        </p:grpSpPr>
        <p:sp>
          <p:nvSpPr>
            <p:cNvPr id="408" name=""/>
            <p:cNvSpPr/>
            <p:nvPr/>
          </p:nvSpPr>
          <p:spPr>
            <a:xfrm>
              <a:off x="3708360" y="666900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8360" y="674172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416720" cy="51069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AP, mezi prvním a libovolným členem AP,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AP; Vztah mezi prvním a libovolným členem AP; Vztah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20356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06864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A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 kolik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3.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692360" y="14130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16000" y="26028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557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619280" y="2637000"/>
                <a:ext cx="2519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979640" y="3357720"/>
                <a:ext cx="21906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908000" y="4078440"/>
                <a:ext cx="2044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908000" y="4726080"/>
                <a:ext cx="1387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557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5364000" y="2637000"/>
                <a:ext cx="35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5364000" y="3357720"/>
                <a:ext cx="2667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651640" y="4005360"/>
                <a:ext cx="2885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5508720" y="5229360"/>
                <a:ext cx="13888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5651640" y="4581360"/>
                <a:ext cx="2008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403280" y="5877000"/>
                <a:ext cx="3616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364000" y="260280"/>
                <a:ext cx="2095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116000" y="260280"/>
                <a:ext cx="18334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619280" y="1628640"/>
                <a:ext cx="21542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781280" y="2403360"/>
                <a:ext cx="1898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924200" y="2906640"/>
                <a:ext cx="949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619280" y="3645000"/>
                <a:ext cx="2448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403280" y="4797360"/>
                <a:ext cx="1535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2200" y="4292640"/>
                <a:ext cx="208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332000" y="5734080"/>
                <a:ext cx="3251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940360" y="141300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796000" y="1628640"/>
                <a:ext cx="2263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580000" y="2349360"/>
                <a:ext cx="21178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508720" y="2852640"/>
                <a:ext cx="1533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724360" y="3645000"/>
                <a:ext cx="27403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940360" y="4797360"/>
                <a:ext cx="1243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156360" y="4292640"/>
                <a:ext cx="2446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364000" y="5734080"/>
                <a:ext cx="3543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5"/>
          <p:cNvSpPr/>
          <p:nvPr/>
        </p:nvSpPr>
        <p:spPr>
          <a:xfrm>
            <a:off x="1835280" y="162864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258920" y="404640"/>
                <a:ext cx="1701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Rectangle 3"/>
          <p:cNvSpPr/>
          <p:nvPr/>
        </p:nvSpPr>
        <p:spPr>
          <a:xfrm>
            <a:off x="4500720" y="331920"/>
            <a:ext cx="374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716360" y="2278080"/>
                <a:ext cx="2592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003640" y="3068640"/>
                <a:ext cx="186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5003640" y="378936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572000" y="1484280"/>
                <a:ext cx="3506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76520" y="5445000"/>
                <a:ext cx="3068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6516720" y="3860640"/>
                <a:ext cx="649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5076720" y="4508640"/>
                <a:ext cx="102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5"/>
          <p:cNvSpPr/>
          <p:nvPr/>
        </p:nvSpPr>
        <p:spPr>
          <a:xfrm>
            <a:off x="1692360" y="148428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116000" y="26028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476360" y="1916280"/>
                <a:ext cx="2376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76360" y="3284640"/>
                <a:ext cx="1644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619280" y="2708280"/>
                <a:ext cx="20448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258920" y="5084640"/>
                <a:ext cx="336060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3419640" y="3316320"/>
                <a:ext cx="64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403280" y="3787920"/>
                <a:ext cx="1535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Line 5"/>
          <p:cNvSpPr/>
          <p:nvPr/>
        </p:nvSpPr>
        <p:spPr>
          <a:xfrm>
            <a:off x="5724360" y="148428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5219640" y="331920"/>
                <a:ext cx="167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651640" y="1916280"/>
                <a:ext cx="2266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580000" y="3284640"/>
                <a:ext cx="1498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5796000" y="2708280"/>
                <a:ext cx="2044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5508720" y="5084640"/>
                <a:ext cx="332568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7308720" y="3316320"/>
                <a:ext cx="64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5508720" y="3787920"/>
                <a:ext cx="1350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619280" y="90792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333360"/>
                <a:ext cx="2943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709640" y="2743200"/>
                <a:ext cx="2336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908000" y="3444840"/>
                <a:ext cx="1899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124000" y="4092480"/>
                <a:ext cx="1131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5670720" y="202392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5634000" y="2743200"/>
                <a:ext cx="248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994360" y="3246480"/>
                <a:ext cx="22287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5597640" y="4813200"/>
                <a:ext cx="1352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940360" y="4237200"/>
                <a:ext cx="1825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3224160" y="5587920"/>
                <a:ext cx="31035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746360" y="2023920"/>
                <a:ext cx="3287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3708360" y="4113360"/>
                <a:ext cx="647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033640" y="4545000"/>
                <a:ext cx="10224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5"/>
          <p:cNvSpPr/>
          <p:nvPr/>
        </p:nvSpPr>
        <p:spPr>
          <a:xfrm>
            <a:off x="1619280" y="1339920"/>
            <a:ext cx="12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1042920" y="18900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1547640" y="1557360"/>
                <a:ext cx="2190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258920" y="2205000"/>
                <a:ext cx="2446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258920" y="2708280"/>
                <a:ext cx="1643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401840" y="3933720"/>
                <a:ext cx="22651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690560" y="5014800"/>
                <a:ext cx="106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1401840" y="4510080"/>
                <a:ext cx="2154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14560" y="5878440"/>
                <a:ext cx="3068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403280" y="3213000"/>
                <a:ext cx="1278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987640" y="2787480"/>
                <a:ext cx="576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Line 5"/>
          <p:cNvSpPr/>
          <p:nvPr/>
        </p:nvSpPr>
        <p:spPr>
          <a:xfrm>
            <a:off x="5437080" y="1341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076720" y="189000"/>
                <a:ext cx="1965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5364000" y="1557360"/>
                <a:ext cx="2337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5797440" y="2205000"/>
                <a:ext cx="2227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508720" y="2708280"/>
                <a:ext cx="1423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435640" y="3933720"/>
                <a:ext cx="2228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5146560" y="5014800"/>
                <a:ext cx="1646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146560" y="45100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075280" y="5950080"/>
                <a:ext cx="3616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0,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5437080" y="3213000"/>
                <a:ext cx="1278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308720" y="2787480"/>
                <a:ext cx="576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30Z</dcterms:modified>
  <cp:revision>318</cp:revision>
  <dc:subject/>
  <dc:title>Posloupnosti</dc:title>
</cp:coreProperties>
</file>