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F062-25D8-4650-9F66-B2273C7588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99A0-291C-4D89-AE38-989F0B0C8CC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D0B5-9996-4359-B690-B5151716925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74C4-0EE6-427A-A7F2-DCD118B3036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6DD8-3802-4B39-A49D-CD7F3177262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BCE5-A086-4A40-ABA2-3A23B960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1AA-C090-43E3-9478-EB1A66DC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F82-A03C-432B-AC3C-36E53FD7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8AF-E7F1-463C-9E72-793CBC5B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1BD0-716F-4D3C-B3BB-1815D5D4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7BA1-0006-45F6-A006-88EF7D44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CAAF-9A38-42E6-915E-21671B41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E9D9-5999-480E-9CC9-541DB7B6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D9FF-B3BA-4835-A357-CEEB6F8C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2CE6-F57F-45E0-87A7-54040273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26C0-9EB5-4E2B-A916-726F5733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DCB8-ED59-4BCE-B416-C50150B0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21A8-986A-493D-B31C-2D6796A8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8819-20A0-46A5-B344-077E6643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FF4C-92E4-47C8-A192-2E1BAB0A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AD08-2F57-4D78-A404-9EEF88C5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E9E0-2122-4FA0-A9D7-4674C3F9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E15C-8402-4EE9-9FDB-667A92E2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92D-E9E3-43BD-9C8E-977454AA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AC5E-6CF1-477D-A081-F80544DE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E77B-D379-4F80-BCA1-D19D425E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BCC6-A212-4B33-86C3-414D4639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F6F-28E9-4266-A40D-8786FD9B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85F-886B-4E84-A73E-EDCCEFF0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BCD8-1DB3-4559-B264-35643D495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3E62-18D0-4372-B0C7-8A401FC0D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484360" y="33336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900000" y="476280"/>
            <a:ext cx="7883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                                           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vztah vycházející z názvu AP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AP kromě prvního je aritmetickým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ůměrem sousedních člen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547640" y="189000"/>
                <a:ext cx="61056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pro  </m:t>
                    </m:r>
                    <m:r>
                      <m:t xml:space="preserve">n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1258920" y="3573360"/>
                <a:ext cx="1866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3132000" y="3573360"/>
                <a:ext cx="30927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"/>
              <p:cNvSpPr txBox="1"/>
              <p:nvPr/>
            </p:nvSpPr>
            <p:spPr>
              <a:xfrm>
                <a:off x="6227640" y="3573360"/>
                <a:ext cx="15890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7777080" y="3789360"/>
                <a:ext cx="1366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258920" y="4510080"/>
                <a:ext cx="18669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258920" y="5445000"/>
                <a:ext cx="1866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692360" y="6237360"/>
                <a:ext cx="1666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3780000" y="5316480"/>
            <a:ext cx="4752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56360" y="5243400"/>
            <a:ext cx="0" cy="217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2"/>
              <p:cNvSpPr txBox="1"/>
              <p:nvPr/>
            </p:nvSpPr>
            <p:spPr>
              <a:xfrm>
                <a:off x="6012000" y="5316480"/>
                <a:ext cx="390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565164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5964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5796000" y="4668840"/>
                <a:ext cx="306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2"/>
              <p:cNvSpPr txBox="1"/>
              <p:nvPr/>
            </p:nvSpPr>
            <p:spPr>
              <a:xfrm>
                <a:off x="6299280" y="4668840"/>
                <a:ext cx="306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5506920" y="5460840"/>
                <a:ext cx="39060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6516720" y="5460840"/>
                <a:ext cx="3906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265" name=""/>
          <p:cNvCxnSpPr>
            <a:stCxn id="257" idx="0"/>
            <a:endCxn id="260" idx="0"/>
          </p:cNvCxnSpPr>
          <p:nvPr/>
        </p:nvCxnSpPr>
        <p:spPr>
          <a:xfrm flipH="1" rot="16200000">
            <a:off x="6405480" y="4978800"/>
            <a:ext cx="5400" cy="504000"/>
          </a:xfrm>
          <a:prstGeom prst="curvedConnector5">
            <a:avLst>
              <a:gd name="adj1" fmla="val -4800000"/>
              <a:gd name="adj2" fmla="val 49964"/>
              <a:gd name="adj3" fmla="val -48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57" idx="0"/>
            <a:endCxn id="259" idx="0"/>
          </p:cNvCxnSpPr>
          <p:nvPr/>
        </p:nvCxnSpPr>
        <p:spPr>
          <a:xfrm rot="5400000">
            <a:off x="5901120" y="4978440"/>
            <a:ext cx="5400" cy="505440"/>
          </a:xfrm>
          <a:prstGeom prst="curvedConnector5">
            <a:avLst>
              <a:gd name="adj1" fmla="val -4800000"/>
              <a:gd name="adj2" fmla="val 49964"/>
              <a:gd name="adj3" fmla="val -48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514836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9128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5424480" y="4092480"/>
                <a:ext cx="473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6434280" y="4092480"/>
                <a:ext cx="473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5003640" y="5460840"/>
                <a:ext cx="3906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6948360" y="5460840"/>
                <a:ext cx="3906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273" name=""/>
          <p:cNvCxnSpPr>
            <a:stCxn id="257" idx="0"/>
            <a:endCxn id="268" idx="0"/>
          </p:cNvCxnSpPr>
          <p:nvPr/>
        </p:nvCxnSpPr>
        <p:spPr>
          <a:xfrm flipH="1" rot="16200000">
            <a:off x="6621120" y="4763160"/>
            <a:ext cx="5400" cy="935640"/>
          </a:xfrm>
          <a:prstGeom prst="curvedConnector5">
            <a:avLst>
              <a:gd name="adj1" fmla="val -16300000"/>
              <a:gd name="adj2" fmla="val 50000"/>
              <a:gd name="adj3" fmla="val -163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57" idx="0"/>
            <a:endCxn id="267" idx="0"/>
          </p:cNvCxnSpPr>
          <p:nvPr/>
        </p:nvCxnSpPr>
        <p:spPr>
          <a:xfrm rot="5400000">
            <a:off x="5649480" y="4726800"/>
            <a:ext cx="5400" cy="1008720"/>
          </a:xfrm>
          <a:prstGeom prst="curvedConnector5">
            <a:avLst>
              <a:gd name="adj1" fmla="val -16400000"/>
              <a:gd name="adj2" fmla="val 49982"/>
              <a:gd name="adj3" fmla="val -164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3117960" y="4510080"/>
                <a:ext cx="31208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"/>
              <p:cNvSpPr txBox="1"/>
              <p:nvPr/>
            </p:nvSpPr>
            <p:spPr>
              <a:xfrm>
                <a:off x="6227640" y="4510080"/>
                <a:ext cx="15890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7777080" y="4726080"/>
                <a:ext cx="1366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"/>
              <p:cNvSpPr txBox="1"/>
              <p:nvPr/>
            </p:nvSpPr>
            <p:spPr>
              <a:xfrm>
                <a:off x="3132000" y="5445000"/>
                <a:ext cx="2954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6227640" y="5445000"/>
                <a:ext cx="15890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7777080" y="5661000"/>
                <a:ext cx="1366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1332000" y="907920"/>
                <a:ext cx="677052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2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3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4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97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98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99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Rectangle 3"/>
          <p:cNvSpPr/>
          <p:nvPr/>
        </p:nvSpPr>
        <p:spPr>
          <a:xfrm>
            <a:off x="1042920" y="5661000"/>
            <a:ext cx="81010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</a:t>
            </a:r>
            <a:r>
              <a:rPr b="0" lang="en-US" sz="2700" spc="-1" strike="noStrike">
                <a:solidFill>
                  <a:srgbClr val="dddddd"/>
                </a:solidFill>
                <a:latin typeface="Times New Roman"/>
              </a:rPr>
              <a:t>... vztah pro součet </a:t>
            </a:r>
            <a:r>
              <a:rPr b="0" i="1" lang="en-US" sz="27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dddddd"/>
                </a:solidFill>
                <a:latin typeface="Times New Roman"/>
              </a:rPr>
              <a:t> členů AP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1547640" y="5526000"/>
                <a:ext cx="30956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4" name="Rectangle 3"/>
          <p:cNvSpPr/>
          <p:nvPr/>
        </p:nvSpPr>
        <p:spPr>
          <a:xfrm>
            <a:off x="1187280" y="189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100 přiroze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76360" y="2060640"/>
            <a:ext cx="626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476360" y="1412640"/>
            <a:ext cx="0" cy="6476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7740720" y="1412640"/>
            <a:ext cx="0" cy="6476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24000" y="1413000"/>
            <a:ext cx="0" cy="1295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804000" y="1413000"/>
            <a:ext cx="0" cy="1295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24000" y="2708280"/>
            <a:ext cx="468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276720" y="1413000"/>
            <a:ext cx="2374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0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276720" y="206064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9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771640" y="1412640"/>
            <a:ext cx="0" cy="19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012000" y="1412640"/>
            <a:ext cx="0" cy="19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276720" y="270828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9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71640" y="3355920"/>
            <a:ext cx="324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1187280" y="3429000"/>
            <a:ext cx="795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oučet prvního a posledního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0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 je shodný se součtem druhého a předposledního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99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, ..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ednotlivé sčítance obecně vyjádříme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spcBef>
                <a:spcPts val="1199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očet sčítanců se ale přitom zmenší na polovinu: 100/2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Vzorce – přehled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1187280" y="3213000"/>
            <a:ext cx="795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627120">
              <a:spcBef>
                <a:spcPts val="11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P (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971640" y="2205000"/>
            <a:ext cx="8172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971640" y="189000"/>
            <a:ext cx="8172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50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50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 po sobě jdoucí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1547640" y="333360"/>
                <a:ext cx="2519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Rectangle 3"/>
          <p:cNvSpPr/>
          <p:nvPr/>
        </p:nvSpPr>
        <p:spPr>
          <a:xfrm>
            <a:off x="971640" y="1197000"/>
            <a:ext cx="8172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 libovolným členem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1547640" y="1341360"/>
                <a:ext cx="3507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4"/>
              <p:cNvSpPr txBox="1"/>
              <p:nvPr/>
            </p:nvSpPr>
            <p:spPr>
              <a:xfrm>
                <a:off x="1547640" y="2349360"/>
                <a:ext cx="35434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&gt;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Rectangle 3"/>
          <p:cNvSpPr/>
          <p:nvPr/>
        </p:nvSpPr>
        <p:spPr>
          <a:xfrm>
            <a:off x="971640" y="3716280"/>
            <a:ext cx="81723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538632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každý člen je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aritmetický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ůměre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sousedů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1547640" y="3932280"/>
                <a:ext cx="48182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8" name="Rectangle 3"/>
          <p:cNvSpPr/>
          <p:nvPr/>
        </p:nvSpPr>
        <p:spPr>
          <a:xfrm>
            <a:off x="971640" y="5445000"/>
            <a:ext cx="817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29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pro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součet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vních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členů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4"/>
              <p:cNvSpPr txBox="1"/>
              <p:nvPr/>
            </p:nvSpPr>
            <p:spPr>
              <a:xfrm>
                <a:off x="1547640" y="5516640"/>
                <a:ext cx="30956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561080" cy="5003640"/>
        </p:xfrm>
        <a:graphic>
          <a:graphicData uri="http://schemas.openxmlformats.org/drawingml/2006/table">
            <a:tbl>
              <a:tblPr/>
              <a:tblGrid>
                <a:gridCol w="3095640"/>
                <a:gridCol w="4465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vlastnosti, vzor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odvození jednotlivých vztahů platných pro členy aritmetické posloupnosti a závěrečný přehled všech vzorců, které studenti aplikují ústně i písemně na tabuli pro konkrétní pořadí podle zadání učitel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stnosti AP; Vztahy mezi členy AP; Součet několika prvních členů A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1989000"/>
            <a:ext cx="795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prvních pět členů dané AP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763640" y="3284640"/>
                <a:ext cx="26337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138320" y="363600"/>
                <a:ext cx="3265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4432320" y="2766960"/>
                <a:ext cx="38084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1116000" y="3500280"/>
                <a:ext cx="32958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4427640" y="6021360"/>
                <a:ext cx="35845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619280" y="836640"/>
            <a:ext cx="273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2411280" y="907920"/>
                <a:ext cx="17128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4140360" y="979560"/>
                <a:ext cx="12668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5364000" y="979560"/>
                <a:ext cx="5065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2395440" y="1339920"/>
                <a:ext cx="1744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"/>
              <p:cNvSpPr txBox="1"/>
              <p:nvPr/>
            </p:nvSpPr>
            <p:spPr>
              <a:xfrm>
                <a:off x="4140360" y="1411200"/>
                <a:ext cx="10141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5364000" y="1411200"/>
                <a:ext cx="5702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2395440" y="1771560"/>
                <a:ext cx="17449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"/>
              <p:cNvSpPr txBox="1"/>
              <p:nvPr/>
            </p:nvSpPr>
            <p:spPr>
              <a:xfrm>
                <a:off x="4140360" y="1843200"/>
                <a:ext cx="1076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5364000" y="1843200"/>
                <a:ext cx="570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2419200" y="2220840"/>
                <a:ext cx="1744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4140360" y="2276640"/>
                <a:ext cx="1076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5364000" y="2276640"/>
                <a:ext cx="6969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670040" y="3987720"/>
            <a:ext cx="266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2462040" y="4060800"/>
                <a:ext cx="17132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4189320" y="4060800"/>
                <a:ext cx="14572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5702400" y="4132440"/>
                <a:ext cx="56988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2444760" y="4492800"/>
                <a:ext cx="1744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4189320" y="4579920"/>
                <a:ext cx="10144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5702400" y="4564080"/>
                <a:ext cx="5061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2444760" y="4924440"/>
                <a:ext cx="1744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4253040" y="5011560"/>
                <a:ext cx="949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5702400" y="4997520"/>
                <a:ext cx="569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2468520" y="5373720"/>
                <a:ext cx="1744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4221000" y="5429160"/>
                <a:ext cx="1013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5702400" y="5429160"/>
                <a:ext cx="7286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1042920" y="404640"/>
                <a:ext cx="32972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4500720" y="1052640"/>
                <a:ext cx="38383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042920" y="2637000"/>
                <a:ext cx="40276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4067280" y="3645000"/>
                <a:ext cx="50767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1116000" y="5229360"/>
                <a:ext cx="3424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4500720" y="5734080"/>
                <a:ext cx="3394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lastnosti A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116000" y="2421000"/>
            <a:ext cx="20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iferenc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276720" y="119844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4284720" y="1198440"/>
            <a:ext cx="45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AP je konstantní, omeze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203640" y="350208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508720" y="2422440"/>
            <a:ext cx="3635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AP je rostouc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mezená zdol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643280" y="242244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&gt;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5508720" y="4581360"/>
            <a:ext cx="3635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AP je klesajíc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mezená sho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4643280" y="458136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&lt;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771640" y="1846440"/>
            <a:ext cx="360360" cy="86328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71640" y="2925720"/>
            <a:ext cx="360360" cy="86364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140360" y="2925360"/>
            <a:ext cx="360360" cy="86364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4006800"/>
            <a:ext cx="360360" cy="86364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Vzorce – odvození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187280" y="3213000"/>
            <a:ext cx="795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627120">
              <a:spcBef>
                <a:spcPts val="11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P (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140360" y="2492280"/>
            <a:ext cx="1008000" cy="432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332000" y="260280"/>
            <a:ext cx="78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definice A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1908000" y="331920"/>
                <a:ext cx="26337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1908000" y="1197000"/>
                <a:ext cx="3794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1908000" y="1773360"/>
                <a:ext cx="17226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1908000" y="2421000"/>
                <a:ext cx="17528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1924200" y="3068640"/>
                <a:ext cx="1635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1924200" y="3716280"/>
                <a:ext cx="17524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"/>
              <p:cNvSpPr txBox="1"/>
              <p:nvPr/>
            </p:nvSpPr>
            <p:spPr>
              <a:xfrm>
                <a:off x="3780000" y="2421000"/>
                <a:ext cx="2014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6012000" y="2421000"/>
                <a:ext cx="1431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3708360" y="3068640"/>
                <a:ext cx="21891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6012000" y="3068640"/>
                <a:ext cx="1431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3724200" y="3716280"/>
                <a:ext cx="21589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6012000" y="3716280"/>
                <a:ext cx="1431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3"/>
          <p:cNvSpPr/>
          <p:nvPr/>
        </p:nvSpPr>
        <p:spPr>
          <a:xfrm>
            <a:off x="1332000" y="5227560"/>
            <a:ext cx="7812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rvní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a libovolným člene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A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1979640" y="5300640"/>
                <a:ext cx="36655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6084720" y="4292640"/>
                <a:ext cx="13431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vzt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2627280" y="1773360"/>
            <a:ext cx="100800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40000" y="2276640"/>
            <a:ext cx="360360" cy="3603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35280" y="1773360"/>
            <a:ext cx="504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1" idx="3"/>
            <a:endCxn id="194" idx="0"/>
          </p:cNvCxnSpPr>
          <p:nvPr/>
        </p:nvCxnSpPr>
        <p:spPr>
          <a:xfrm>
            <a:off x="3645000" y="2025720"/>
            <a:ext cx="1000800" cy="457920"/>
          </a:xfrm>
          <a:prstGeom prst="curvedConnector2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340000" y="3213000"/>
            <a:ext cx="21600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59280" y="3213000"/>
            <a:ext cx="21564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56360" y="3213000"/>
            <a:ext cx="21600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75640" y="3213000"/>
            <a:ext cx="21564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"/>
              <p:cNvSpPr txBox="1"/>
              <p:nvPr/>
            </p:nvSpPr>
            <p:spPr>
              <a:xfrm>
                <a:off x="2050920" y="1052640"/>
                <a:ext cx="17226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4211640" y="4078440"/>
                <a:ext cx="13143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vzt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1" name="Rectangle 3"/>
          <p:cNvSpPr/>
          <p:nvPr/>
        </p:nvSpPr>
        <p:spPr>
          <a:xfrm>
            <a:off x="1332000" y="5227560"/>
            <a:ext cx="7812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y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A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1979640" y="5300640"/>
                <a:ext cx="50403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r</m:t>
                    </m:r>
                    <m:r>
                      <m:t xml:space="preserve">&g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2050920" y="1700280"/>
                <a:ext cx="1897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922400" y="2290680"/>
            <a:ext cx="216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11480" y="200196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299120" y="128268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011120" y="128268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43480" y="16416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70400" y="149868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1403280" y="2492280"/>
                <a:ext cx="1925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2124000" y="3355920"/>
                <a:ext cx="1925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5867280" y="1052640"/>
                <a:ext cx="1870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5881680" y="1700280"/>
                <a:ext cx="18684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5738760" y="2290680"/>
            <a:ext cx="216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27840" y="200196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8115480" y="128268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827480" y="128268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59840" y="16416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86760" y="149868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5234040" y="2492280"/>
                <a:ext cx="1896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5954760" y="3355920"/>
                <a:ext cx="1896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Rectangle 3"/>
          <p:cNvSpPr/>
          <p:nvPr/>
        </p:nvSpPr>
        <p:spPr>
          <a:xfrm>
            <a:off x="1187280" y="189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mocí 2. vztahu vyjádřete dvojice (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 a (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15" idx="2"/>
            <a:endCxn id="216" idx="2"/>
          </p:cNvCxnSpPr>
          <p:nvPr/>
        </p:nvCxnSpPr>
        <p:spPr>
          <a:xfrm flipH="1" rot="16200000">
            <a:off x="2805840" y="3503520"/>
            <a:ext cx="2160" cy="719640"/>
          </a:xfrm>
          <a:prstGeom prst="curvedConnector5">
            <a:avLst>
              <a:gd name="adj1" fmla="val 14300000"/>
              <a:gd name="adj2" fmla="val 50000"/>
              <a:gd name="adj3" fmla="val 14300000"/>
            </a:avLst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3348000" y="3284640"/>
            <a:ext cx="432000" cy="576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76000"/>
              <a:gd name="textAreaBottom" fmla="*/ 555120 h 576000"/>
            </a:gdLst>
            <a:ahLst/>
            <a:rect l="textAreaLeft" t="textAreaTop" r="textAreaRight" b="textAreaBottom"/>
            <a:pathLst>
              <a:path w="21600" h="28794">
                <a:moveTo>
                  <a:pt x="3600" y="0"/>
                </a:moveTo>
                <a:arcTo wR="3600" hR="3600" stAng="16200000" swAng="-5400000"/>
                <a:lnTo>
                  <a:pt x="0" y="25194"/>
                </a:lnTo>
                <a:arcTo wR="3600" hR="3600" stAng="10800000" swAng="-5400000"/>
                <a:lnTo>
                  <a:pt x="18000" y="28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17" idx="2"/>
            <a:endCxn id="218" idx="2"/>
          </p:cNvCxnSpPr>
          <p:nvPr/>
        </p:nvCxnSpPr>
        <p:spPr>
          <a:xfrm flipH="1" rot="16200000">
            <a:off x="6622200" y="3503520"/>
            <a:ext cx="2160" cy="719640"/>
          </a:xfrm>
          <a:prstGeom prst="curvedConnector5">
            <a:avLst>
              <a:gd name="adj1" fmla="val 14300000"/>
              <a:gd name="adj2" fmla="val 50000"/>
              <a:gd name="adj3" fmla="val 14300000"/>
            </a:avLst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7164360" y="3284640"/>
            <a:ext cx="432000" cy="576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76000"/>
              <a:gd name="textAreaBottom" fmla="*/ 555120 h 576000"/>
            </a:gdLst>
            <a:ahLst/>
            <a:rect l="textAreaLeft" t="textAreaTop" r="textAreaRight" b="textAreaBottom"/>
            <a:pathLst>
              <a:path w="21600" h="28794">
                <a:moveTo>
                  <a:pt x="3600" y="0"/>
                </a:moveTo>
                <a:arcTo wR="3600" hR="3600" stAng="16200000" swAng="-5400000"/>
                <a:lnTo>
                  <a:pt x="0" y="25194"/>
                </a:lnTo>
                <a:arcTo wR="3600" hR="3600" stAng="10800000" swAng="-5400000"/>
                <a:lnTo>
                  <a:pt x="18000" y="28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9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9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4:08Z</dcterms:modified>
  <cp:revision>316</cp:revision>
  <dc:subject/>
  <dc:title>Posloupnosti</dc:title>
</cp:coreProperties>
</file>