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8A1D-0BC8-4267-AC53-05EEB3D0F7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062B-8781-4C02-BE6D-09919B293BB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9BD-68EE-4DA6-9D21-EBCF6F4148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B489-5387-4C0E-87BD-864137C29B9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C58-7A70-45F8-84F6-21AE7065E2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74A-60CF-43FB-BA75-E3EC693D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3E2-DDB1-4791-BD4C-7B17F733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751-7F41-4F28-9EDD-99A1C5CF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1F8-643B-4654-96D9-263C6DAF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9CC6-20D3-4DFB-8F83-F8617B2B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7382-8890-4EA0-B581-4E4D949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65AE-F330-4AD7-BDC2-71D38C63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CAEF-5B47-4D42-80DC-90720AF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2A6F-5E57-4202-8001-C62673C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30EE-79B5-4E2E-88D3-A8229FD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DB3-7625-4C34-9363-97617EF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8B7-856A-40A9-9D2B-193BCAAE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DEB9-1A9A-4EB2-BE8A-188EA89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3BA9-104C-406D-B094-CF8DEFC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2C2E-D2F2-40C4-BC7A-62FF7B3B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A701-90FA-448B-BAC3-51A771DC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751E-652A-4081-8C2B-57DA827E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405-28EC-4021-BB53-2C7C15D4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1AD-ECCD-4B6A-95FA-1BE591B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80C-C768-47D0-BF15-45044DE7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22F-3C2E-48C7-951A-A92CAACA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CBE-FB65-45A3-8CA3-CEB2ACF9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12B-294B-4770-80E4-A53C88E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B0A-8653-457B-B288-3C88D2C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2C8F-1CC5-4867-99D2-B43110B7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BB97-CBEF-4363-8B7C-F7D959FD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1090440" y="260280"/>
                <a:ext cx="3853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042920" y="1773360"/>
                <a:ext cx="3716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116000" y="3357720"/>
                <a:ext cx="3389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042920" y="5084640"/>
                <a:ext cx="3689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4210200" y="836640"/>
                <a:ext cx="4617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2266920" y="2349360"/>
                <a:ext cx="65739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 195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8000" y="3860640"/>
                <a:ext cx="40464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76360" y="6093000"/>
                <a:ext cx="7378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5" name="Text Box 5"/>
          <p:cNvSpPr/>
          <p:nvPr/>
        </p:nvSpPr>
        <p:spPr>
          <a:xfrm>
            <a:off x="630756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17264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6406920" y="5374800"/>
            <a:ext cx="144720" cy="142920"/>
            <a:chOff x="6406920" y="5374800"/>
            <a:chExt cx="144720" cy="142920"/>
          </a:xfrm>
        </p:grpSpPr>
        <p:sp>
          <p:nvSpPr>
            <p:cNvPr id="428" name="Line 8"/>
            <p:cNvSpPr/>
            <p:nvPr/>
          </p:nvSpPr>
          <p:spPr>
            <a:xfrm flipV="1">
              <a:off x="640728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H="1" flipV="1">
              <a:off x="640692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13"/>
          <p:cNvGrpSpPr/>
          <p:nvPr/>
        </p:nvGrpSpPr>
        <p:grpSpPr>
          <a:xfrm>
            <a:off x="7272000" y="5374800"/>
            <a:ext cx="144720" cy="142920"/>
            <a:chOff x="7272000" y="5374800"/>
            <a:chExt cx="144720" cy="142920"/>
          </a:xfrm>
        </p:grpSpPr>
        <p:sp>
          <p:nvSpPr>
            <p:cNvPr id="431" name="Line 14"/>
            <p:cNvSpPr/>
            <p:nvPr/>
          </p:nvSpPr>
          <p:spPr>
            <a:xfrm flipV="1">
              <a:off x="727236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 flipH="1" flipV="1">
              <a:off x="727200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255720" y="4797360"/>
            <a:ext cx="6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–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7187040" y="4795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8186400" y="5370120"/>
            <a:ext cx="144720" cy="142920"/>
            <a:chOff x="8186400" y="5370120"/>
            <a:chExt cx="144720" cy="142920"/>
          </a:xfrm>
        </p:grpSpPr>
        <p:sp>
          <p:nvSpPr>
            <p:cNvPr id="436" name="Line 8"/>
            <p:cNvSpPr/>
            <p:nvPr/>
          </p:nvSpPr>
          <p:spPr>
            <a:xfrm flipV="1">
              <a:off x="818676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 flipH="1" flipV="1">
              <a:off x="818640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042920" y="476280"/>
                <a:ext cx="4971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4"/>
          <p:cNvSpPr/>
          <p:nvPr/>
        </p:nvSpPr>
        <p:spPr>
          <a:xfrm>
            <a:off x="616140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95664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7747200" y="1414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092720" y="1341000"/>
            <a:ext cx="144720" cy="142920"/>
            <a:chOff x="7092720" y="1341000"/>
            <a:chExt cx="144720" cy="142920"/>
          </a:xfrm>
        </p:grpSpPr>
        <p:sp>
          <p:nvSpPr>
            <p:cNvPr id="443" name="Line 8"/>
            <p:cNvSpPr/>
            <p:nvPr/>
          </p:nvSpPr>
          <p:spPr>
            <a:xfrm flipV="1">
              <a:off x="70930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 flipV="1">
              <a:off x="70927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10"/>
          <p:cNvGrpSpPr/>
          <p:nvPr/>
        </p:nvGrpSpPr>
        <p:grpSpPr>
          <a:xfrm>
            <a:off x="6298920" y="1341000"/>
            <a:ext cx="144720" cy="142920"/>
            <a:chOff x="6298920" y="1341000"/>
            <a:chExt cx="144720" cy="142920"/>
          </a:xfrm>
        </p:grpSpPr>
        <p:sp>
          <p:nvSpPr>
            <p:cNvPr id="446" name="Line 11"/>
            <p:cNvSpPr/>
            <p:nvPr/>
          </p:nvSpPr>
          <p:spPr>
            <a:xfrm flipV="1">
              <a:off x="6299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 flipV="1">
              <a:off x="62989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13"/>
          <p:cNvGrpSpPr/>
          <p:nvPr/>
        </p:nvGrpSpPr>
        <p:grpSpPr>
          <a:xfrm>
            <a:off x="7883280" y="1341000"/>
            <a:ext cx="144720" cy="142920"/>
            <a:chOff x="7883280" y="1341000"/>
            <a:chExt cx="144720" cy="142920"/>
          </a:xfrm>
        </p:grpSpPr>
        <p:sp>
          <p:nvSpPr>
            <p:cNvPr id="449" name="Line 14"/>
            <p:cNvSpPr/>
            <p:nvPr/>
          </p:nvSpPr>
          <p:spPr>
            <a:xfrm flipV="1">
              <a:off x="7883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H="1" flipV="1">
              <a:off x="7883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6162840" y="76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6903000" y="7650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7696800" y="76500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042920" y="3213000"/>
                <a:ext cx="5192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971640" y="4653000"/>
                <a:ext cx="4727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0"/>
              <p:cNvSpPr txBox="1"/>
              <p:nvPr/>
            </p:nvSpPr>
            <p:spPr>
              <a:xfrm>
                <a:off x="3348000" y="1989000"/>
                <a:ext cx="5437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7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rPr>
                            <m:lit/>
                            <m:nor/>
                          </m:rPr>
                          <m:t xml:space="preserve">; 518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3995640" y="3789360"/>
                <a:ext cx="4795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3708360" y="5589720"/>
                <a:ext cx="5087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9" name="Group 7"/>
          <p:cNvGrpSpPr/>
          <p:nvPr/>
        </p:nvGrpSpPr>
        <p:grpSpPr>
          <a:xfrm>
            <a:off x="8675280" y="1341000"/>
            <a:ext cx="144720" cy="142920"/>
            <a:chOff x="8675280" y="1341000"/>
            <a:chExt cx="144720" cy="142920"/>
          </a:xfrm>
        </p:grpSpPr>
        <p:sp>
          <p:nvSpPr>
            <p:cNvPr id="460" name="Line 8"/>
            <p:cNvSpPr/>
            <p:nvPr/>
          </p:nvSpPr>
          <p:spPr>
            <a:xfrm flipV="1">
              <a:off x="8675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H="1" flipV="1">
              <a:off x="8675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96864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rekurentního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rekurent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rekurentníh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8"/>
          <p:cNvSpPr/>
          <p:nvPr/>
        </p:nvSpPr>
        <p:spPr>
          <a:xfrm>
            <a:off x="1619280" y="981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692360" y="414828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31440" y="1125360"/>
            <a:ext cx="4017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5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  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   =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=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75840" y="4221000"/>
            <a:ext cx="452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7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 = 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653080" y="313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853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 flipV="1">
            <a:off x="5938920" y="404280"/>
            <a:ext cx="144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594072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508720" y="62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53"/>
          <p:cNvSpPr/>
          <p:nvPr/>
        </p:nvSpPr>
        <p:spPr>
          <a:xfrm>
            <a:off x="701820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665964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629928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37856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773892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5867280" y="2852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5867280" y="2997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550872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5580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5445360" y="144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5364360" y="278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4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507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68677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228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58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6225840" y="2925720"/>
            <a:ext cx="144720" cy="142920"/>
            <a:chOff x="6225840" y="2925720"/>
            <a:chExt cx="144720" cy="142920"/>
          </a:xfrm>
        </p:grpSpPr>
        <p:sp>
          <p:nvSpPr>
            <p:cNvPr id="169" name="Line 74"/>
            <p:cNvSpPr/>
            <p:nvPr/>
          </p:nvSpPr>
          <p:spPr>
            <a:xfrm>
              <a:off x="622620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 flipH="1">
              <a:off x="622584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1" name="Text Box 72"/>
          <p:cNvSpPr/>
          <p:nvPr/>
        </p:nvSpPr>
        <p:spPr>
          <a:xfrm>
            <a:off x="5508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6586200" y="2781360"/>
            <a:ext cx="144720" cy="142920"/>
            <a:chOff x="6586200" y="2781360"/>
            <a:chExt cx="144720" cy="142920"/>
          </a:xfrm>
        </p:grpSpPr>
        <p:sp>
          <p:nvSpPr>
            <p:cNvPr id="173" name="Line 74"/>
            <p:cNvSpPr/>
            <p:nvPr/>
          </p:nvSpPr>
          <p:spPr>
            <a:xfrm>
              <a:off x="65865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>
              <a:off x="658620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5" name="Group 73"/>
          <p:cNvGrpSpPr/>
          <p:nvPr/>
        </p:nvGrpSpPr>
        <p:grpSpPr>
          <a:xfrm>
            <a:off x="6946560" y="2494080"/>
            <a:ext cx="144720" cy="142920"/>
            <a:chOff x="6946560" y="2494080"/>
            <a:chExt cx="144720" cy="142920"/>
          </a:xfrm>
        </p:grpSpPr>
        <p:sp>
          <p:nvSpPr>
            <p:cNvPr id="176" name="Line 74"/>
            <p:cNvSpPr/>
            <p:nvPr/>
          </p:nvSpPr>
          <p:spPr>
            <a:xfrm>
              <a:off x="694692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75"/>
            <p:cNvSpPr/>
            <p:nvPr/>
          </p:nvSpPr>
          <p:spPr>
            <a:xfrm flipH="1">
              <a:off x="694656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8" name="Group 73"/>
          <p:cNvGrpSpPr/>
          <p:nvPr/>
        </p:nvGrpSpPr>
        <p:grpSpPr>
          <a:xfrm>
            <a:off x="7306920" y="1917720"/>
            <a:ext cx="144720" cy="142920"/>
            <a:chOff x="7306920" y="191772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73072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73069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7667280" y="765000"/>
            <a:ext cx="144720" cy="142920"/>
            <a:chOff x="7667280" y="76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766764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766728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85"/>
          <p:cNvSpPr/>
          <p:nvPr/>
        </p:nvSpPr>
        <p:spPr>
          <a:xfrm>
            <a:off x="5867280" y="83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86"/>
          <p:cNvSpPr/>
          <p:nvPr/>
        </p:nvSpPr>
        <p:spPr>
          <a:xfrm>
            <a:off x="5867280" y="256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87"/>
          <p:cNvSpPr/>
          <p:nvPr/>
        </p:nvSpPr>
        <p:spPr>
          <a:xfrm>
            <a:off x="5867280" y="1989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404640"/>
                <a:ext cx="401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1042920" y="3571920"/>
                <a:ext cx="4083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Line 92"/>
          <p:cNvSpPr/>
          <p:nvPr/>
        </p:nvSpPr>
        <p:spPr>
          <a:xfrm>
            <a:off x="5653080" y="6235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3"/>
          <p:cNvSpPr/>
          <p:nvPr/>
        </p:nvSpPr>
        <p:spPr>
          <a:xfrm>
            <a:off x="8534160" y="61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5938920" y="3789360"/>
            <a:ext cx="144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551052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5508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02000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98"/>
          <p:cNvSpPr/>
          <p:nvPr/>
        </p:nvSpPr>
        <p:spPr>
          <a:xfrm>
            <a:off x="666108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99"/>
          <p:cNvSpPr/>
          <p:nvPr/>
        </p:nvSpPr>
        <p:spPr>
          <a:xfrm>
            <a:off x="630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738036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774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586584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58658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5510520" y="457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05"/>
          <p:cNvSpPr/>
          <p:nvPr/>
        </p:nvSpPr>
        <p:spPr>
          <a:xfrm>
            <a:off x="5580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06"/>
          <p:cNvSpPr/>
          <p:nvPr/>
        </p:nvSpPr>
        <p:spPr>
          <a:xfrm>
            <a:off x="5445360" y="357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7"/>
          <p:cNvSpPr/>
          <p:nvPr/>
        </p:nvSpPr>
        <p:spPr>
          <a:xfrm>
            <a:off x="550872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61470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9"/>
          <p:cNvSpPr/>
          <p:nvPr/>
        </p:nvSpPr>
        <p:spPr>
          <a:xfrm>
            <a:off x="6507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10"/>
          <p:cNvSpPr/>
          <p:nvPr/>
        </p:nvSpPr>
        <p:spPr>
          <a:xfrm>
            <a:off x="68677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1"/>
          <p:cNvSpPr/>
          <p:nvPr/>
        </p:nvSpPr>
        <p:spPr>
          <a:xfrm>
            <a:off x="722808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12"/>
          <p:cNvSpPr/>
          <p:nvPr/>
        </p:nvSpPr>
        <p:spPr>
          <a:xfrm>
            <a:off x="7597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6227640" y="5948280"/>
            <a:ext cx="144720" cy="142920"/>
            <a:chOff x="6227640" y="594828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3" name="Text Box 116"/>
          <p:cNvSpPr/>
          <p:nvPr/>
        </p:nvSpPr>
        <p:spPr>
          <a:xfrm>
            <a:off x="5510520" y="494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4" name="Group 73"/>
          <p:cNvGrpSpPr/>
          <p:nvPr/>
        </p:nvGrpSpPr>
        <p:grpSpPr>
          <a:xfrm>
            <a:off x="6588000" y="5516640"/>
            <a:ext cx="144720" cy="142920"/>
            <a:chOff x="6588000" y="5516640"/>
            <a:chExt cx="144720" cy="142920"/>
          </a:xfrm>
        </p:grpSpPr>
        <p:sp>
          <p:nvSpPr>
            <p:cNvPr id="215" name="Line 74"/>
            <p:cNvSpPr/>
            <p:nvPr/>
          </p:nvSpPr>
          <p:spPr>
            <a:xfrm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75"/>
            <p:cNvSpPr/>
            <p:nvPr/>
          </p:nvSpPr>
          <p:spPr>
            <a:xfrm flipH="1"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73"/>
          <p:cNvGrpSpPr/>
          <p:nvPr/>
        </p:nvGrpSpPr>
        <p:grpSpPr>
          <a:xfrm>
            <a:off x="6948360" y="5084640"/>
            <a:ext cx="144720" cy="142920"/>
            <a:chOff x="6948360" y="5084640"/>
            <a:chExt cx="144720" cy="142920"/>
          </a:xfrm>
        </p:grpSpPr>
        <p:sp>
          <p:nvSpPr>
            <p:cNvPr id="218" name="Line 74"/>
            <p:cNvSpPr/>
            <p:nvPr/>
          </p:nvSpPr>
          <p:spPr>
            <a:xfrm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75"/>
            <p:cNvSpPr/>
            <p:nvPr/>
          </p:nvSpPr>
          <p:spPr>
            <a:xfrm flipH="1"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0" name="Group 73"/>
          <p:cNvGrpSpPr/>
          <p:nvPr/>
        </p:nvGrpSpPr>
        <p:grpSpPr>
          <a:xfrm>
            <a:off x="7308720" y="4653000"/>
            <a:ext cx="144720" cy="142920"/>
            <a:chOff x="7308720" y="4653000"/>
            <a:chExt cx="144720" cy="142920"/>
          </a:xfrm>
        </p:grpSpPr>
        <p:sp>
          <p:nvSpPr>
            <p:cNvPr id="221" name="Line 74"/>
            <p:cNvSpPr/>
            <p:nvPr/>
          </p:nvSpPr>
          <p:spPr>
            <a:xfrm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75"/>
            <p:cNvSpPr/>
            <p:nvPr/>
          </p:nvSpPr>
          <p:spPr>
            <a:xfrm flipH="1"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7667280" y="4221000"/>
            <a:ext cx="144720" cy="142920"/>
            <a:chOff x="7667280" y="4221000"/>
            <a:chExt cx="144720" cy="142920"/>
          </a:xfrm>
        </p:grpSpPr>
        <p:sp>
          <p:nvSpPr>
            <p:cNvPr id="224" name="Line 74"/>
            <p:cNvSpPr/>
            <p:nvPr/>
          </p:nvSpPr>
          <p:spPr>
            <a:xfrm>
              <a:off x="7667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>
              <a:off x="76672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129"/>
          <p:cNvSpPr/>
          <p:nvPr/>
        </p:nvSpPr>
        <p:spPr>
          <a:xfrm>
            <a:off x="5865840" y="602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30"/>
          <p:cNvSpPr/>
          <p:nvPr/>
        </p:nvSpPr>
        <p:spPr>
          <a:xfrm>
            <a:off x="586584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31"/>
          <p:cNvSpPr/>
          <p:nvPr/>
        </p:nvSpPr>
        <p:spPr>
          <a:xfrm>
            <a:off x="586584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8"/>
          <p:cNvSpPr/>
          <p:nvPr/>
        </p:nvSpPr>
        <p:spPr>
          <a:xfrm>
            <a:off x="1476360" y="98100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1547640" y="422100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58920" y="1052640"/>
            <a:ext cx="439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25  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)  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    = –1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6) = 6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350000" y="4365720"/>
            <a:ext cx="34797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10–4 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6–4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2–4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–2–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5940360" y="5734080"/>
            <a:ext cx="2879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853416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50"/>
          <p:cNvSpPr/>
          <p:nvPr/>
        </p:nvSpPr>
        <p:spPr>
          <a:xfrm flipV="1">
            <a:off x="6227640" y="3809880"/>
            <a:ext cx="0" cy="295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5724720" y="5824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5719680" y="40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53"/>
          <p:cNvSpPr/>
          <p:nvPr/>
        </p:nvSpPr>
        <p:spPr>
          <a:xfrm>
            <a:off x="730728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54"/>
          <p:cNvSpPr/>
          <p:nvPr/>
        </p:nvSpPr>
        <p:spPr>
          <a:xfrm>
            <a:off x="6946920" y="5680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55"/>
          <p:cNvSpPr/>
          <p:nvPr/>
        </p:nvSpPr>
        <p:spPr>
          <a:xfrm>
            <a:off x="658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56"/>
          <p:cNvSpPr/>
          <p:nvPr/>
        </p:nvSpPr>
        <p:spPr>
          <a:xfrm>
            <a:off x="766764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802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6154560" y="48895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9"/>
          <p:cNvSpPr/>
          <p:nvPr/>
        </p:nvSpPr>
        <p:spPr>
          <a:xfrm>
            <a:off x="6154560" y="6041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60"/>
          <p:cNvSpPr/>
          <p:nvPr/>
        </p:nvSpPr>
        <p:spPr>
          <a:xfrm>
            <a:off x="5797800" y="467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7330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565344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64454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680580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716616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752652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78962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6514920" y="4240080"/>
            <a:ext cx="144720" cy="142920"/>
            <a:chOff x="6514920" y="424008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651528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651492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Text Box 72"/>
          <p:cNvSpPr/>
          <p:nvPr/>
        </p:nvSpPr>
        <p:spPr>
          <a:xfrm>
            <a:off x="5797800" y="524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Group 73"/>
          <p:cNvGrpSpPr/>
          <p:nvPr/>
        </p:nvGrpSpPr>
        <p:grpSpPr>
          <a:xfrm>
            <a:off x="6875280" y="4816440"/>
            <a:ext cx="144720" cy="142920"/>
            <a:chOff x="6875280" y="481644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687564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687528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7235640" y="5392800"/>
            <a:ext cx="144720" cy="142920"/>
            <a:chOff x="7235640" y="539280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723600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723564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3"/>
          <p:cNvGrpSpPr/>
          <p:nvPr/>
        </p:nvGrpSpPr>
        <p:grpSpPr>
          <a:xfrm>
            <a:off x="7596000" y="5969160"/>
            <a:ext cx="144720" cy="142560"/>
            <a:chOff x="7596000" y="5969160"/>
            <a:chExt cx="144720" cy="142560"/>
          </a:xfrm>
        </p:grpSpPr>
        <p:sp>
          <p:nvSpPr>
            <p:cNvPr id="264" name="Line 74"/>
            <p:cNvSpPr/>
            <p:nvPr/>
          </p:nvSpPr>
          <p:spPr>
            <a:xfrm>
              <a:off x="759636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75"/>
            <p:cNvSpPr/>
            <p:nvPr/>
          </p:nvSpPr>
          <p:spPr>
            <a:xfrm flipH="1">
              <a:off x="759600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6" name="Group 73"/>
          <p:cNvGrpSpPr/>
          <p:nvPr/>
        </p:nvGrpSpPr>
        <p:grpSpPr>
          <a:xfrm>
            <a:off x="7954560" y="6545160"/>
            <a:ext cx="144720" cy="142920"/>
            <a:chOff x="7954560" y="654516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795492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795456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85"/>
          <p:cNvSpPr/>
          <p:nvPr/>
        </p:nvSpPr>
        <p:spPr>
          <a:xfrm>
            <a:off x="6154560" y="66182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86"/>
          <p:cNvSpPr/>
          <p:nvPr/>
        </p:nvSpPr>
        <p:spPr>
          <a:xfrm>
            <a:off x="6154560" y="5465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87"/>
          <p:cNvSpPr/>
          <p:nvPr/>
        </p:nvSpPr>
        <p:spPr>
          <a:xfrm>
            <a:off x="6153120" y="4313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971640" y="404640"/>
                <a:ext cx="4441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Text Box 129"/>
          <p:cNvSpPr/>
          <p:nvPr/>
        </p:nvSpPr>
        <p:spPr>
          <a:xfrm>
            <a:off x="8605800" y="230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30"/>
          <p:cNvSpPr/>
          <p:nvPr/>
        </p:nvSpPr>
        <p:spPr>
          <a:xfrm>
            <a:off x="5726160" y="2303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1"/>
          <p:cNvSpPr/>
          <p:nvPr/>
        </p:nvSpPr>
        <p:spPr>
          <a:xfrm>
            <a:off x="730872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32"/>
          <p:cNvSpPr/>
          <p:nvPr/>
        </p:nvSpPr>
        <p:spPr>
          <a:xfrm>
            <a:off x="695016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33"/>
          <p:cNvSpPr/>
          <p:nvPr/>
        </p:nvSpPr>
        <p:spPr>
          <a:xfrm>
            <a:off x="658980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34"/>
          <p:cNvSpPr/>
          <p:nvPr/>
        </p:nvSpPr>
        <p:spPr>
          <a:xfrm>
            <a:off x="766908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35"/>
          <p:cNvSpPr/>
          <p:nvPr/>
        </p:nvSpPr>
        <p:spPr>
          <a:xfrm>
            <a:off x="802944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3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10160" y="30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643572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39"/>
          <p:cNvSpPr/>
          <p:nvPr/>
        </p:nvSpPr>
        <p:spPr>
          <a:xfrm>
            <a:off x="68058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71661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41"/>
          <p:cNvSpPr/>
          <p:nvPr/>
        </p:nvSpPr>
        <p:spPr>
          <a:xfrm>
            <a:off x="75153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787428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73"/>
          <p:cNvGrpSpPr/>
          <p:nvPr/>
        </p:nvGrpSpPr>
        <p:grpSpPr>
          <a:xfrm>
            <a:off x="6516360" y="2232000"/>
            <a:ext cx="144720" cy="142920"/>
            <a:chOff x="6516360" y="223200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651672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651636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146"/>
          <p:cNvSpPr/>
          <p:nvPr/>
        </p:nvSpPr>
        <p:spPr>
          <a:xfrm>
            <a:off x="5548320" y="201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2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73"/>
          <p:cNvGrpSpPr/>
          <p:nvPr/>
        </p:nvGrpSpPr>
        <p:grpSpPr>
          <a:xfrm>
            <a:off x="6876720" y="2448000"/>
            <a:ext cx="144720" cy="142920"/>
            <a:chOff x="6876720" y="2448000"/>
            <a:chExt cx="144720" cy="142920"/>
          </a:xfrm>
        </p:grpSpPr>
        <p:sp>
          <p:nvSpPr>
            <p:cNvPr id="292" name="Line 74"/>
            <p:cNvSpPr/>
            <p:nvPr/>
          </p:nvSpPr>
          <p:spPr>
            <a:xfrm>
              <a:off x="687708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75"/>
            <p:cNvSpPr/>
            <p:nvPr/>
          </p:nvSpPr>
          <p:spPr>
            <a:xfrm flipH="1">
              <a:off x="687672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3"/>
          <p:cNvGrpSpPr/>
          <p:nvPr/>
        </p:nvGrpSpPr>
        <p:grpSpPr>
          <a:xfrm>
            <a:off x="7237080" y="1871640"/>
            <a:ext cx="144720" cy="142920"/>
            <a:chOff x="7237080" y="1871640"/>
            <a:chExt cx="144720" cy="142920"/>
          </a:xfrm>
        </p:grpSpPr>
        <p:sp>
          <p:nvSpPr>
            <p:cNvPr id="295" name="Line 74"/>
            <p:cNvSpPr/>
            <p:nvPr/>
          </p:nvSpPr>
          <p:spPr>
            <a:xfrm>
              <a:off x="723744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 flipH="1">
              <a:off x="723708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7" name="Group 73"/>
          <p:cNvGrpSpPr/>
          <p:nvPr/>
        </p:nvGrpSpPr>
        <p:grpSpPr>
          <a:xfrm>
            <a:off x="7596000" y="3168720"/>
            <a:ext cx="144720" cy="142920"/>
            <a:chOff x="7596000" y="316872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759636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759600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7956360" y="576360"/>
            <a:ext cx="144720" cy="142920"/>
            <a:chOff x="7956360" y="57636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795672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795636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Rectangle 159"/>
          <p:cNvSpPr/>
          <p:nvPr/>
        </p:nvSpPr>
        <p:spPr>
          <a:xfrm>
            <a:off x="5870880" y="172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160"/>
          <p:cNvSpPr/>
          <p:nvPr/>
        </p:nvSpPr>
        <p:spPr>
          <a:xfrm>
            <a:off x="5940360" y="2376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61"/>
          <p:cNvSpPr/>
          <p:nvPr/>
        </p:nvSpPr>
        <p:spPr>
          <a:xfrm>
            <a:off x="6227640" y="26028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162"/>
          <p:cNvSpPr/>
          <p:nvPr/>
        </p:nvSpPr>
        <p:spPr>
          <a:xfrm>
            <a:off x="6156360" y="647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163"/>
          <p:cNvSpPr/>
          <p:nvPr/>
        </p:nvSpPr>
        <p:spPr>
          <a:xfrm>
            <a:off x="6156360" y="2303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64"/>
          <p:cNvSpPr/>
          <p:nvPr/>
        </p:nvSpPr>
        <p:spPr>
          <a:xfrm>
            <a:off x="6156360" y="2519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65"/>
          <p:cNvSpPr/>
          <p:nvPr/>
        </p:nvSpPr>
        <p:spPr>
          <a:xfrm>
            <a:off x="6156360" y="1944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66"/>
          <p:cNvSpPr/>
          <p:nvPr/>
        </p:nvSpPr>
        <p:spPr>
          <a:xfrm>
            <a:off x="6156360" y="3240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167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900000" y="3645000"/>
                <a:ext cx="4278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prvních dese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1719360" y="14112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116000" y="907920"/>
                <a:ext cx="3686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735360" y="1484280"/>
                <a:ext cx="1641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5462640" y="1484280"/>
                <a:ext cx="1123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6759720" y="1484280"/>
                <a:ext cx="49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3735360" y="1987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462640" y="1987560"/>
                <a:ext cx="966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6759720" y="1987560"/>
                <a:ext cx="49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"/>
              <p:cNvSpPr txBox="1"/>
              <p:nvPr/>
            </p:nvSpPr>
            <p:spPr>
              <a:xfrm>
                <a:off x="3708360" y="6093000"/>
                <a:ext cx="51735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;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54; 5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735360" y="2492280"/>
                <a:ext cx="1666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5462640" y="2492280"/>
                <a:ext cx="9684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6759720" y="2492280"/>
                <a:ext cx="492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735360" y="2995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5462640" y="2995560"/>
                <a:ext cx="1096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759720" y="2995560"/>
                <a:ext cx="626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3735360" y="3500280"/>
                <a:ext cx="1666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62640" y="350028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6759720" y="3500280"/>
                <a:ext cx="649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735360" y="4003560"/>
                <a:ext cx="1668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462640" y="400356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6759720" y="4003560"/>
                <a:ext cx="65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3735360" y="4508640"/>
                <a:ext cx="1666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462640" y="4508640"/>
                <a:ext cx="1252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6759720" y="4508640"/>
                <a:ext cx="78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3735360" y="5011560"/>
                <a:ext cx="1665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462640" y="5011560"/>
                <a:ext cx="1281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6759720" y="5011560"/>
                <a:ext cx="811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3708360" y="5589720"/>
                <a:ext cx="174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5462640" y="5516640"/>
                <a:ext cx="12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6759720" y="5516640"/>
                <a:ext cx="809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8"/>
          <p:cNvSpPr/>
          <p:nvPr/>
        </p:nvSpPr>
        <p:spPr>
          <a:xfrm>
            <a:off x="1547640" y="126828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001880" y="260280"/>
                <a:ext cx="3251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419640" y="1413000"/>
                <a:ext cx="11905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643280" y="1413000"/>
                <a:ext cx="74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5435640" y="1413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419640" y="220500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4699080" y="2205000"/>
                <a:ext cx="87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562720" y="2205000"/>
                <a:ext cx="515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6138720" y="2205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3419640" y="3357720"/>
                <a:ext cx="13032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4699080" y="3359160"/>
                <a:ext cx="876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5562720" y="335916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138720" y="335916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3419640" y="451152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714920" y="451008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5580000" y="451008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154560" y="451008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4500720" y="5661000"/>
                <a:ext cx="4485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8"/>
          <p:cNvSpPr/>
          <p:nvPr/>
        </p:nvSpPr>
        <p:spPr>
          <a:xfrm>
            <a:off x="1403280" y="1197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900000" y="189000"/>
                <a:ext cx="32497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3348000" y="1125360"/>
                <a:ext cx="1190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4549680" y="1125360"/>
                <a:ext cx="7873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5375160" y="1125360"/>
                <a:ext cx="449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325680" y="191772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4605480" y="1917720"/>
                <a:ext cx="853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5470560" y="2133720"/>
                <a:ext cx="763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6262560" y="2133720"/>
                <a:ext cx="584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3325680" y="2997360"/>
                <a:ext cx="12812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4622760" y="2997360"/>
                <a:ext cx="101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702400" y="2997360"/>
                <a:ext cx="83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566040" y="2997360"/>
                <a:ext cx="47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324240" y="378936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621320" y="378936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5484960" y="378936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6421320" y="3789360"/>
                <a:ext cx="6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3268800" y="4869000"/>
                <a:ext cx="1280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49680" y="4870440"/>
                <a:ext cx="10558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5645160" y="486900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6581880" y="4869000"/>
                <a:ext cx="58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3745080" y="5889600"/>
                <a:ext cx="5398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8"/>
          <p:cNvSpPr/>
          <p:nvPr/>
        </p:nvSpPr>
        <p:spPr>
          <a:xfrm>
            <a:off x="1619280" y="105264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952560" y="476280"/>
                <a:ext cx="4862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4"/>
          <p:cNvSpPr/>
          <p:nvPr/>
        </p:nvSpPr>
        <p:spPr>
          <a:xfrm>
            <a:off x="630576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17120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03628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7235640" y="1053720"/>
            <a:ext cx="144720" cy="142920"/>
            <a:chOff x="7235640" y="1053720"/>
            <a:chExt cx="144720" cy="142920"/>
          </a:xfrm>
        </p:grpSpPr>
        <p:sp>
          <p:nvSpPr>
            <p:cNvPr id="390" name="Line 8"/>
            <p:cNvSpPr/>
            <p:nvPr/>
          </p:nvSpPr>
          <p:spPr>
            <a:xfrm flipV="1">
              <a:off x="723600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 flipV="1">
              <a:off x="723564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10"/>
          <p:cNvGrpSpPr/>
          <p:nvPr/>
        </p:nvGrpSpPr>
        <p:grpSpPr>
          <a:xfrm>
            <a:off x="6370560" y="1053720"/>
            <a:ext cx="144720" cy="142920"/>
            <a:chOff x="6370560" y="1053720"/>
            <a:chExt cx="144720" cy="142920"/>
          </a:xfrm>
        </p:grpSpPr>
        <p:sp>
          <p:nvSpPr>
            <p:cNvPr id="393" name="Line 11"/>
            <p:cNvSpPr/>
            <p:nvPr/>
          </p:nvSpPr>
          <p:spPr>
            <a:xfrm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8100720" y="1053720"/>
            <a:ext cx="144720" cy="142920"/>
            <a:chOff x="8100720" y="1053720"/>
            <a:chExt cx="144720" cy="142920"/>
          </a:xfrm>
        </p:grpSpPr>
        <p:sp>
          <p:nvSpPr>
            <p:cNvPr id="396" name="Line 14"/>
            <p:cNvSpPr/>
            <p:nvPr/>
          </p:nvSpPr>
          <p:spPr>
            <a:xfrm flipV="1">
              <a:off x="810108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H="1" flipV="1">
              <a:off x="810072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6235920" y="404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7045560" y="404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7914240" y="40464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1822320" y="1341360"/>
                <a:ext cx="1665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564000" y="1413000"/>
                <a:ext cx="87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584600" y="1413000"/>
                <a:ext cx="519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835280" y="206064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3564000" y="2133720"/>
                <a:ext cx="927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584600" y="213372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16200" y="279576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564000" y="2852640"/>
                <a:ext cx="1146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81520" y="286704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1763640" y="5400720"/>
                <a:ext cx="489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0;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828800" y="3516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557520" y="3587760"/>
                <a:ext cx="1527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5070600" y="3587760"/>
                <a:ext cx="5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1828800" y="4308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557520" y="4379760"/>
                <a:ext cx="1365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4925880" y="4379760"/>
                <a:ext cx="436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42Z</dcterms:modified>
  <cp:revision>307</cp:revision>
  <dc:subject/>
  <dc:title>Posloupnosti</dc:title>
</cp:coreProperties>
</file>