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ACD2-00A1-4754-8A4E-5D6F2CAFA8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2B1A-B721-49CE-AA0A-B027C2F89C4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6EE6-8F9F-4FE0-9ECF-E770A5C877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FB47-2C62-42BE-A298-F1D63923825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9F6B-6400-44E6-A6A8-EC6CAAA8B9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BC7-B42D-49B7-8755-9941FEAF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D89-B6B1-428E-BE4E-2147AB4C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872-FC16-4829-B7B3-AA59EBFB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E82-FEE8-4A65-B596-58E01829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DC66-217C-4B47-B576-0437D918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AA9F-4353-447F-BADC-883FB36E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1D8E-1750-4F32-9B4E-AC2F662E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D413-CD60-468A-98D7-E3FD379A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3F55-6C19-4EE1-BDD8-C2F4E386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7DD0-C85F-4038-9A56-10F11F7B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C7C7-8A68-423A-8557-093F6032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456-A8E2-4F0F-B614-E1C28507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D22E-ED6D-409B-993C-01178EE7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3E94-4C37-4173-A10F-1271EBBA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E9A1-31C9-4490-9D3E-9B43906D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4F2C-FFB6-4B51-9979-9A9AFF66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0CAF-8A7A-463A-BFD1-475093E1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417-310E-4193-B011-40355510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4DF-4C91-4834-9828-04E29B6E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97E-01CC-4C5B-9F0D-9A2C07C1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F70-BA4A-458B-9B07-E501F4DF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E135-AD64-4F3C-A63C-D4A2299D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643-AE78-4ADD-B21F-98907F3B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70D-85B9-446F-9B80-D24BAB10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E9EB-A86B-41FE-A22F-89AF01776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0119-7869-4C67-8011-CE0559682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187280" y="155736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1; b) 3                                             členy posloupnosti                 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5027760" y="2637000"/>
                <a:ext cx="183348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1116000" y="260280"/>
                <a:ext cx="1801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Line 3"/>
          <p:cNvSpPr/>
          <p:nvPr/>
        </p:nvSpPr>
        <p:spPr>
          <a:xfrm>
            <a:off x="1619280" y="907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6918480" y="233676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3924360" y="3573360"/>
                <a:ext cx="2422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5221440" y="4797360"/>
                <a:ext cx="186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5437080" y="5516640"/>
                <a:ext cx="11462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8"/>
              <p:cNvSpPr txBox="1"/>
              <p:nvPr/>
            </p:nvSpPr>
            <p:spPr>
              <a:xfrm>
                <a:off x="6372360" y="2060640"/>
                <a:ext cx="753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9"/>
              <p:cNvSpPr txBox="1"/>
              <p:nvPr/>
            </p:nvSpPr>
            <p:spPr>
              <a:xfrm>
                <a:off x="6805440" y="5516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Text Box 10"/>
          <p:cNvSpPr/>
          <p:nvPr/>
        </p:nvSpPr>
        <p:spPr>
          <a:xfrm>
            <a:off x="1611000" y="602136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3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1"/>
              <p:cNvSpPr txBox="1"/>
              <p:nvPr/>
            </p:nvSpPr>
            <p:spPr>
              <a:xfrm>
                <a:off x="1187280" y="3789360"/>
                <a:ext cx="1899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6775560" y="554688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5"/>
              <p:cNvSpPr txBox="1"/>
              <p:nvPr/>
            </p:nvSpPr>
            <p:spPr>
              <a:xfrm>
                <a:off x="5076720" y="1413000"/>
                <a:ext cx="1638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6"/>
              <p:cNvSpPr txBox="1"/>
              <p:nvPr/>
            </p:nvSpPr>
            <p:spPr>
              <a:xfrm>
                <a:off x="5292720" y="2060640"/>
                <a:ext cx="851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Text Box 17"/>
          <p:cNvSpPr/>
          <p:nvPr/>
        </p:nvSpPr>
        <p:spPr>
          <a:xfrm>
            <a:off x="1468080" y="256536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1 je 1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780000" y="189000"/>
                <a:ext cx="23558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Line 3"/>
          <p:cNvSpPr/>
          <p:nvPr/>
        </p:nvSpPr>
        <p:spPr>
          <a:xfrm>
            <a:off x="1763640" y="443880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5 079; b) – 53                                              členy posloupnosti    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4932360" y="2060640"/>
                <a:ext cx="25765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0" name="Text Box 17"/>
          <p:cNvSpPr/>
          <p:nvPr/>
        </p:nvSpPr>
        <p:spPr>
          <a:xfrm>
            <a:off x="2124000" y="350028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5 079 je 41. členem dané posloupnosti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2124000" y="429264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– 53 není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20; b) – 4                                              členy posloupnosti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4932360" y="1773360"/>
                <a:ext cx="180648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4" name="Text Box 17"/>
          <p:cNvSpPr/>
          <p:nvPr/>
        </p:nvSpPr>
        <p:spPr>
          <a:xfrm>
            <a:off x="2484360" y="3645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20 není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2484360" y="4437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– 4 je 28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5; b) 17                                               členy posloupnosti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5"/>
              <p:cNvSpPr txBox="1"/>
              <p:nvPr/>
            </p:nvSpPr>
            <p:spPr>
              <a:xfrm>
                <a:off x="4932360" y="1773360"/>
                <a:ext cx="217476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8" name="Text Box 17"/>
          <p:cNvSpPr/>
          <p:nvPr/>
        </p:nvSpPr>
        <p:spPr>
          <a:xfrm>
            <a:off x="2484360" y="3645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5 je 21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2484360" y="4437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17 je 3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916280"/>
          <a:ext cx="7417080" cy="3663720"/>
        </p:xfrm>
        <a:graphic>
          <a:graphicData uri="http://schemas.openxmlformats.org/drawingml/2006/table">
            <a:tbl>
              <a:tblPr/>
              <a:tblGrid>
                <a:gridCol w="318456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zorce pro n-tý člen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řadí členů 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557360"/>
            <a:ext cx="795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500; b) 223                                     členy posloupnosti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– 7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4365720"/>
            <a:ext cx="795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41360" indent="-442800">
              <a:lnSpc>
                <a:spcPct val="110000"/>
              </a:lnSpc>
              <a:spcBef>
                <a:spcPts val="35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5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– 7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341360" indent="-44280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je dané číslo členem posloupnost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nalezneme jeho pořadí, tudíž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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n-tý čle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1187280" y="260280"/>
                <a:ext cx="2259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3"/>
          <p:cNvSpPr/>
          <p:nvPr/>
        </p:nvSpPr>
        <p:spPr>
          <a:xfrm>
            <a:off x="1619280" y="907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918480" y="233676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4284720" y="260280"/>
                <a:ext cx="301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5796000" y="907920"/>
                <a:ext cx="150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6012000" y="1484280"/>
                <a:ext cx="13762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8244000" y="4941720"/>
                <a:ext cx="7538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7524720" y="177336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Text Box 10"/>
          <p:cNvSpPr/>
          <p:nvPr/>
        </p:nvSpPr>
        <p:spPr>
          <a:xfrm>
            <a:off x="1683000" y="249228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500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1187280" y="3500280"/>
                <a:ext cx="2292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Line 12"/>
          <p:cNvSpPr/>
          <p:nvPr/>
        </p:nvSpPr>
        <p:spPr>
          <a:xfrm>
            <a:off x="1619280" y="41180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3"/>
              <p:cNvSpPr txBox="1"/>
              <p:nvPr/>
            </p:nvSpPr>
            <p:spPr>
              <a:xfrm>
                <a:off x="6918480" y="554688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4"/>
              <p:cNvSpPr txBox="1"/>
              <p:nvPr/>
            </p:nvSpPr>
            <p:spPr>
              <a:xfrm>
                <a:off x="4284720" y="3470400"/>
                <a:ext cx="301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5"/>
              <p:cNvSpPr txBox="1"/>
              <p:nvPr/>
            </p:nvSpPr>
            <p:spPr>
              <a:xfrm>
                <a:off x="5796000" y="4149720"/>
                <a:ext cx="150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6"/>
              <p:cNvSpPr txBox="1"/>
              <p:nvPr/>
            </p:nvSpPr>
            <p:spPr>
              <a:xfrm>
                <a:off x="6012000" y="4653000"/>
                <a:ext cx="21952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17"/>
          <p:cNvSpPr/>
          <p:nvPr/>
        </p:nvSpPr>
        <p:spPr>
          <a:xfrm>
            <a:off x="1609560" y="587700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23 je 46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1187280" y="1557360"/>
            <a:ext cx="79567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289; b) 223; c) 361; d) 1 000               členy posloupnosti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+ 2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 +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1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1187280" y="333360"/>
                <a:ext cx="2259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Line 3"/>
          <p:cNvSpPr/>
          <p:nvPr/>
        </p:nvSpPr>
        <p:spPr>
          <a:xfrm>
            <a:off x="1619280" y="981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4325760" y="3274920"/>
                <a:ext cx="2034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1692360" y="1125360"/>
                <a:ext cx="3765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2195640" y="1846440"/>
                <a:ext cx="28810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5292720" y="2494080"/>
                <a:ext cx="2597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8"/>
              <p:cNvSpPr txBox="1"/>
              <p:nvPr/>
            </p:nvSpPr>
            <p:spPr>
              <a:xfrm>
                <a:off x="2195640" y="3718080"/>
                <a:ext cx="2358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7885080" y="357336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8172360" y="458136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11"/>
          <p:cNvSpPr/>
          <p:nvPr/>
        </p:nvSpPr>
        <p:spPr>
          <a:xfrm>
            <a:off x="1682640" y="58053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89 je 16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4500720" y="3286080"/>
                <a:ext cx="26208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7093080" y="3573360"/>
                <a:ext cx="7855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7093080" y="4581360"/>
                <a:ext cx="10141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7885080" y="2565360"/>
                <a:ext cx="10540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187280" y="404640"/>
                <a:ext cx="2291040" cy="6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Line 3"/>
          <p:cNvSpPr/>
          <p:nvPr/>
        </p:nvSpPr>
        <p:spPr>
          <a:xfrm>
            <a:off x="1635120" y="10526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4341960" y="334656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1708200" y="1197000"/>
                <a:ext cx="3765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211480" y="1917720"/>
                <a:ext cx="28810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5164200" y="2637000"/>
                <a:ext cx="2717640" cy="51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2139840" y="3573360"/>
                <a:ext cx="278316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9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5524560" y="4005360"/>
                <a:ext cx="1508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11"/>
          <p:cNvSpPr/>
          <p:nvPr/>
        </p:nvSpPr>
        <p:spPr>
          <a:xfrm>
            <a:off x="1322640" y="580536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23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7827840" y="2709720"/>
                <a:ext cx="8780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AutoShape 14"/>
          <p:cNvSpPr/>
          <p:nvPr/>
        </p:nvSpPr>
        <p:spPr>
          <a:xfrm>
            <a:off x="3940200" y="3573360"/>
            <a:ext cx="934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723120" y="3213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ení celé číslo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6"/>
          <p:cNvSpPr/>
          <p:nvPr/>
        </p:nvSpPr>
        <p:spPr>
          <a:xfrm>
            <a:off x="3075120" y="3213000"/>
            <a:ext cx="2449440" cy="187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plné kvadratické rovnice můžete řešit</a:t>
            </a:r>
            <a:br>
              <a:rPr sz="2800"/>
            </a:b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ždy pomocí vzorce s diskriminantem (a,b),</a:t>
            </a:r>
            <a:br>
              <a:rPr sz="2800"/>
            </a:b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e pro zajímavost uvádím i jinou možnost řešení (c,d)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987480" y="1628640"/>
                <a:ext cx="2225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Line 3"/>
          <p:cNvSpPr/>
          <p:nvPr/>
        </p:nvSpPr>
        <p:spPr>
          <a:xfrm>
            <a:off x="1403280" y="22766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5"/>
              <p:cNvSpPr txBox="1"/>
              <p:nvPr/>
            </p:nvSpPr>
            <p:spPr>
              <a:xfrm>
                <a:off x="1476360" y="2276640"/>
                <a:ext cx="37321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2987640" y="2852640"/>
                <a:ext cx="22608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Text Box 7"/>
          <p:cNvSpPr/>
          <p:nvPr/>
        </p:nvSpPr>
        <p:spPr>
          <a:xfrm>
            <a:off x="1466640" y="60213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361 je 18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8"/>
              <p:cNvSpPr txBox="1"/>
              <p:nvPr/>
            </p:nvSpPr>
            <p:spPr>
              <a:xfrm>
                <a:off x="5780160" y="2820960"/>
                <a:ext cx="785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3348000" y="3573360"/>
                <a:ext cx="17049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2"/>
              <p:cNvSpPr txBox="1"/>
              <p:nvPr/>
            </p:nvSpPr>
            <p:spPr>
              <a:xfrm>
                <a:off x="7812000" y="5300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3"/>
              <p:cNvSpPr txBox="1"/>
              <p:nvPr/>
            </p:nvSpPr>
            <p:spPr>
              <a:xfrm>
                <a:off x="5364000" y="5300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Rectangle 17"/>
          <p:cNvSpPr/>
          <p:nvPr/>
        </p:nvSpPr>
        <p:spPr>
          <a:xfrm>
            <a:off x="3564000" y="407844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Rectangle 74"/>
          <p:cNvSpPr/>
          <p:nvPr/>
        </p:nvSpPr>
        <p:spPr>
          <a:xfrm>
            <a:off x="5105160" y="364644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0" name="Group 60"/>
          <p:cNvGrpSpPr/>
          <p:nvPr/>
        </p:nvGrpSpPr>
        <p:grpSpPr>
          <a:xfrm>
            <a:off x="5240160" y="4653000"/>
            <a:ext cx="3902040" cy="520560"/>
            <a:chOff x="5240160" y="4653000"/>
            <a:chExt cx="3902040" cy="520560"/>
          </a:xfrm>
        </p:grpSpPr>
        <p:sp>
          <p:nvSpPr>
            <p:cNvPr id="201" name="Line 61"/>
            <p:cNvSpPr/>
            <p:nvPr/>
          </p:nvSpPr>
          <p:spPr>
            <a:xfrm>
              <a:off x="5240160" y="4724640"/>
              <a:ext cx="37137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Text Box 62"/>
            <p:cNvSpPr/>
            <p:nvPr/>
          </p:nvSpPr>
          <p:spPr>
            <a:xfrm>
              <a:off x="8783280" y="465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3" name="Group 77"/>
          <p:cNvGrpSpPr/>
          <p:nvPr/>
        </p:nvGrpSpPr>
        <p:grpSpPr>
          <a:xfrm>
            <a:off x="6756120" y="4581360"/>
            <a:ext cx="511200" cy="757080"/>
            <a:chOff x="6756120" y="4581360"/>
            <a:chExt cx="511200" cy="757080"/>
          </a:xfrm>
        </p:grpSpPr>
        <p:sp>
          <p:nvSpPr>
            <p:cNvPr id="204" name="Line 64"/>
            <p:cNvSpPr/>
            <p:nvPr/>
          </p:nvSpPr>
          <p:spPr>
            <a:xfrm>
              <a:off x="6899040" y="45813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Text Box 65"/>
            <p:cNvSpPr/>
            <p:nvPr/>
          </p:nvSpPr>
          <p:spPr>
            <a:xfrm>
              <a:off x="6756120" y="4817880"/>
              <a:ext cx="51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6" name="Line 70"/>
          <p:cNvSpPr/>
          <p:nvPr/>
        </p:nvSpPr>
        <p:spPr>
          <a:xfrm>
            <a:off x="5673600" y="45813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71"/>
          <p:cNvSpPr/>
          <p:nvPr/>
        </p:nvSpPr>
        <p:spPr>
          <a:xfrm>
            <a:off x="5086440" y="4795920"/>
            <a:ext cx="137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Line 72"/>
          <p:cNvSpPr/>
          <p:nvPr/>
        </p:nvSpPr>
        <p:spPr>
          <a:xfrm>
            <a:off x="8123400" y="45813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3"/>
          <p:cNvSpPr/>
          <p:nvPr/>
        </p:nvSpPr>
        <p:spPr>
          <a:xfrm>
            <a:off x="7603560" y="4795920"/>
            <a:ext cx="11030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29"/>
          <p:cNvGrpSpPr/>
          <p:nvPr/>
        </p:nvGrpSpPr>
        <p:grpSpPr>
          <a:xfrm>
            <a:off x="8051400" y="4653000"/>
            <a:ext cx="144720" cy="142920"/>
            <a:chOff x="8051400" y="4653000"/>
            <a:chExt cx="144720" cy="142920"/>
          </a:xfrm>
        </p:grpSpPr>
        <p:sp>
          <p:nvSpPr>
            <p:cNvPr id="211" name="Line 30"/>
            <p:cNvSpPr/>
            <p:nvPr/>
          </p:nvSpPr>
          <p:spPr>
            <a:xfrm>
              <a:off x="80517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31"/>
            <p:cNvSpPr/>
            <p:nvPr/>
          </p:nvSpPr>
          <p:spPr>
            <a:xfrm flipH="1">
              <a:off x="805140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3" name="Group 29"/>
          <p:cNvGrpSpPr/>
          <p:nvPr/>
        </p:nvGrpSpPr>
        <p:grpSpPr>
          <a:xfrm>
            <a:off x="5601960" y="4653000"/>
            <a:ext cx="144720" cy="142920"/>
            <a:chOff x="5601960" y="4653000"/>
            <a:chExt cx="144720" cy="142920"/>
          </a:xfrm>
        </p:grpSpPr>
        <p:sp>
          <p:nvSpPr>
            <p:cNvPr id="214" name="Line 30"/>
            <p:cNvSpPr/>
            <p:nvPr/>
          </p:nvSpPr>
          <p:spPr>
            <a:xfrm>
              <a:off x="560232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 flipH="1">
              <a:off x="56019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6" name="Arc 66"/>
          <p:cNvSpPr/>
          <p:nvPr/>
        </p:nvSpPr>
        <p:spPr>
          <a:xfrm flipH="1">
            <a:off x="5673600" y="4508640"/>
            <a:ext cx="1224000" cy="220680"/>
          </a:xfrm>
          <a:custGeom>
            <a:avLst/>
            <a:gdLst/>
            <a:ahLst/>
            <a:rect l="l" t="t" r="r" b="b"/>
            <a:pathLst>
              <a:path fill="none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</a:path>
              <a:path stroke="0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  <a:lnTo>
                  <a:pt x="21208" y="21600"/>
                </a:lnTo>
                <a:lnTo>
                  <a:pt x="0" y="17502"/>
                </a:lnTo>
                <a:close/>
              </a:path>
            </a:pathLst>
          </a:custGeom>
          <a:noFill/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Arc 68"/>
          <p:cNvSpPr/>
          <p:nvPr/>
        </p:nvSpPr>
        <p:spPr>
          <a:xfrm flipH="1">
            <a:off x="6897600" y="4510080"/>
            <a:ext cx="1224000" cy="220680"/>
          </a:xfrm>
          <a:custGeom>
            <a:avLst/>
            <a:gdLst/>
            <a:ahLst/>
            <a:rect l="l" t="t" r="r" b="b"/>
            <a:pathLst>
              <a:path fill="none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</a:path>
              <a:path stroke="0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  <a:lnTo>
                  <a:pt x="21208" y="21600"/>
                </a:lnTo>
                <a:lnTo>
                  <a:pt x="0" y="17502"/>
                </a:lnTo>
                <a:close/>
              </a:path>
            </a:pathLst>
          </a:custGeom>
          <a:noFill/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1073160" y="260280"/>
                <a:ext cx="24876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Line 3"/>
          <p:cNvSpPr/>
          <p:nvPr/>
        </p:nvSpPr>
        <p:spPr>
          <a:xfrm>
            <a:off x="1619280" y="907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4349880" y="387828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1606680" y="971640"/>
                <a:ext cx="3987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078000" y="1676520"/>
                <a:ext cx="25131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Text Box 7"/>
          <p:cNvSpPr/>
          <p:nvPr/>
        </p:nvSpPr>
        <p:spPr>
          <a:xfrm>
            <a:off x="1466280" y="5445000"/>
            <a:ext cx="73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1 000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5996160" y="1668600"/>
                <a:ext cx="785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3419640" y="3357720"/>
                <a:ext cx="2411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6" name="Rectangle 17"/>
          <p:cNvSpPr/>
          <p:nvPr/>
        </p:nvSpPr>
        <p:spPr>
          <a:xfrm>
            <a:off x="3732120" y="396072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74"/>
          <p:cNvSpPr/>
          <p:nvPr/>
        </p:nvSpPr>
        <p:spPr>
          <a:xfrm>
            <a:off x="5924160" y="345744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3"/>
              <p:cNvSpPr txBox="1"/>
              <p:nvPr/>
            </p:nvSpPr>
            <p:spPr>
              <a:xfrm>
                <a:off x="6683400" y="345744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3419640" y="2492280"/>
                <a:ext cx="2444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25Z</dcterms:modified>
  <cp:revision>304</cp:revision>
  <dc:subject/>
  <dc:title>Posloupnosti</dc:title>
</cp:coreProperties>
</file>