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B58-80B8-428E-9A17-50A765CC93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889C-EDEA-43CE-BD02-7FAC16D165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AD6-8D73-4951-B86F-5881A5123F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68C-8E41-44EB-A4C5-CE71A8092C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F6C2-A4C2-45F0-85DF-C0D1251F62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62F-B008-4EE8-83DE-20D7F6F601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6B6-32B4-4EB1-AC77-5BB56A6B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3E4-22E4-4B82-9AD1-9EECF30B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36A-A075-4AB7-B751-70895E8E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55F-5ECB-4348-A731-315797EB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035F-1411-4944-BE19-88EB14A2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ABF0-A0FE-40F0-9F9D-D62C8869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AB2B-8BBC-4605-BABB-36462126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A800-DDAB-4B53-AD8E-E5E31CA6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DB76-28E5-490A-8F40-D546BCB4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53A0-E45C-48AD-A974-BD8F8B3E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FB13-A12F-4D2E-A0CD-5ED7D90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CE5-C233-42A1-A8B7-2E3BD097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268A-62A5-4D29-BEB4-56F47BC2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7B1-BF8B-40BB-A7B9-AD36741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0D0E-FB7D-43CA-B20B-B49B5410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01DA-7155-4E16-B7FE-3D87BD24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05A-DF7F-48AB-8C0A-CD8D109E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02B-9A48-4DBD-92C9-E5104FED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5DE-DCEF-4151-8A7C-6B176336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441-DE5B-49AE-98AE-5A06B33B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7D3-038C-4955-8F94-6770FF79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4E4-8539-4D5C-8F2F-B4E03248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D30-6A0E-4AB8-A0D8-55FB0A7F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4CB-0D9F-473C-8CEF-A964F9D6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8F5-3AA4-45CC-85FD-0E615CCE95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3360-BFCC-4BAF-8956-09E7B11002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 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692360" y="1773360"/>
                <a:ext cx="4787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187280" y="836640"/>
                <a:ext cx="5173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Text Box 19"/>
          <p:cNvSpPr/>
          <p:nvPr/>
        </p:nvSpPr>
        <p:spPr>
          <a:xfrm>
            <a:off x="1258920" y="1989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244680" y="1917720"/>
                <a:ext cx="4788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7164360" y="2637000"/>
                <a:ext cx="835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276720" y="2565360"/>
                <a:ext cx="1152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1" name="Group 11"/>
          <p:cNvGrpSpPr/>
          <p:nvPr/>
        </p:nvGrpSpPr>
        <p:grpSpPr>
          <a:xfrm>
            <a:off x="5364000" y="2852640"/>
            <a:ext cx="1532160" cy="1633680"/>
            <a:chOff x="5364000" y="2852640"/>
            <a:chExt cx="1532160" cy="1633680"/>
          </a:xfrm>
        </p:grpSpPr>
        <mc:AlternateContent>
          <mc:Choice xmlns:a14="http://schemas.microsoft.com/office/drawing/2010/main" Requires="a14">
            <p:sp>
              <p:nvSpPr>
                <p:cNvPr id="332" name="Object 12"/>
                <p:cNvSpPr txBox="1"/>
                <p:nvPr/>
              </p:nvSpPr>
              <p:spPr>
                <a:xfrm>
                  <a:off x="5364000" y="4149720"/>
                  <a:ext cx="17316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Oval 13"/>
            <p:cNvSpPr/>
            <p:nvPr/>
          </p:nvSpPr>
          <p:spPr>
            <a:xfrm>
              <a:off x="5383080" y="285264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34" name="Přímá spojovací šipka 40"/>
            <p:cNvCxnSpPr/>
            <p:nvPr/>
          </p:nvCxnSpPr>
          <p:spPr>
            <a:xfrm>
              <a:off x="5456160" y="2997360"/>
              <a:ext cx="144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35" name="Přímá spojovací čára 41"/>
            <p:cNvSpPr/>
            <p:nvPr/>
          </p:nvSpPr>
          <p:spPr>
            <a:xfrm>
              <a:off x="5456160" y="2997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6877080" y="10526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1692360" y="3500280"/>
                <a:ext cx="3213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1692360" y="5229360"/>
                <a:ext cx="3051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692360" y="6021360"/>
                <a:ext cx="2536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6227640" y="3789360"/>
                <a:ext cx="18957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7308720" y="4365720"/>
                <a:ext cx="1060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7237440" y="4870440"/>
                <a:ext cx="995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8244000" y="5086440"/>
                <a:ext cx="703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7237440" y="6022800"/>
                <a:ext cx="10573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5" name="AutoShape 76"/>
          <p:cNvSpPr/>
          <p:nvPr/>
        </p:nvSpPr>
        <p:spPr>
          <a:xfrm>
            <a:off x="2268360" y="5229360"/>
            <a:ext cx="10796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77"/>
          <p:cNvSpPr/>
          <p:nvPr/>
        </p:nvSpPr>
        <p:spPr>
          <a:xfrm>
            <a:off x="4211640" y="5229360"/>
            <a:ext cx="576360" cy="7189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18920"/>
              <a:gd name="textAreaBottom" fmla="*/ 690840 h 718920"/>
            </a:gdLst>
            <a:ahLst/>
            <a:rect l="textAreaLeft" t="textAreaTop" r="textAreaRight" b="textAreaBottom"/>
            <a:pathLst>
              <a:path w="21600" h="26939">
                <a:moveTo>
                  <a:pt x="3600" y="0"/>
                </a:moveTo>
                <a:arcTo wR="3600" hR="3600" stAng="16200000" swAng="-5400000"/>
                <a:lnTo>
                  <a:pt x="0" y="23339"/>
                </a:lnTo>
                <a:arcTo wR="3600" hR="3600" stAng="10800000" swAng="-5400000"/>
                <a:lnTo>
                  <a:pt x="18000" y="26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47"/>
          <p:cNvGrpSpPr/>
          <p:nvPr/>
        </p:nvGrpSpPr>
        <p:grpSpPr>
          <a:xfrm>
            <a:off x="2986200" y="3429000"/>
            <a:ext cx="3960720" cy="1079640"/>
            <a:chOff x="2986200" y="342900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4910040" y="417204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49"/>
            <p:cNvSpPr/>
            <p:nvPr/>
          </p:nvSpPr>
          <p:spPr>
            <a:xfrm>
              <a:off x="5002200" y="35737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50"/>
            <p:cNvSpPr/>
            <p:nvPr/>
          </p:nvSpPr>
          <p:spPr>
            <a:xfrm>
              <a:off x="4930920" y="3429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51"/>
            <p:cNvSpPr/>
            <p:nvPr/>
          </p:nvSpPr>
          <p:spPr>
            <a:xfrm>
              <a:off x="5002200" y="357372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52"/>
            <p:cNvSpPr/>
            <p:nvPr/>
          </p:nvSpPr>
          <p:spPr>
            <a:xfrm>
              <a:off x="2986200" y="398160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1116000" y="260280"/>
                <a:ext cx="4754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 Box 4"/>
          <p:cNvSpPr/>
          <p:nvPr/>
        </p:nvSpPr>
        <p:spPr>
          <a:xfrm>
            <a:off x="1258920" y="10526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132000" y="98100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804000" y="26028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3564000" y="836640"/>
                <a:ext cx="23144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6516720" y="5157720"/>
                <a:ext cx="70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308720" y="6021360"/>
                <a:ext cx="160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084480" y="170028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140360" y="1844640"/>
                <a:ext cx="1703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4211640" y="299556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4716360" y="3787920"/>
                <a:ext cx="1413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4788000" y="4363920"/>
                <a:ext cx="167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4788000" y="5156280"/>
                <a:ext cx="1670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916680" y="3763800"/>
                <a:ext cx="770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7" name="Group 37"/>
          <p:cNvGrpSpPr/>
          <p:nvPr/>
        </p:nvGrpSpPr>
        <p:grpSpPr>
          <a:xfrm>
            <a:off x="5219640" y="2995200"/>
            <a:ext cx="1079640" cy="792360"/>
            <a:chOff x="5219640" y="2995200"/>
            <a:chExt cx="1079640" cy="792360"/>
          </a:xfrm>
        </p:grpSpPr>
        <p:sp>
          <p:nvSpPr>
            <p:cNvPr id="368" name="Line 38"/>
            <p:cNvSpPr/>
            <p:nvPr/>
          </p:nvSpPr>
          <p:spPr>
            <a:xfrm flipV="1">
              <a:off x="5219640" y="29952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 flipH="1">
              <a:off x="5364000" y="29955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6516720" y="5734080"/>
                <a:ext cx="703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788000" y="5732640"/>
                <a:ext cx="1701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955800" y="189000"/>
                <a:ext cx="6070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 Box 3"/>
          <p:cNvSpPr/>
          <p:nvPr/>
        </p:nvSpPr>
        <p:spPr>
          <a:xfrm>
            <a:off x="1258920" y="119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132000" y="112536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380360" y="33336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318440" y="5619600"/>
                <a:ext cx="18255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084480" y="184464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221440" y="2421000"/>
                <a:ext cx="2184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067280" y="3284640"/>
                <a:ext cx="18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4316400" y="4948200"/>
                <a:ext cx="1623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4427640" y="5808600"/>
                <a:ext cx="1368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6140520" y="410220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3" name="Group 16"/>
          <p:cNvGrpSpPr/>
          <p:nvPr/>
        </p:nvGrpSpPr>
        <p:grpSpPr>
          <a:xfrm>
            <a:off x="6661080" y="2491920"/>
            <a:ext cx="1079640" cy="792360"/>
            <a:chOff x="6661080" y="2491920"/>
            <a:chExt cx="1079640" cy="792360"/>
          </a:xfrm>
        </p:grpSpPr>
        <p:sp>
          <p:nvSpPr>
            <p:cNvPr id="384" name="Line 17"/>
            <p:cNvSpPr/>
            <p:nvPr/>
          </p:nvSpPr>
          <p:spPr>
            <a:xfrm flipV="1">
              <a:off x="6661080" y="249192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H="1">
              <a:off x="6805440" y="249228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908000" y="907920"/>
                <a:ext cx="54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773440" y="1844640"/>
                <a:ext cx="4592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4067280" y="3932280"/>
                <a:ext cx="1798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Line 25"/>
          <p:cNvSpPr/>
          <p:nvPr/>
        </p:nvSpPr>
        <p:spPr>
          <a:xfrm flipV="1">
            <a:off x="6012000" y="836640"/>
            <a:ext cx="2160360" cy="5184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8172360" y="981000"/>
            <a:ext cx="216000" cy="446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187280" y="189000"/>
                <a:ext cx="2505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132000" y="1197000"/>
                <a:ext cx="3792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611760" y="244440"/>
                <a:ext cx="1663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2268360" y="1341360"/>
                <a:ext cx="180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6807240" y="5222880"/>
                <a:ext cx="179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9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1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2411280" y="3789360"/>
                <a:ext cx="2859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2411280" y="4581360"/>
                <a:ext cx="1606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919240" y="5222880"/>
                <a:ext cx="12844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4424400" y="2716200"/>
                <a:ext cx="131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1" name="Group 16"/>
          <p:cNvGrpSpPr/>
          <p:nvPr/>
        </p:nvGrpSpPr>
        <p:grpSpPr>
          <a:xfrm>
            <a:off x="3059280" y="333360"/>
            <a:ext cx="1079280" cy="792000"/>
            <a:chOff x="3059280" y="333360"/>
            <a:chExt cx="1079280" cy="792000"/>
          </a:xfrm>
        </p:grpSpPr>
        <p:sp>
          <p:nvSpPr>
            <p:cNvPr id="402" name="Line 17"/>
            <p:cNvSpPr/>
            <p:nvPr/>
          </p:nvSpPr>
          <p:spPr>
            <a:xfrm flipV="1">
              <a:off x="3059280" y="333360"/>
              <a:ext cx="1079280" cy="7920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3202920" y="333360"/>
              <a:ext cx="93492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084720" y="2060640"/>
                <a:ext cx="868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451656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Group 29"/>
          <p:cNvGrpSpPr/>
          <p:nvPr/>
        </p:nvGrpSpPr>
        <p:grpSpPr>
          <a:xfrm>
            <a:off x="2340000" y="2565360"/>
            <a:ext cx="2952720" cy="1028880"/>
            <a:chOff x="2340000" y="2565360"/>
            <a:chExt cx="2952720" cy="1028880"/>
          </a:xfrm>
        </p:grpSpPr>
        <p:sp>
          <p:nvSpPr>
            <p:cNvPr id="407" name="Line 10"/>
            <p:cNvSpPr/>
            <p:nvPr/>
          </p:nvSpPr>
          <p:spPr>
            <a:xfrm>
              <a:off x="2340000" y="3117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414972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407844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>
              <a:off x="336384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329256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9"/>
                <p:cNvSpPr txBox="1"/>
                <p:nvPr/>
              </p:nvSpPr>
              <p:spPr>
                <a:xfrm>
                  <a:off x="3076560" y="3249720"/>
                  <a:ext cx="453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9"/>
                <p:cNvSpPr txBox="1"/>
                <p:nvPr/>
              </p:nvSpPr>
              <p:spPr>
                <a:xfrm>
                  <a:off x="3875040" y="3249720"/>
                  <a:ext cx="4399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4" name="Object 9"/>
              <p:cNvSpPr txBox="1"/>
              <p:nvPr/>
            </p:nvSpPr>
            <p:spPr>
              <a:xfrm>
                <a:off x="3570120" y="26766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271620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Line 42"/>
          <p:cNvSpPr/>
          <p:nvPr/>
        </p:nvSpPr>
        <p:spPr>
          <a:xfrm>
            <a:off x="3348000" y="270828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340000" y="2492280"/>
                <a:ext cx="18320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4359240" y="5510160"/>
                <a:ext cx="1284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46"/>
          <p:cNvSpPr/>
          <p:nvPr/>
        </p:nvSpPr>
        <p:spPr>
          <a:xfrm flipV="1">
            <a:off x="5219640" y="836280"/>
            <a:ext cx="2521080" cy="4537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7740720" y="907920"/>
            <a:ext cx="216000" cy="4176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Skupina 110"/>
          <p:cNvGrpSpPr/>
          <p:nvPr/>
        </p:nvGrpSpPr>
        <p:grpSpPr>
          <a:xfrm>
            <a:off x="3995640" y="1268280"/>
            <a:ext cx="285840" cy="285840"/>
            <a:chOff x="3995640" y="1268280"/>
            <a:chExt cx="285840" cy="285840"/>
          </a:xfrm>
        </p:grpSpPr>
        <p:sp>
          <p:nvSpPr>
            <p:cNvPr id="422" name="Elipsa 109"/>
            <p:cNvSpPr/>
            <p:nvPr/>
          </p:nvSpPr>
          <p:spPr>
            <a:xfrm>
              <a:off x="3995640" y="1268280"/>
              <a:ext cx="28584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3"/>
            <p:cNvSpPr/>
            <p:nvPr/>
          </p:nvSpPr>
          <p:spPr>
            <a:xfrm>
              <a:off x="4066920" y="1411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 flipV="1">
              <a:off x="4138560" y="1339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3203640" y="29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1042920" y="260280"/>
                <a:ext cx="4784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643800" y="2444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547640" y="907920"/>
                <a:ext cx="427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7093080" y="5877000"/>
                <a:ext cx="1057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3276720" y="2563920"/>
                <a:ext cx="2923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3348000" y="3789360"/>
                <a:ext cx="1830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419640" y="4797360"/>
                <a:ext cx="2857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Group 12"/>
          <p:cNvGrpSpPr/>
          <p:nvPr/>
        </p:nvGrpSpPr>
        <p:grpSpPr>
          <a:xfrm>
            <a:off x="5076720" y="1844280"/>
            <a:ext cx="1079640" cy="792360"/>
            <a:chOff x="5076720" y="1844280"/>
            <a:chExt cx="1079640" cy="792360"/>
          </a:xfrm>
        </p:grpSpPr>
        <p:sp>
          <p:nvSpPr>
            <p:cNvPr id="435" name="Line 13"/>
            <p:cNvSpPr/>
            <p:nvPr/>
          </p:nvSpPr>
          <p:spPr>
            <a:xfrm flipV="1">
              <a:off x="5076720" y="184428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 flipH="1">
              <a:off x="5221080" y="184464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421080" y="1484280"/>
                <a:ext cx="24433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31"/>
          <p:cNvSpPr/>
          <p:nvPr/>
        </p:nvSpPr>
        <p:spPr>
          <a:xfrm flipV="1">
            <a:off x="5508720" y="836280"/>
            <a:ext cx="2158920" cy="504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32"/>
          <p:cNvSpPr/>
          <p:nvPr/>
        </p:nvSpPr>
        <p:spPr>
          <a:xfrm>
            <a:off x="7667640" y="907920"/>
            <a:ext cx="0" cy="4897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3059280" y="1341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3548160" y="206064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5506920" y="2060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Group 36"/>
          <p:cNvGrpSpPr/>
          <p:nvPr/>
        </p:nvGrpSpPr>
        <p:grpSpPr>
          <a:xfrm>
            <a:off x="5578560" y="2924280"/>
            <a:ext cx="2952720" cy="718560"/>
            <a:chOff x="5578560" y="2924280"/>
            <a:chExt cx="2952720" cy="718560"/>
          </a:xfrm>
        </p:grpSpPr>
        <p:sp>
          <p:nvSpPr>
            <p:cNvPr id="444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31664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53076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>
              <a:stCxn id="445" idx="0"/>
            </p:cNvCxnSpPr>
            <p:nvPr/>
          </p:nvCxnSpPr>
          <p:spPr>
            <a:xfrm>
              <a:off x="7388280" y="3066480"/>
              <a:ext cx="11430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50" name="Přímá spojovací šipka 170"/>
            <p:cNvCxnSpPr>
              <a:stCxn id="448" idx="4"/>
            </p:cNvCxnSpPr>
            <p:nvPr/>
          </p:nvCxnSpPr>
          <p:spPr>
            <a:xfrm flipH="1" flipV="1">
              <a:off x="5601600" y="3077280"/>
              <a:ext cx="100044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77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Group 45"/>
          <p:cNvGrpSpPr/>
          <p:nvPr/>
        </p:nvGrpSpPr>
        <p:grpSpPr>
          <a:xfrm>
            <a:off x="5578560" y="2924280"/>
            <a:ext cx="2952720" cy="1028160"/>
            <a:chOff x="5578560" y="2924280"/>
            <a:chExt cx="2952720" cy="1028160"/>
          </a:xfrm>
        </p:grpSpPr>
        <p:sp>
          <p:nvSpPr>
            <p:cNvPr id="453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731700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Oval 26"/>
            <p:cNvSpPr/>
            <p:nvPr/>
          </p:nvSpPr>
          <p:spPr>
            <a:xfrm>
              <a:off x="653112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9"/>
                <p:cNvSpPr txBox="1"/>
                <p:nvPr/>
              </p:nvSpPr>
              <p:spPr>
                <a:xfrm>
                  <a:off x="6315120" y="3609720"/>
                  <a:ext cx="453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Object 9"/>
                <p:cNvSpPr txBox="1"/>
                <p:nvPr/>
              </p:nvSpPr>
              <p:spPr>
                <a:xfrm>
                  <a:off x="7113600" y="3609720"/>
                  <a:ext cx="439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6826320" y="3121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9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Group 59"/>
          <p:cNvGrpSpPr/>
          <p:nvPr/>
        </p:nvGrpSpPr>
        <p:grpSpPr>
          <a:xfrm>
            <a:off x="7308720" y="2708280"/>
            <a:ext cx="1224000" cy="144360"/>
            <a:chOff x="7308720" y="2708280"/>
            <a:chExt cx="1224000" cy="144360"/>
          </a:xfrm>
        </p:grpSpPr>
        <p:sp>
          <p:nvSpPr>
            <p:cNvPr id="463" name="Oval 56"/>
            <p:cNvSpPr/>
            <p:nvPr/>
          </p:nvSpPr>
          <p:spPr>
            <a:xfrm>
              <a:off x="7308720" y="2708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57"/>
            <p:cNvSpPr/>
            <p:nvPr/>
          </p:nvSpPr>
          <p:spPr>
            <a:xfrm>
              <a:off x="7380360" y="285264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348000" y="5302080"/>
                <a:ext cx="1895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924360" y="5662440"/>
                <a:ext cx="1573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508720" y="4005360"/>
                <a:ext cx="1315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Skupina 110"/>
          <p:cNvGrpSpPr/>
          <p:nvPr/>
        </p:nvGrpSpPr>
        <p:grpSpPr>
          <a:xfrm>
            <a:off x="7451640" y="1916280"/>
            <a:ext cx="285840" cy="285480"/>
            <a:chOff x="7451640" y="1916280"/>
            <a:chExt cx="285840" cy="285480"/>
          </a:xfrm>
        </p:grpSpPr>
        <p:sp>
          <p:nvSpPr>
            <p:cNvPr id="469" name="Elipsa 109"/>
            <p:cNvSpPr/>
            <p:nvPr/>
          </p:nvSpPr>
          <p:spPr>
            <a:xfrm>
              <a:off x="7451640" y="191628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33"/>
            <p:cNvSpPr/>
            <p:nvPr/>
          </p:nvSpPr>
          <p:spPr>
            <a:xfrm>
              <a:off x="7522920" y="2058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4"/>
            <p:cNvSpPr/>
            <p:nvPr/>
          </p:nvSpPr>
          <p:spPr>
            <a:xfrm flipV="1">
              <a:off x="7594560" y="1987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3500280"/>
                <a:ext cx="2602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995400" y="291960"/>
                <a:ext cx="4881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,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6548400" y="244440"/>
                <a:ext cx="1792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1476360" y="836640"/>
                <a:ext cx="3343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6516720" y="5589720"/>
                <a:ext cx="173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,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2233440" y="1844640"/>
                <a:ext cx="208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1873080" y="2851200"/>
                <a:ext cx="2440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6227640" y="3645000"/>
                <a:ext cx="21463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979640" y="5589720"/>
                <a:ext cx="1028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Line 15"/>
          <p:cNvSpPr/>
          <p:nvPr/>
        </p:nvSpPr>
        <p:spPr>
          <a:xfrm flipV="1">
            <a:off x="5435640" y="907920"/>
            <a:ext cx="2016000" cy="460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451640" y="981000"/>
            <a:ext cx="0" cy="439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"/>
              <p:cNvSpPr txBox="1"/>
              <p:nvPr/>
            </p:nvSpPr>
            <p:spPr>
              <a:xfrm>
                <a:off x="3203640" y="1484280"/>
                <a:ext cx="46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3780000" y="2060640"/>
                <a:ext cx="118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843280" y="4221000"/>
                <a:ext cx="1863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8405640" y="3645000"/>
                <a:ext cx="52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4753080" y="2131920"/>
                <a:ext cx="609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50"/>
          <p:cNvGrpSpPr/>
          <p:nvPr/>
        </p:nvGrpSpPr>
        <p:grpSpPr>
          <a:xfrm>
            <a:off x="4105440" y="2924280"/>
            <a:ext cx="2298600" cy="1044360"/>
            <a:chOff x="4105440" y="2924280"/>
            <a:chExt cx="2298600" cy="1044360"/>
          </a:xfrm>
        </p:grpSpPr>
        <p:sp>
          <p:nvSpPr>
            <p:cNvPr id="490" name="Line 25"/>
            <p:cNvSpPr/>
            <p:nvPr/>
          </p:nvSpPr>
          <p:spPr>
            <a:xfrm>
              <a:off x="4316400" y="3068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4245120" y="2924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4105440" y="3618000"/>
                  <a:ext cx="34776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Line 49"/>
            <p:cNvSpPr/>
            <p:nvPr/>
          </p:nvSpPr>
          <p:spPr>
            <a:xfrm>
              <a:off x="4316400" y="3068640"/>
              <a:ext cx="2087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4" name="AutoShape 51"/>
          <p:cNvSpPr/>
          <p:nvPr/>
        </p:nvSpPr>
        <p:spPr>
          <a:xfrm>
            <a:off x="2017800" y="981000"/>
            <a:ext cx="129528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AutoShape 52"/>
          <p:cNvSpPr/>
          <p:nvPr/>
        </p:nvSpPr>
        <p:spPr>
          <a:xfrm>
            <a:off x="4249800" y="836640"/>
            <a:ext cx="576360" cy="1008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008000"/>
              <a:gd name="textAreaBottom" fmla="*/ 979920 h 1008000"/>
            </a:gdLst>
            <a:ahLst/>
            <a:rect l="textAreaLeft" t="textAreaTop" r="textAreaRight" b="textAreaBottom"/>
            <a:pathLst>
              <a:path w="21600" h="37766">
                <a:moveTo>
                  <a:pt x="3600" y="0"/>
                </a:moveTo>
                <a:arcTo wR="3600" hR="3600" stAng="16200000" swAng="-5400000"/>
                <a:lnTo>
                  <a:pt x="0" y="34166"/>
                </a:lnTo>
                <a:arcTo wR="3600" hR="3600" stAng="10800000" swAng="-5400000"/>
                <a:lnTo>
                  <a:pt x="18000" y="37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4713120" y="2924280"/>
                <a:ext cx="578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3564000" y="5373720"/>
                <a:ext cx="1960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56"/>
          <p:cNvSpPr/>
          <p:nvPr/>
        </p:nvSpPr>
        <p:spPr>
          <a:xfrm flipV="1">
            <a:off x="2916360" y="907560"/>
            <a:ext cx="4462200" cy="4681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3452400" y="3141720"/>
            <a:ext cx="2953080" cy="842760"/>
            <a:chOff x="3452400" y="3141720"/>
            <a:chExt cx="2953080" cy="842760"/>
          </a:xfrm>
        </p:grpSpPr>
        <p:sp>
          <p:nvSpPr>
            <p:cNvPr id="500" name="Line 10"/>
            <p:cNvSpPr/>
            <p:nvPr/>
          </p:nvSpPr>
          <p:spPr>
            <a:xfrm>
              <a:off x="34527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5253120" y="328464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5180040" y="3141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9"/>
                <p:cNvSpPr txBox="1"/>
                <p:nvPr/>
              </p:nvSpPr>
              <p:spPr>
                <a:xfrm>
                  <a:off x="4953240" y="3578400"/>
                  <a:ext cx="51264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Line 47"/>
            <p:cNvSpPr/>
            <p:nvPr/>
          </p:nvSpPr>
          <p:spPr>
            <a:xfrm flipH="1">
              <a:off x="3452400" y="328464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Mocnina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1189080" y="1884240"/>
                <a:ext cx="2755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3"/>
          <p:cNvSpPr/>
          <p:nvPr/>
        </p:nvSpPr>
        <p:spPr>
          <a:xfrm>
            <a:off x="1116000" y="3500280"/>
            <a:ext cx="80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námka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1174680" y="4492800"/>
                <a:ext cx="1081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Rectangle 3"/>
          <p:cNvSpPr/>
          <p:nvPr/>
        </p:nvSpPr>
        <p:spPr>
          <a:xfrm>
            <a:off x="2340000" y="4508640"/>
            <a:ext cx="68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druhá mocnina logaritmu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1116000" y="5445000"/>
                <a:ext cx="1235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Rectangle 3"/>
          <p:cNvSpPr/>
          <p:nvPr/>
        </p:nvSpPr>
        <p:spPr>
          <a:xfrm>
            <a:off x="2340000" y="5445000"/>
            <a:ext cx="68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logaritmus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3059280" y="3429000"/>
                <a:ext cx="2900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21"/>
              <p:cNvSpPr txBox="1"/>
              <p:nvPr/>
            </p:nvSpPr>
            <p:spPr>
              <a:xfrm>
                <a:off x="6372360" y="1844640"/>
                <a:ext cx="1726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21"/>
              <p:cNvSpPr txBox="1"/>
              <p:nvPr/>
            </p:nvSpPr>
            <p:spPr>
              <a:xfrm>
                <a:off x="4067280" y="1773360"/>
                <a:ext cx="2162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2"/>
          <p:cNvSpPr/>
          <p:nvPr/>
        </p:nvSpPr>
        <p:spPr>
          <a:xfrm>
            <a:off x="1116000" y="1700280"/>
            <a:ext cx="7201080" cy="100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4932360" y="3284640"/>
                <a:ext cx="1252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042920" y="189000"/>
                <a:ext cx="4206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8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6227640" y="333360"/>
                <a:ext cx="2656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219640" y="1052640"/>
                <a:ext cx="2862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516720" y="5877000"/>
                <a:ext cx="2403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3130560" y="3139920"/>
                <a:ext cx="1670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922560" y="4653000"/>
                <a:ext cx="1284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24" name="Group 10"/>
          <p:cNvGrpSpPr/>
          <p:nvPr/>
        </p:nvGrpSpPr>
        <p:grpSpPr>
          <a:xfrm>
            <a:off x="2050920" y="1988640"/>
            <a:ext cx="1079640" cy="792360"/>
            <a:chOff x="2050920" y="1988640"/>
            <a:chExt cx="1079640" cy="792360"/>
          </a:xfrm>
        </p:grpSpPr>
        <p:sp>
          <p:nvSpPr>
            <p:cNvPr id="525" name="Line 11"/>
            <p:cNvSpPr/>
            <p:nvPr/>
          </p:nvSpPr>
          <p:spPr>
            <a:xfrm flipV="1">
              <a:off x="2050920" y="1988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 flipH="1">
              <a:off x="2195280" y="1989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1546200" y="1700280"/>
                <a:ext cx="7361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15"/>
          <p:cNvSpPr/>
          <p:nvPr/>
        </p:nvSpPr>
        <p:spPr>
          <a:xfrm flipV="1">
            <a:off x="7451640" y="1125360"/>
            <a:ext cx="792360" cy="3888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8317080" y="1052640"/>
            <a:ext cx="0" cy="475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1332000" y="2060640"/>
                <a:ext cx="6454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1835280" y="263700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219640" y="4940280"/>
                <a:ext cx="2955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5219640" y="3141720"/>
                <a:ext cx="673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1835280" y="335772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932360" y="2708280"/>
                <a:ext cx="1477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932360" y="4005360"/>
                <a:ext cx="128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51"/>
          <p:cNvGrpSpPr/>
          <p:nvPr/>
        </p:nvGrpSpPr>
        <p:grpSpPr>
          <a:xfrm>
            <a:off x="4427640" y="2637000"/>
            <a:ext cx="1079280" cy="792000"/>
            <a:chOff x="4427640" y="2637000"/>
            <a:chExt cx="1079280" cy="792000"/>
          </a:xfrm>
        </p:grpSpPr>
        <p:sp>
          <p:nvSpPr>
            <p:cNvPr id="538" name="Line 52"/>
            <p:cNvSpPr/>
            <p:nvPr/>
          </p:nvSpPr>
          <p:spPr>
            <a:xfrm flipH="1" flipV="1">
              <a:off x="4427640" y="2637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4428360" y="2637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2347920"/>
                <a:ext cx="543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346560" y="3716280"/>
                <a:ext cx="154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2" name="Group 56"/>
          <p:cNvGrpSpPr/>
          <p:nvPr/>
        </p:nvGrpSpPr>
        <p:grpSpPr>
          <a:xfrm>
            <a:off x="4140360" y="3789360"/>
            <a:ext cx="1079280" cy="792000"/>
            <a:chOff x="4140360" y="3789360"/>
            <a:chExt cx="1079280" cy="792000"/>
          </a:xfrm>
        </p:grpSpPr>
        <p:sp>
          <p:nvSpPr>
            <p:cNvPr id="543" name="Line 57"/>
            <p:cNvSpPr/>
            <p:nvPr/>
          </p:nvSpPr>
          <p:spPr>
            <a:xfrm flipV="1">
              <a:off x="4140360" y="378936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4" name="Line 58"/>
            <p:cNvSpPr/>
            <p:nvPr/>
          </p:nvSpPr>
          <p:spPr>
            <a:xfrm flipH="1">
              <a:off x="4284000" y="3789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116000" y="189000"/>
                <a:ext cx="3116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Text Box 4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6564240" y="333360"/>
                <a:ext cx="201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4500720" y="476280"/>
                <a:ext cx="112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03840" y="6143760"/>
                <a:ext cx="1506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1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5435640" y="1341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1979640" y="2709720"/>
                <a:ext cx="2408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4"/>
          <p:cNvSpPr/>
          <p:nvPr/>
        </p:nvSpPr>
        <p:spPr>
          <a:xfrm flipV="1">
            <a:off x="4643280" y="980640"/>
            <a:ext cx="3097440" cy="5256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H="1">
            <a:off x="7667280" y="1052640"/>
            <a:ext cx="73080" cy="496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3059280" y="1484280"/>
                <a:ext cx="378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3635280" y="206064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2556000" y="3357720"/>
                <a:ext cx="1863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3635280" y="278136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2050920" y="1197000"/>
                <a:ext cx="295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2627280" y="1989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0" name="Group 28"/>
          <p:cNvGrpSpPr/>
          <p:nvPr/>
        </p:nvGrpSpPr>
        <p:grpSpPr>
          <a:xfrm>
            <a:off x="3924360" y="1413000"/>
            <a:ext cx="1079280" cy="792000"/>
            <a:chOff x="3924360" y="1413000"/>
            <a:chExt cx="1079280" cy="792000"/>
          </a:xfrm>
        </p:grpSpPr>
        <p:sp>
          <p:nvSpPr>
            <p:cNvPr id="561" name="Line 29"/>
            <p:cNvSpPr/>
            <p:nvPr/>
          </p:nvSpPr>
          <p:spPr>
            <a:xfrm flipV="1">
              <a:off x="3924360" y="1413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2" name="Line 30"/>
            <p:cNvSpPr/>
            <p:nvPr/>
          </p:nvSpPr>
          <p:spPr>
            <a:xfrm flipH="1">
              <a:off x="4068000" y="1413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3102120" y="4005360"/>
                <a:ext cx="12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2959200" y="4797360"/>
                <a:ext cx="1382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5" name="Group 33"/>
          <p:cNvGrpSpPr/>
          <p:nvPr/>
        </p:nvGrpSpPr>
        <p:grpSpPr>
          <a:xfrm>
            <a:off x="3822840" y="4797000"/>
            <a:ext cx="1079280" cy="792360"/>
            <a:chOff x="3822840" y="4797000"/>
            <a:chExt cx="1079280" cy="792360"/>
          </a:xfrm>
        </p:grpSpPr>
        <p:sp>
          <p:nvSpPr>
            <p:cNvPr id="566" name="Line 34"/>
            <p:cNvSpPr/>
            <p:nvPr/>
          </p:nvSpPr>
          <p:spPr>
            <a:xfrm flipV="1">
              <a:off x="3822840" y="479700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7" name="Line 35"/>
            <p:cNvSpPr/>
            <p:nvPr/>
          </p:nvSpPr>
          <p:spPr>
            <a:xfrm flipH="1">
              <a:off x="3966480" y="4797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3535200" y="5516640"/>
                <a:ext cx="1190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535200" y="6165720"/>
                <a:ext cx="106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1042920" y="189000"/>
                <a:ext cx="46911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1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6659640" y="404640"/>
                <a:ext cx="1888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3"/>
              <p:cNvSpPr txBox="1"/>
              <p:nvPr/>
            </p:nvSpPr>
            <p:spPr>
              <a:xfrm>
                <a:off x="7236000" y="5877000"/>
                <a:ext cx="134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3"/>
              <p:cNvSpPr txBox="1"/>
              <p:nvPr/>
            </p:nvSpPr>
            <p:spPr>
              <a:xfrm>
                <a:off x="1187280" y="3141720"/>
                <a:ext cx="3211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9"/>
          <p:cNvSpPr/>
          <p:nvPr/>
        </p:nvSpPr>
        <p:spPr>
          <a:xfrm flipV="1">
            <a:off x="4427640" y="1028520"/>
            <a:ext cx="3313080" cy="5136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7740720" y="1100160"/>
            <a:ext cx="0" cy="47052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203640" y="1341360"/>
                <a:ext cx="44305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1692360" y="3790800"/>
                <a:ext cx="257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2556000" y="1341360"/>
                <a:ext cx="2090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1332000" y="2494080"/>
                <a:ext cx="30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1511280" y="4583160"/>
                <a:ext cx="285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3348000" y="5302080"/>
                <a:ext cx="12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3348000" y="6021360"/>
                <a:ext cx="109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4" name="Group 56"/>
          <p:cNvGrpSpPr/>
          <p:nvPr/>
        </p:nvGrpSpPr>
        <p:grpSpPr>
          <a:xfrm>
            <a:off x="5715000" y="2494080"/>
            <a:ext cx="2952720" cy="993600"/>
            <a:chOff x="5715000" y="2494080"/>
            <a:chExt cx="2952720" cy="993600"/>
          </a:xfrm>
        </p:grpSpPr>
        <p:sp>
          <p:nvSpPr>
            <p:cNvPr id="585" name="Line 10"/>
            <p:cNvSpPr/>
            <p:nvPr/>
          </p:nvSpPr>
          <p:spPr>
            <a:xfrm>
              <a:off x="5715000" y="30463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7524720" y="26370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Oval 26"/>
            <p:cNvSpPr/>
            <p:nvPr/>
          </p:nvSpPr>
          <p:spPr>
            <a:xfrm>
              <a:off x="7453440" y="24940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9"/>
                <p:cNvSpPr txBox="1"/>
                <p:nvPr/>
              </p:nvSpPr>
              <p:spPr>
                <a:xfrm>
                  <a:off x="7297920" y="321336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7669080" y="26370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6756480" y="26892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Line 64"/>
          <p:cNvSpPr/>
          <p:nvPr/>
        </p:nvSpPr>
        <p:spPr>
          <a:xfrm>
            <a:off x="7524720" y="263700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2" name="Group 66"/>
          <p:cNvGrpSpPr/>
          <p:nvPr/>
        </p:nvGrpSpPr>
        <p:grpSpPr>
          <a:xfrm>
            <a:off x="3203640" y="3716280"/>
            <a:ext cx="2952720" cy="851040"/>
            <a:chOff x="3203640" y="3716280"/>
            <a:chExt cx="2952720" cy="851040"/>
          </a:xfrm>
        </p:grpSpPr>
        <p:sp>
          <p:nvSpPr>
            <p:cNvPr id="593" name="Line 10"/>
            <p:cNvSpPr/>
            <p:nvPr/>
          </p:nvSpPr>
          <p:spPr>
            <a:xfrm>
              <a:off x="3203640" y="4125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4211640" y="3860640"/>
              <a:ext cx="0" cy="43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Oval 26"/>
            <p:cNvSpPr/>
            <p:nvPr/>
          </p:nvSpPr>
          <p:spPr>
            <a:xfrm>
              <a:off x="4138920" y="3716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9"/>
                <p:cNvSpPr txBox="1"/>
                <p:nvPr/>
              </p:nvSpPr>
              <p:spPr>
                <a:xfrm>
                  <a:off x="3963960" y="429264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72"/>
          <p:cNvGrpSpPr/>
          <p:nvPr/>
        </p:nvGrpSpPr>
        <p:grpSpPr>
          <a:xfrm>
            <a:off x="3205080" y="3573360"/>
            <a:ext cx="2952720" cy="993600"/>
            <a:chOff x="3205080" y="3573360"/>
            <a:chExt cx="2952720" cy="993600"/>
          </a:xfrm>
        </p:grpSpPr>
        <p:sp>
          <p:nvSpPr>
            <p:cNvPr id="598" name="Line 10"/>
            <p:cNvSpPr/>
            <p:nvPr/>
          </p:nvSpPr>
          <p:spPr>
            <a:xfrm>
              <a:off x="3205080" y="412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5014800" y="3716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494352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4788000" y="429264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2" name="Line 79"/>
          <p:cNvSpPr/>
          <p:nvPr/>
        </p:nvSpPr>
        <p:spPr>
          <a:xfrm>
            <a:off x="4211640" y="3860640"/>
            <a:ext cx="1944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80"/>
          <p:cNvSpPr/>
          <p:nvPr/>
        </p:nvSpPr>
        <p:spPr>
          <a:xfrm>
            <a:off x="5003640" y="371628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AutoShape 81"/>
          <p:cNvSpPr/>
          <p:nvPr/>
        </p:nvSpPr>
        <p:spPr>
          <a:xfrm>
            <a:off x="2268360" y="189000"/>
            <a:ext cx="122256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82"/>
          <p:cNvSpPr/>
          <p:nvPr/>
        </p:nvSpPr>
        <p:spPr>
          <a:xfrm>
            <a:off x="4572000" y="189000"/>
            <a:ext cx="107964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83"/>
          <p:cNvSpPr/>
          <p:nvPr/>
        </p:nvSpPr>
        <p:spPr>
          <a:xfrm flipV="1">
            <a:off x="2627280" y="1412640"/>
            <a:ext cx="1944720" cy="86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84"/>
          <p:cNvSpPr/>
          <p:nvPr/>
        </p:nvSpPr>
        <p:spPr>
          <a:xfrm flipH="1" flipV="1">
            <a:off x="2700000" y="1412640"/>
            <a:ext cx="1871640" cy="865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8" name="Skupina 110"/>
          <p:cNvGrpSpPr/>
          <p:nvPr/>
        </p:nvGrpSpPr>
        <p:grpSpPr>
          <a:xfrm>
            <a:off x="7020000" y="1413000"/>
            <a:ext cx="285840" cy="285480"/>
            <a:chOff x="7020000" y="1413000"/>
            <a:chExt cx="285840" cy="285480"/>
          </a:xfrm>
        </p:grpSpPr>
        <p:sp>
          <p:nvSpPr>
            <p:cNvPr id="609" name="Elipsa 109"/>
            <p:cNvSpPr/>
            <p:nvPr/>
          </p:nvSpPr>
          <p:spPr>
            <a:xfrm>
              <a:off x="7020000" y="141300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0" name="Line 33"/>
            <p:cNvSpPr/>
            <p:nvPr/>
          </p:nvSpPr>
          <p:spPr>
            <a:xfrm>
              <a:off x="7091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 flipV="1">
              <a:off x="7162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3276720" y="227664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"/>
              <p:cNvSpPr txBox="1"/>
              <p:nvPr/>
            </p:nvSpPr>
            <p:spPr>
              <a:xfrm>
                <a:off x="3851280" y="2852640"/>
                <a:ext cx="113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70580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ická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159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1116000" y="404640"/>
                <a:ext cx="28591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6610320" y="5664240"/>
                <a:ext cx="2597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1979640" y="2276640"/>
                <a:ext cx="1670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987640" y="1628640"/>
                <a:ext cx="900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2482920" y="2924280"/>
                <a:ext cx="115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3"/>
              <p:cNvSpPr txBox="1"/>
              <p:nvPr/>
            </p:nvSpPr>
            <p:spPr>
              <a:xfrm>
                <a:off x="1222200" y="1628640"/>
                <a:ext cx="3279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1619280" y="981000"/>
                <a:ext cx="33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2698920" y="3645000"/>
                <a:ext cx="11556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474920" y="4221000"/>
                <a:ext cx="14778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4138560" y="4221000"/>
                <a:ext cx="1673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Text Box 50"/>
          <p:cNvSpPr/>
          <p:nvPr/>
        </p:nvSpPr>
        <p:spPr>
          <a:xfrm>
            <a:off x="4279680" y="47628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rovnici logaritmujem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3"/>
              <p:cNvSpPr txBox="1"/>
              <p:nvPr/>
            </p:nvSpPr>
            <p:spPr>
              <a:xfrm>
                <a:off x="4572000" y="2349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Text Box 52"/>
          <p:cNvSpPr/>
          <p:nvPr/>
        </p:nvSpPr>
        <p:spPr>
          <a:xfrm>
            <a:off x="5150520" y="1052640"/>
            <a:ext cx="36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na levé straně užijeme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9" name="Group 53"/>
          <p:cNvGrpSpPr/>
          <p:nvPr/>
        </p:nvGrpSpPr>
        <p:grpSpPr>
          <a:xfrm>
            <a:off x="2266920" y="4220640"/>
            <a:ext cx="1079640" cy="792360"/>
            <a:chOff x="2266920" y="4220640"/>
            <a:chExt cx="1079640" cy="792360"/>
          </a:xfrm>
        </p:grpSpPr>
        <p:sp>
          <p:nvSpPr>
            <p:cNvPr id="630" name="Line 54"/>
            <p:cNvSpPr/>
            <p:nvPr/>
          </p:nvSpPr>
          <p:spPr>
            <a:xfrm flipV="1">
              <a:off x="226692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1" name="Line 55"/>
            <p:cNvSpPr/>
            <p:nvPr/>
          </p:nvSpPr>
          <p:spPr>
            <a:xfrm flipH="1">
              <a:off x="241128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56"/>
          <p:cNvGrpSpPr/>
          <p:nvPr/>
        </p:nvGrpSpPr>
        <p:grpSpPr>
          <a:xfrm>
            <a:off x="5146560" y="4220640"/>
            <a:ext cx="1079640" cy="792360"/>
            <a:chOff x="5146560" y="4220640"/>
            <a:chExt cx="1079640" cy="792360"/>
          </a:xfrm>
        </p:grpSpPr>
        <p:sp>
          <p:nvSpPr>
            <p:cNvPr id="633" name="Line 57"/>
            <p:cNvSpPr/>
            <p:nvPr/>
          </p:nvSpPr>
          <p:spPr>
            <a:xfrm flipV="1">
              <a:off x="514656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4" name="Line 58"/>
            <p:cNvSpPr/>
            <p:nvPr/>
          </p:nvSpPr>
          <p:spPr>
            <a:xfrm flipH="1">
              <a:off x="529092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47800" y="5141880"/>
                <a:ext cx="12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"/>
              <p:cNvSpPr txBox="1"/>
              <p:nvPr/>
            </p:nvSpPr>
            <p:spPr>
              <a:xfrm>
                <a:off x="4562640" y="5086440"/>
                <a:ext cx="138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"/>
              <p:cNvSpPr txBox="1"/>
              <p:nvPr/>
            </p:nvSpPr>
            <p:spPr>
              <a:xfrm>
                <a:off x="1747800" y="5781600"/>
                <a:ext cx="125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3"/>
              <p:cNvSpPr txBox="1"/>
              <p:nvPr/>
            </p:nvSpPr>
            <p:spPr>
              <a:xfrm>
                <a:off x="4467240" y="5532480"/>
                <a:ext cx="1317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63"/>
          <p:cNvSpPr/>
          <p:nvPr/>
        </p:nvSpPr>
        <p:spPr>
          <a:xfrm flipV="1">
            <a:off x="5724360" y="980640"/>
            <a:ext cx="2519640" cy="4824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64"/>
          <p:cNvSpPr/>
          <p:nvPr/>
        </p:nvSpPr>
        <p:spPr>
          <a:xfrm flipH="1">
            <a:off x="8172000" y="981000"/>
            <a:ext cx="71640" cy="4680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65"/>
          <p:cNvSpPr/>
          <p:nvPr/>
        </p:nvSpPr>
        <p:spPr>
          <a:xfrm flipV="1">
            <a:off x="2987640" y="1052280"/>
            <a:ext cx="5184720" cy="4754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971640" y="189000"/>
                <a:ext cx="4895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6978600" y="5664240"/>
                <a:ext cx="1859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2195640" y="3500280"/>
                <a:ext cx="1620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692360" y="4116240"/>
                <a:ext cx="21319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3276720" y="2852640"/>
                <a:ext cx="2793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"/>
              <p:cNvSpPr txBox="1"/>
              <p:nvPr/>
            </p:nvSpPr>
            <p:spPr>
              <a:xfrm>
                <a:off x="1476360" y="1052640"/>
                <a:ext cx="4565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"/>
              <p:cNvSpPr txBox="1"/>
              <p:nvPr/>
            </p:nvSpPr>
            <p:spPr>
              <a:xfrm>
                <a:off x="1187280" y="4797360"/>
                <a:ext cx="2671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3"/>
              <p:cNvSpPr txBox="1"/>
              <p:nvPr/>
            </p:nvSpPr>
            <p:spPr>
              <a:xfrm>
                <a:off x="4572000" y="3789360"/>
                <a:ext cx="174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6568920" y="2924280"/>
                <a:ext cx="257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"/>
              <p:cNvSpPr txBox="1"/>
              <p:nvPr/>
            </p:nvSpPr>
            <p:spPr>
              <a:xfrm>
                <a:off x="5219640" y="4365720"/>
                <a:ext cx="111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5219640" y="4869000"/>
                <a:ext cx="9018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1042920" y="1989000"/>
                <a:ext cx="4988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1332000" y="5624640"/>
                <a:ext cx="243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3"/>
              <p:cNvSpPr txBox="1"/>
              <p:nvPr/>
            </p:nvSpPr>
            <p:spPr>
              <a:xfrm>
                <a:off x="6948360" y="3789360"/>
                <a:ext cx="14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3"/>
              <p:cNvSpPr txBox="1"/>
              <p:nvPr/>
            </p:nvSpPr>
            <p:spPr>
              <a:xfrm>
                <a:off x="7667640" y="4292640"/>
                <a:ext cx="931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7667640" y="4941720"/>
                <a:ext cx="841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1116000" y="333360"/>
                <a:ext cx="426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5"/>
              <p:cNvSpPr txBox="1"/>
              <p:nvPr/>
            </p:nvSpPr>
            <p:spPr>
              <a:xfrm>
                <a:off x="1116000" y="1916280"/>
                <a:ext cx="438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7"/>
              <p:cNvSpPr txBox="1"/>
              <p:nvPr/>
            </p:nvSpPr>
            <p:spPr>
              <a:xfrm>
                <a:off x="1116000" y="3573360"/>
                <a:ext cx="417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9"/>
              <p:cNvSpPr txBox="1"/>
              <p:nvPr/>
            </p:nvSpPr>
            <p:spPr>
              <a:xfrm>
                <a:off x="5435640" y="836640"/>
                <a:ext cx="3230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0"/>
              <p:cNvSpPr txBox="1"/>
              <p:nvPr/>
            </p:nvSpPr>
            <p:spPr>
              <a:xfrm>
                <a:off x="5435640" y="2492280"/>
                <a:ext cx="2879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16"/>
              <p:cNvSpPr txBox="1"/>
              <p:nvPr/>
            </p:nvSpPr>
            <p:spPr>
              <a:xfrm>
                <a:off x="5405400" y="4078440"/>
                <a:ext cx="2941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8"/>
              <p:cNvSpPr txBox="1"/>
              <p:nvPr/>
            </p:nvSpPr>
            <p:spPr>
              <a:xfrm>
                <a:off x="5362560" y="5877000"/>
                <a:ext cx="26607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9"/>
              <p:cNvSpPr txBox="1"/>
              <p:nvPr/>
            </p:nvSpPr>
            <p:spPr>
              <a:xfrm>
                <a:off x="1116000" y="5229360"/>
                <a:ext cx="551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1131840" y="146160"/>
                <a:ext cx="423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"/>
              <p:cNvSpPr txBox="1"/>
              <p:nvPr/>
            </p:nvSpPr>
            <p:spPr>
              <a:xfrm>
                <a:off x="1258920" y="2133720"/>
                <a:ext cx="407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332000" y="4149720"/>
                <a:ext cx="2163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0"/>
              <p:cNvSpPr txBox="1"/>
              <p:nvPr/>
            </p:nvSpPr>
            <p:spPr>
              <a:xfrm>
                <a:off x="1332000" y="5300640"/>
                <a:ext cx="22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4214880" y="1197000"/>
                <a:ext cx="483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4284720" y="2781360"/>
                <a:ext cx="3192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4284720" y="414972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1"/>
              <p:cNvSpPr txBox="1"/>
              <p:nvPr/>
            </p:nvSpPr>
            <p:spPr>
              <a:xfrm>
                <a:off x="4284720" y="5300640"/>
                <a:ext cx="3568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258920" y="189000"/>
                <a:ext cx="2038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1258920" y="3213000"/>
                <a:ext cx="4799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8"/>
              <p:cNvSpPr txBox="1"/>
              <p:nvPr/>
            </p:nvSpPr>
            <p:spPr>
              <a:xfrm>
                <a:off x="1332000" y="5300640"/>
                <a:ext cx="2100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258920" y="1557360"/>
                <a:ext cx="2979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4356000" y="4221000"/>
                <a:ext cx="3005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356000" y="5443560"/>
                <a:ext cx="360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0"/>
              <p:cNvSpPr txBox="1"/>
              <p:nvPr/>
            </p:nvSpPr>
            <p:spPr>
              <a:xfrm>
                <a:off x="4284720" y="47628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12"/>
              <p:cNvSpPr txBox="1"/>
              <p:nvPr/>
            </p:nvSpPr>
            <p:spPr>
              <a:xfrm>
                <a:off x="4427640" y="1773360"/>
                <a:ext cx="3819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1332000" y="260280"/>
                <a:ext cx="2038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1332000" y="2779560"/>
                <a:ext cx="23842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10"/>
              <p:cNvSpPr txBox="1"/>
              <p:nvPr/>
            </p:nvSpPr>
            <p:spPr>
              <a:xfrm>
                <a:off x="1332000" y="1484280"/>
                <a:ext cx="2539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11"/>
              <p:cNvSpPr txBox="1"/>
              <p:nvPr/>
            </p:nvSpPr>
            <p:spPr>
              <a:xfrm>
                <a:off x="1332000" y="4219560"/>
                <a:ext cx="24145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12"/>
              <p:cNvSpPr txBox="1"/>
              <p:nvPr/>
            </p:nvSpPr>
            <p:spPr>
              <a:xfrm>
                <a:off x="1403280" y="5589720"/>
                <a:ext cx="2446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4427640" y="3067200"/>
                <a:ext cx="4257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4427640" y="4219560"/>
                <a:ext cx="3757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4427640" y="404640"/>
                <a:ext cx="366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9"/>
              <p:cNvSpPr txBox="1"/>
              <p:nvPr/>
            </p:nvSpPr>
            <p:spPr>
              <a:xfrm>
                <a:off x="4427640" y="1700280"/>
                <a:ext cx="3976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317840" y="5546880"/>
                <a:ext cx="41324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8–15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16000" y="184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logaritm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76360" y="278136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argum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ogaritmická rovni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1"/>
              <p:cNvSpPr txBox="1"/>
              <p:nvPr/>
            </p:nvSpPr>
            <p:spPr>
              <a:xfrm>
                <a:off x="1547640" y="3284640"/>
                <a:ext cx="576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"/>
          <p:cNvSpPr/>
          <p:nvPr/>
        </p:nvSpPr>
        <p:spPr>
          <a:xfrm>
            <a:off x="1476360" y="4797360"/>
            <a:ext cx="76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duše rovnici odlogaritmujem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Logaritm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00720" y="1628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součet logaritmů je logaritmus součin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042920" y="1052640"/>
                <a:ext cx="5126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042920" y="2997360"/>
                <a:ext cx="50929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3"/>
          <p:cNvSpPr/>
          <p:nvPr/>
        </p:nvSpPr>
        <p:spPr>
          <a:xfrm>
            <a:off x="4500720" y="40053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rozdíl logaritmů je logaritmus podíl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42920" y="5589720"/>
                <a:ext cx="3895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1332000" y="2205000"/>
                <a:ext cx="33004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643280" y="2205000"/>
                <a:ext cx="2240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6948360" y="2205000"/>
                <a:ext cx="1981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9"/>
              <p:cNvSpPr txBox="1"/>
              <p:nvPr/>
            </p:nvSpPr>
            <p:spPr>
              <a:xfrm>
                <a:off x="1332000" y="4653000"/>
                <a:ext cx="254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3924360" y="4437000"/>
                <a:ext cx="1414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364000" y="4508640"/>
                <a:ext cx="2264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5219640" y="6235560"/>
                <a:ext cx="1179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6372360" y="6164280"/>
                <a:ext cx="1366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7667640" y="4653000"/>
                <a:ext cx="1343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5219640" y="5732640"/>
                <a:ext cx="146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6659640" y="5661000"/>
                <a:ext cx="1509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7740720" y="6237360"/>
                <a:ext cx="120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Zjednodušte výrazy a uveďte podmínky, pro které má výraz smysl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1042920" y="1413000"/>
                <a:ext cx="7807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63680" y="2203560"/>
                <a:ext cx="77803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5"/>
          <p:cNvSpPr/>
          <p:nvPr/>
        </p:nvSpPr>
        <p:spPr>
          <a:xfrm>
            <a:off x="1763640" y="2133720"/>
            <a:ext cx="475308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3300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020000" y="2133720"/>
            <a:ext cx="194472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74936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1332000" y="3284640"/>
                <a:ext cx="5002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1332000" y="4076640"/>
                <a:ext cx="3611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4930920" y="4076640"/>
                <a:ext cx="265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AutoShape 12"/>
          <p:cNvSpPr/>
          <p:nvPr/>
        </p:nvSpPr>
        <p:spPr>
          <a:xfrm>
            <a:off x="5219640" y="4005360"/>
            <a:ext cx="244800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236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1407960" y="4911840"/>
                <a:ext cx="15130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2987640" y="5157720"/>
                <a:ext cx="166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773600" y="5122800"/>
                <a:ext cx="1420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9" name="Text Box 17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740720" y="609300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539720" y="2876400"/>
                <a:ext cx="6489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36800" y="406440"/>
                <a:ext cx="732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AutoShape 5"/>
          <p:cNvSpPr/>
          <p:nvPr/>
        </p:nvSpPr>
        <p:spPr>
          <a:xfrm>
            <a:off x="1979640" y="2925720"/>
            <a:ext cx="20145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5956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572000" y="2919240"/>
            <a:ext cx="3238560" cy="825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064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1547640" y="260280"/>
            <a:ext cx="1008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77228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58920" y="5661000"/>
            <a:ext cx="78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pod odmocninou v argumentu logaritmu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859280" y="6165720"/>
                <a:ext cx="1111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603440" y="1052640"/>
                <a:ext cx="7068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7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AutoShape 33"/>
          <p:cNvSpPr/>
          <p:nvPr/>
        </p:nvSpPr>
        <p:spPr>
          <a:xfrm>
            <a:off x="2843280" y="260280"/>
            <a:ext cx="1152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314064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5580000" y="260280"/>
            <a:ext cx="122400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7772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7164360" y="260280"/>
            <a:ext cx="122400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53336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547640" y="3789360"/>
                <a:ext cx="4402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6012000" y="4078440"/>
                <a:ext cx="2474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619280" y="4653000"/>
                <a:ext cx="1351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43"/>
          <p:cNvSpPr/>
          <p:nvPr/>
        </p:nvSpPr>
        <p:spPr>
          <a:xfrm>
            <a:off x="6372360" y="3862440"/>
            <a:ext cx="208728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7244640" y="3789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2987640" y="4941720"/>
                <a:ext cx="1190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547640" y="1989000"/>
                <a:ext cx="629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Rectangle 47"/>
          <p:cNvSpPr/>
          <p:nvPr/>
        </p:nvSpPr>
        <p:spPr>
          <a:xfrm>
            <a:off x="4859280" y="6237360"/>
            <a:ext cx="1081080" cy="431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282680" y="4294080"/>
                <a:ext cx="2617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268360" y="4292640"/>
                <a:ext cx="1656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195640" y="4869000"/>
                <a:ext cx="17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015920" y="979560"/>
                <a:ext cx="8128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5595840" y="4308480"/>
                <a:ext cx="13892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1" name="Text Box 17"/>
          <p:cNvSpPr/>
          <p:nvPr/>
        </p:nvSpPr>
        <p:spPr>
          <a:xfrm>
            <a:off x="1258920" y="6019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740720" y="601992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465200" y="1123920"/>
                <a:ext cx="354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AutoShape 20"/>
          <p:cNvSpPr/>
          <p:nvPr/>
        </p:nvSpPr>
        <p:spPr>
          <a:xfrm>
            <a:off x="391320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650556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261792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521028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781200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1042920" y="184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y sčítáme i odečít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výsledného logaritmu je zlomek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1042920" y="3068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čit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klad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042920" y="357192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por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195640" y="429264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2195640" y="486900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1465200" y="1052640"/>
            <a:ext cx="1152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AutoShape 32"/>
          <p:cNvSpPr/>
          <p:nvPr/>
        </p:nvSpPr>
        <p:spPr>
          <a:xfrm>
            <a:off x="391320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AutoShape 33"/>
          <p:cNvSpPr/>
          <p:nvPr/>
        </p:nvSpPr>
        <p:spPr>
          <a:xfrm>
            <a:off x="650556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AutoShape 34"/>
          <p:cNvSpPr/>
          <p:nvPr/>
        </p:nvSpPr>
        <p:spPr>
          <a:xfrm>
            <a:off x="261792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AutoShape 35"/>
          <p:cNvSpPr/>
          <p:nvPr/>
        </p:nvSpPr>
        <p:spPr>
          <a:xfrm>
            <a:off x="521028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7800840" y="1052640"/>
            <a:ext cx="1295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3995640" y="4219560"/>
                <a:ext cx="15415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38"/>
          <p:cNvSpPr/>
          <p:nvPr/>
        </p:nvSpPr>
        <p:spPr>
          <a:xfrm>
            <a:off x="971640" y="260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Užití prvního a druhého pravidla zrychlím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147636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187280" y="260280"/>
                <a:ext cx="4592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Text Box 10"/>
          <p:cNvSpPr/>
          <p:nvPr/>
        </p:nvSpPr>
        <p:spPr>
          <a:xfrm>
            <a:off x="1258920" y="36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3132000" y="6093000"/>
                <a:ext cx="1419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19280" y="1197000"/>
                <a:ext cx="436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156360" y="907920"/>
                <a:ext cx="234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19280" y="2060640"/>
                <a:ext cx="3051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88000" y="2131920"/>
                <a:ext cx="2152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3132000" y="3573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3492360" y="4292640"/>
                <a:ext cx="1092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80000" y="4292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78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Group 43"/>
          <p:cNvGrpSpPr/>
          <p:nvPr/>
        </p:nvGrpSpPr>
        <p:grpSpPr>
          <a:xfrm>
            <a:off x="5651640" y="5156280"/>
            <a:ext cx="2952720" cy="993240"/>
            <a:chOff x="5651640" y="5156280"/>
            <a:chExt cx="2952720" cy="993240"/>
          </a:xfrm>
        </p:grpSpPr>
        <p:sp>
          <p:nvSpPr>
            <p:cNvPr id="245" name="Line 10"/>
            <p:cNvSpPr/>
            <p:nvPr/>
          </p:nvSpPr>
          <p:spPr>
            <a:xfrm>
              <a:off x="5651640" y="5708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746136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Oval 26"/>
            <p:cNvSpPr/>
            <p:nvPr/>
          </p:nvSpPr>
          <p:spPr>
            <a:xfrm>
              <a:off x="739008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667548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Oval 26"/>
            <p:cNvSpPr/>
            <p:nvPr/>
          </p:nvSpPr>
          <p:spPr>
            <a:xfrm>
              <a:off x="660420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9"/>
                <p:cNvSpPr txBox="1"/>
                <p:nvPr/>
              </p:nvSpPr>
              <p:spPr>
                <a:xfrm>
                  <a:off x="6443640" y="587520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Object 9"/>
                <p:cNvSpPr txBox="1"/>
                <p:nvPr/>
              </p:nvSpPr>
              <p:spPr>
                <a:xfrm>
                  <a:off x="7224840" y="587520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899400" y="5353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60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Group 55"/>
          <p:cNvGrpSpPr/>
          <p:nvPr/>
        </p:nvGrpSpPr>
        <p:grpSpPr>
          <a:xfrm>
            <a:off x="6588000" y="4940280"/>
            <a:ext cx="2016360" cy="144360"/>
            <a:chOff x="6588000" y="4940280"/>
            <a:chExt cx="2016360" cy="144360"/>
          </a:xfrm>
        </p:grpSpPr>
        <p:sp>
          <p:nvSpPr>
            <p:cNvPr id="255" name="Oval 53"/>
            <p:cNvSpPr/>
            <p:nvPr/>
          </p:nvSpPr>
          <p:spPr>
            <a:xfrm>
              <a:off x="6588000" y="4940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6659640" y="508464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7524720" y="4149720"/>
            <a:ext cx="285840" cy="285840"/>
            <a:chOff x="7524720" y="414972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7524720" y="4149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7596000" y="4292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7667640" y="4220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5651640" y="5157720"/>
            <a:ext cx="2952720" cy="719280"/>
            <a:chOff x="5651640" y="5157720"/>
            <a:chExt cx="2952720" cy="719280"/>
          </a:xfrm>
        </p:grpSpPr>
        <p:sp>
          <p:nvSpPr>
            <p:cNvPr id="262" name="Line 10"/>
            <p:cNvSpPr/>
            <p:nvPr/>
          </p:nvSpPr>
          <p:spPr>
            <a:xfrm>
              <a:off x="5651640" y="57103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>
              <a:off x="746136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738972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667548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Oval 26"/>
            <p:cNvSpPr/>
            <p:nvPr/>
          </p:nvSpPr>
          <p:spPr>
            <a:xfrm>
              <a:off x="660384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7" name="Přímá spojovací šipka 167"/>
            <p:cNvCxnSpPr>
              <a:stCxn id="263" idx="0"/>
            </p:cNvCxnSpPr>
            <p:nvPr/>
          </p:nvCxnSpPr>
          <p:spPr>
            <a:xfrm>
              <a:off x="7461360" y="5300640"/>
              <a:ext cx="1143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268" name="Přímá spojovací šipka 170"/>
            <p:cNvCxnSpPr>
              <a:stCxn id="266" idx="4"/>
            </p:cNvCxnSpPr>
            <p:nvPr/>
          </p:nvCxnSpPr>
          <p:spPr>
            <a:xfrm flipH="1" flipV="1">
              <a:off x="5674680" y="5311440"/>
              <a:ext cx="10004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042920" y="260280"/>
                <a:ext cx="5362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3"/>
          <p:cNvSpPr/>
          <p:nvPr/>
        </p:nvSpPr>
        <p:spPr>
          <a:xfrm>
            <a:off x="1258920" y="263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3708360" y="6093000"/>
                <a:ext cx="3117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619280" y="1125360"/>
                <a:ext cx="2568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284720" y="1125360"/>
                <a:ext cx="1927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916360" y="2565360"/>
                <a:ext cx="568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627280" y="3286080"/>
                <a:ext cx="202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6804000" y="3139920"/>
                <a:ext cx="18320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4500720" y="400680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587760" y="405936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2700360" y="40068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84"/>
          <p:cNvGrpSpPr/>
          <p:nvPr/>
        </p:nvGrpSpPr>
        <p:grpSpPr>
          <a:xfrm>
            <a:off x="5867280" y="3860640"/>
            <a:ext cx="2952720" cy="920880"/>
            <a:chOff x="5867280" y="3860640"/>
            <a:chExt cx="2952720" cy="920880"/>
          </a:xfrm>
        </p:grpSpPr>
        <p:sp>
          <p:nvSpPr>
            <p:cNvPr id="281" name="Line 10"/>
            <p:cNvSpPr/>
            <p:nvPr/>
          </p:nvSpPr>
          <p:spPr>
            <a:xfrm>
              <a:off x="5867280" y="43401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875280" y="4003560"/>
              <a:ext cx="0" cy="50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680220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9"/>
                <p:cNvSpPr txBox="1"/>
                <p:nvPr/>
              </p:nvSpPr>
              <p:spPr>
                <a:xfrm>
                  <a:off x="6659280" y="45068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5" name="Object 9"/>
              <p:cNvSpPr txBox="1"/>
              <p:nvPr/>
            </p:nvSpPr>
            <p:spPr>
              <a:xfrm>
                <a:off x="730872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622764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50"/>
          <p:cNvSpPr/>
          <p:nvPr/>
        </p:nvSpPr>
        <p:spPr>
          <a:xfrm>
            <a:off x="5940360" y="400536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2339640" y="4006800"/>
            <a:ext cx="2951640" cy="0"/>
            <a:chOff x="2339640" y="4006800"/>
            <a:chExt cx="2951640" cy="0"/>
          </a:xfrm>
        </p:grpSpPr>
        <p:sp>
          <p:nvSpPr>
            <p:cNvPr id="289" name="Line 52"/>
            <p:cNvSpPr/>
            <p:nvPr/>
          </p:nvSpPr>
          <p:spPr>
            <a:xfrm>
              <a:off x="4138920" y="400680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3"/>
            <p:cNvSpPr/>
            <p:nvPr/>
          </p:nvSpPr>
          <p:spPr>
            <a:xfrm flipH="1">
              <a:off x="2339640" y="4006800"/>
              <a:ext cx="10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1" name="Group 82"/>
          <p:cNvGrpSpPr/>
          <p:nvPr/>
        </p:nvGrpSpPr>
        <p:grpSpPr>
          <a:xfrm>
            <a:off x="3851280" y="4940280"/>
            <a:ext cx="2952720" cy="144360"/>
            <a:chOff x="3851280" y="4940280"/>
            <a:chExt cx="2952720" cy="144360"/>
          </a:xfrm>
        </p:grpSpPr>
        <p:sp>
          <p:nvSpPr>
            <p:cNvPr id="292" name="Line 66"/>
            <p:cNvSpPr/>
            <p:nvPr/>
          </p:nvSpPr>
          <p:spPr>
            <a:xfrm>
              <a:off x="3851280" y="50846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Oval 67"/>
            <p:cNvSpPr/>
            <p:nvPr/>
          </p:nvSpPr>
          <p:spPr>
            <a:xfrm>
              <a:off x="4788000" y="494028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0"/>
          <p:cNvGrpSpPr/>
          <p:nvPr/>
        </p:nvGrpSpPr>
        <p:grpSpPr>
          <a:xfrm>
            <a:off x="2340000" y="3862440"/>
            <a:ext cx="2952720" cy="942840"/>
            <a:chOff x="2340000" y="3862440"/>
            <a:chExt cx="2952720" cy="942840"/>
          </a:xfrm>
        </p:grpSpPr>
        <p:sp>
          <p:nvSpPr>
            <p:cNvPr id="295" name="Line 10"/>
            <p:cNvSpPr/>
            <p:nvPr/>
          </p:nvSpPr>
          <p:spPr>
            <a:xfrm>
              <a:off x="2340000" y="4365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413856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06728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9"/>
                <p:cNvSpPr txBox="1"/>
                <p:nvPr/>
              </p:nvSpPr>
              <p:spPr>
                <a:xfrm>
                  <a:off x="3132000" y="45086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9"/>
                <p:cNvSpPr txBox="1"/>
                <p:nvPr/>
              </p:nvSpPr>
              <p:spPr>
                <a:xfrm>
                  <a:off x="4067280" y="4508640"/>
                  <a:ext cx="2142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25"/>
            <p:cNvSpPr/>
            <p:nvPr/>
          </p:nvSpPr>
          <p:spPr>
            <a:xfrm flipH="1">
              <a:off x="338292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331164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83"/>
          <p:cNvGrpSpPr/>
          <p:nvPr/>
        </p:nvGrpSpPr>
        <p:grpSpPr>
          <a:xfrm>
            <a:off x="3850920" y="5157720"/>
            <a:ext cx="2953080" cy="799920"/>
            <a:chOff x="3850920" y="5157720"/>
            <a:chExt cx="2953080" cy="799920"/>
          </a:xfrm>
        </p:grpSpPr>
        <p:grpSp>
          <p:nvGrpSpPr>
            <p:cNvPr id="303" name="Group 63"/>
            <p:cNvGrpSpPr/>
            <p:nvPr/>
          </p:nvGrpSpPr>
          <p:grpSpPr>
            <a:xfrm>
              <a:off x="3850920" y="5300640"/>
              <a:ext cx="2951640" cy="0"/>
              <a:chOff x="3850920" y="5300640"/>
              <a:chExt cx="2951640" cy="0"/>
            </a:xfrm>
          </p:grpSpPr>
          <p:sp>
            <p:nvSpPr>
              <p:cNvPr id="304" name="Line 64"/>
              <p:cNvSpPr/>
              <p:nvPr/>
            </p:nvSpPr>
            <p:spPr>
              <a:xfrm>
                <a:off x="5650200" y="5300640"/>
                <a:ext cx="1152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05" name="Line 65"/>
              <p:cNvSpPr/>
              <p:nvPr/>
            </p:nvSpPr>
            <p:spPr>
              <a:xfrm flipH="1">
                <a:off x="3850920" y="5300640"/>
                <a:ext cx="1008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81"/>
            <p:cNvGrpSpPr/>
            <p:nvPr/>
          </p:nvGrpSpPr>
          <p:grpSpPr>
            <a:xfrm>
              <a:off x="3851280" y="5157720"/>
              <a:ext cx="2952720" cy="799920"/>
              <a:chOff x="3851280" y="5157720"/>
              <a:chExt cx="2952720" cy="799920"/>
            </a:xfrm>
          </p:grpSpPr>
          <p:sp>
            <p:nvSpPr>
              <p:cNvPr id="307" name="Line 10"/>
              <p:cNvSpPr/>
              <p:nvPr/>
            </p:nvSpPr>
            <p:spPr>
              <a:xfrm>
                <a:off x="3851280" y="5587920"/>
                <a:ext cx="2952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8" name="Object 9"/>
                  <p:cNvSpPr txBox="1"/>
                  <p:nvPr/>
                </p:nvSpPr>
                <p:spPr>
                  <a:xfrm>
                    <a:off x="4645080" y="5661000"/>
                    <a:ext cx="34128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Object 9"/>
                  <p:cNvSpPr txBox="1"/>
                  <p:nvPr/>
                </p:nvSpPr>
                <p:spPr>
                  <a:xfrm>
                    <a:off x="5580000" y="5661000"/>
                    <a:ext cx="21420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Line 25"/>
              <p:cNvSpPr/>
              <p:nvPr/>
            </p:nvSpPr>
            <p:spPr>
              <a:xfrm>
                <a:off x="485928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Oval 26"/>
              <p:cNvSpPr/>
              <p:nvPr/>
            </p:nvSpPr>
            <p:spPr>
              <a:xfrm>
                <a:off x="4788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565164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5580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Skupina 110"/>
          <p:cNvGrpSpPr/>
          <p:nvPr/>
        </p:nvGrpSpPr>
        <p:grpSpPr>
          <a:xfrm>
            <a:off x="4067280" y="3141720"/>
            <a:ext cx="285480" cy="285840"/>
            <a:chOff x="4067280" y="3141720"/>
            <a:chExt cx="285480" cy="285840"/>
          </a:xfrm>
        </p:grpSpPr>
        <p:sp>
          <p:nvSpPr>
            <p:cNvPr id="315" name="Elipsa 109"/>
            <p:cNvSpPr/>
            <p:nvPr/>
          </p:nvSpPr>
          <p:spPr>
            <a:xfrm>
              <a:off x="4067280" y="314172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413856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 flipV="1">
              <a:off x="421020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Skupina 110"/>
          <p:cNvGrpSpPr/>
          <p:nvPr/>
        </p:nvGrpSpPr>
        <p:grpSpPr>
          <a:xfrm>
            <a:off x="8028000" y="3141720"/>
            <a:ext cx="285840" cy="285840"/>
            <a:chOff x="8028000" y="3141720"/>
            <a:chExt cx="285840" cy="285840"/>
          </a:xfrm>
        </p:grpSpPr>
        <p:sp>
          <p:nvSpPr>
            <p:cNvPr id="319" name="Elipsa 109"/>
            <p:cNvSpPr/>
            <p:nvPr/>
          </p:nvSpPr>
          <p:spPr>
            <a:xfrm>
              <a:off x="8028000" y="3141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809928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V="1">
              <a:off x="817092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8:05Z</dcterms:modified>
  <cp:revision>324</cp:revision>
  <dc:subject/>
  <dc:title>FCE</dc:title>
</cp:coreProperties>
</file>