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5976-F07B-4746-8E6A-C6CF117517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9972-25ED-4914-BE63-F6E13A73A4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224F-14F1-4732-A4B3-83108CEE806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9626-1601-48A8-BB61-D72B90AE4DF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5830-D019-43EA-88F8-CC95266093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98D0-707A-47C7-9D6F-3015435B107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984-D12B-4C8F-98EB-96D9B684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9A7-8220-4106-ADC7-E818704D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C6B-2CDF-4AF3-A8C7-853149D4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9FF-69F0-4429-B25D-9304543E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B4DB-4246-46B9-9E89-C568B278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362A-BBCC-4950-B29B-4BE8DF1E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B520-C1A6-4C3B-89B5-BE70D472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1288-067B-4DC6-AAE2-2E49FC73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E21F-5DA8-4548-8BE8-8B35CD41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C04C-391C-44D3-A116-0083F83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02DF-70C3-4088-BAE0-AABBE0D3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8FF-1C6D-412A-80E1-07BFCEC9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0F8F-20CE-4D3F-8FDA-DB2BF3E8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0DAC-1993-4BBD-841F-E5AD4CFD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E44A-18AF-4906-8E6E-34F6CCCB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3B48-E8EE-4A42-AF7A-00C842E0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42D5-EB46-4B70-A068-48C6AE22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735-8A30-4981-9980-A076E580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EB2-03F7-420D-8E58-0B9A344E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6A4-1EA2-4E1E-89E0-0DC5F5D6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C14-A0BC-4F6F-801C-098C22D1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5C8-B153-474F-ADED-47CB21B1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6B7-DF82-4CDF-9ED3-BCD181FE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73B-EA89-4CD6-8AA6-29719561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0BFF-5B35-4FD4-90D3-4FAFD295D4E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95FD-FF08-46D6-80B3-E9D0F3EE1E0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3336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1042920" y="549360"/>
                <a:ext cx="23875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1525680" y="1773360"/>
                <a:ext cx="2122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508720" y="260280"/>
                <a:ext cx="29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084720" y="1557360"/>
                <a:ext cx="2019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5148360" y="5084640"/>
                <a:ext cx="2749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6300720" y="2492280"/>
                <a:ext cx="1720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435640" y="3357720"/>
                <a:ext cx="2158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9"/>
              <p:cNvSpPr txBox="1"/>
              <p:nvPr/>
            </p:nvSpPr>
            <p:spPr>
              <a:xfrm>
                <a:off x="1461960" y="2565360"/>
                <a:ext cx="2459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476360" y="3573360"/>
                <a:ext cx="1979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547640" y="4508640"/>
                <a:ext cx="18320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2124000" y="5229360"/>
                <a:ext cx="12477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5148360" y="4292640"/>
                <a:ext cx="2421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900000" y="189000"/>
                <a:ext cx="32403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692360" y="1486080"/>
                <a:ext cx="2124000" cy="13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050920" y="3933720"/>
                <a:ext cx="1274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2124000" y="5013360"/>
                <a:ext cx="1154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2411280" y="5589720"/>
                <a:ext cx="10638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2411280" y="6093000"/>
                <a:ext cx="84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427640" y="2925720"/>
                <a:ext cx="855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3"/>
          <p:cNvSpPr/>
          <p:nvPr/>
        </p:nvSpPr>
        <p:spPr>
          <a:xfrm>
            <a:off x="5362560" y="3068640"/>
            <a:ext cx="3492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výhodné u nerovnic, ale už si zvykej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AutoShape 27"/>
          <p:cNvSpPr/>
          <p:nvPr/>
        </p:nvSpPr>
        <p:spPr>
          <a:xfrm>
            <a:off x="1476360" y="1557360"/>
            <a:ext cx="2590920" cy="23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1547640" y="2637000"/>
                <a:ext cx="22766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2"/>
          <p:cNvSpPr/>
          <p:nvPr/>
        </p:nvSpPr>
        <p:spPr>
          <a:xfrm>
            <a:off x="3492360" y="3429000"/>
            <a:ext cx="86364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971640" y="476280"/>
                <a:ext cx="28288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1476360" y="1197000"/>
                <a:ext cx="25718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0"/>
              <p:cNvSpPr txBox="1"/>
              <p:nvPr/>
            </p:nvSpPr>
            <p:spPr>
              <a:xfrm>
                <a:off x="2195640" y="4581360"/>
                <a:ext cx="1019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9"/>
              <p:cNvSpPr txBox="1"/>
              <p:nvPr/>
            </p:nvSpPr>
            <p:spPr>
              <a:xfrm>
                <a:off x="1763640" y="2276640"/>
                <a:ext cx="1683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4662360" y="351000"/>
                <a:ext cx="41832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1763640" y="3429000"/>
                <a:ext cx="15177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240600" y="3973680"/>
                <a:ext cx="17096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0"/>
              <p:cNvSpPr txBox="1"/>
              <p:nvPr/>
            </p:nvSpPr>
            <p:spPr>
              <a:xfrm>
                <a:off x="6240600" y="5313240"/>
                <a:ext cx="10220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364000" y="2349360"/>
                <a:ext cx="3195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867280" y="3213000"/>
                <a:ext cx="1909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240600" y="4692600"/>
                <a:ext cx="1152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364000" y="1197000"/>
                <a:ext cx="3095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971640" y="404640"/>
                <a:ext cx="2822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76360" y="1341360"/>
                <a:ext cx="230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224000" y="2060640"/>
                <a:ext cx="2670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542960" y="2924280"/>
                <a:ext cx="224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476360" y="3860640"/>
                <a:ext cx="1063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4427640" y="333360"/>
                <a:ext cx="19126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7020000" y="260280"/>
                <a:ext cx="1790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Line 21"/>
          <p:cNvSpPr/>
          <p:nvPr/>
        </p:nvSpPr>
        <p:spPr>
          <a:xfrm>
            <a:off x="4284720" y="1773360"/>
            <a:ext cx="485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4140360" y="2060640"/>
                <a:ext cx="242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6815160" y="2116080"/>
                <a:ext cx="2124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Line 24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6" name="Skupina 110"/>
          <p:cNvGrpSpPr/>
          <p:nvPr/>
        </p:nvGrpSpPr>
        <p:grpSpPr>
          <a:xfrm>
            <a:off x="7956720" y="1341360"/>
            <a:ext cx="285480" cy="285840"/>
            <a:chOff x="7956720" y="1341360"/>
            <a:chExt cx="285480" cy="285840"/>
          </a:xfrm>
        </p:grpSpPr>
        <p:sp>
          <p:nvSpPr>
            <p:cNvPr id="257" name="Elipsa 109"/>
            <p:cNvSpPr/>
            <p:nvPr/>
          </p:nvSpPr>
          <p:spPr>
            <a:xfrm>
              <a:off x="795672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>
              <a:off x="802800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4"/>
            <p:cNvSpPr/>
            <p:nvPr/>
          </p:nvSpPr>
          <p:spPr>
            <a:xfrm flipV="1">
              <a:off x="8099640" y="141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Skupina 212"/>
          <p:cNvGrpSpPr/>
          <p:nvPr/>
        </p:nvGrpSpPr>
        <p:grpSpPr>
          <a:xfrm>
            <a:off x="5148360" y="1341360"/>
            <a:ext cx="285480" cy="285840"/>
            <a:chOff x="5148360" y="1341360"/>
            <a:chExt cx="285480" cy="285840"/>
          </a:xfrm>
        </p:grpSpPr>
        <p:sp>
          <p:nvSpPr>
            <p:cNvPr id="261" name="Elipsa 213"/>
            <p:cNvSpPr/>
            <p:nvPr/>
          </p:nvSpPr>
          <p:spPr>
            <a:xfrm>
              <a:off x="514836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3"/>
            <p:cNvSpPr/>
            <p:nvPr/>
          </p:nvSpPr>
          <p:spPr>
            <a:xfrm>
              <a:off x="521964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Rectangle 3"/>
          <p:cNvSpPr/>
          <p:nvPr/>
        </p:nvSpPr>
        <p:spPr>
          <a:xfrm>
            <a:off x="1042920" y="4797360"/>
            <a:ext cx="468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dstranění závorek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nitř závorek je výraz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) záporný, výraz  se mění v opačný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) nezáporný, výraz zůstává stejný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076720" y="270828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5068800" y="3289320"/>
                <a:ext cx="941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012000" y="3500280"/>
                <a:ext cx="636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7524720" y="2708280"/>
                <a:ext cx="849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8477280" y="2637000"/>
                <a:ext cx="666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6588000" y="4508640"/>
                <a:ext cx="13939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7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0" name="Line 39"/>
          <p:cNvSpPr/>
          <p:nvPr/>
        </p:nvSpPr>
        <p:spPr>
          <a:xfrm>
            <a:off x="6732720" y="189000"/>
            <a:ext cx="0" cy="40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085760" y="404640"/>
                <a:ext cx="215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763640" y="1197000"/>
                <a:ext cx="163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805040" y="2060640"/>
                <a:ext cx="1487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849320" y="3327480"/>
                <a:ext cx="1033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Line 12"/>
          <p:cNvSpPr/>
          <p:nvPr/>
        </p:nvSpPr>
        <p:spPr>
          <a:xfrm>
            <a:off x="2340000" y="2637000"/>
            <a:ext cx="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780000" y="476280"/>
            <a:ext cx="536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uze pokud porovnáváme AH s reálným číslem, nikoliv s obecným výraz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AutoShape 42"/>
          <p:cNvSpPr/>
          <p:nvPr/>
        </p:nvSpPr>
        <p:spPr>
          <a:xfrm>
            <a:off x="1763640" y="3141720"/>
            <a:ext cx="115272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298764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3348000" y="2565360"/>
            <a:ext cx="159552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1763640" y="5862600"/>
                <a:ext cx="1584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81" name="Group 76"/>
          <p:cNvGrpSpPr/>
          <p:nvPr/>
        </p:nvGrpSpPr>
        <p:grpSpPr>
          <a:xfrm>
            <a:off x="4510080" y="3795840"/>
            <a:ext cx="1224000" cy="653400"/>
            <a:chOff x="4510080" y="3795840"/>
            <a:chExt cx="1224000" cy="653400"/>
          </a:xfrm>
        </p:grpSpPr>
        <p:sp>
          <p:nvSpPr>
            <p:cNvPr id="282" name="Arc 66"/>
            <p:cNvSpPr/>
            <p:nvPr/>
          </p:nvSpPr>
          <p:spPr>
            <a:xfrm flipH="1">
              <a:off x="4510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67"/>
            <p:cNvSpPr/>
            <p:nvPr/>
          </p:nvSpPr>
          <p:spPr>
            <a:xfrm>
              <a:off x="494496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5"/>
          <p:cNvGrpSpPr/>
          <p:nvPr/>
        </p:nvGrpSpPr>
        <p:grpSpPr>
          <a:xfrm>
            <a:off x="5734080" y="3795840"/>
            <a:ext cx="1224000" cy="653400"/>
            <a:chOff x="5734080" y="3795840"/>
            <a:chExt cx="1224000" cy="653400"/>
          </a:xfrm>
        </p:grpSpPr>
        <p:sp>
          <p:nvSpPr>
            <p:cNvPr id="285" name="Arc 68"/>
            <p:cNvSpPr/>
            <p:nvPr/>
          </p:nvSpPr>
          <p:spPr>
            <a:xfrm flipH="1">
              <a:off x="5734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69"/>
            <p:cNvSpPr/>
            <p:nvPr/>
          </p:nvSpPr>
          <p:spPr>
            <a:xfrm>
              <a:off x="624024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60"/>
          <p:cNvGrpSpPr/>
          <p:nvPr/>
        </p:nvGrpSpPr>
        <p:grpSpPr>
          <a:xfrm>
            <a:off x="3718080" y="4371840"/>
            <a:ext cx="4897800" cy="520560"/>
            <a:chOff x="3718080" y="4371840"/>
            <a:chExt cx="4897800" cy="520560"/>
          </a:xfrm>
        </p:grpSpPr>
        <p:sp>
          <p:nvSpPr>
            <p:cNvPr id="288" name="Line 61"/>
            <p:cNvSpPr/>
            <p:nvPr/>
          </p:nvSpPr>
          <p:spPr>
            <a:xfrm>
              <a:off x="3718080" y="444348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62"/>
            <p:cNvSpPr/>
            <p:nvPr/>
          </p:nvSpPr>
          <p:spPr>
            <a:xfrm>
              <a:off x="8256960" y="4371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0" name="Group 77"/>
          <p:cNvGrpSpPr/>
          <p:nvPr/>
        </p:nvGrpSpPr>
        <p:grpSpPr>
          <a:xfrm>
            <a:off x="5592600" y="4300560"/>
            <a:ext cx="358920" cy="757080"/>
            <a:chOff x="5592600" y="4300560"/>
            <a:chExt cx="358920" cy="757080"/>
          </a:xfrm>
        </p:grpSpPr>
        <p:sp>
          <p:nvSpPr>
            <p:cNvPr id="291" name="Line 64"/>
            <p:cNvSpPr/>
            <p:nvPr/>
          </p:nvSpPr>
          <p:spPr>
            <a:xfrm>
              <a:off x="5735520" y="4300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65"/>
            <p:cNvSpPr/>
            <p:nvPr/>
          </p:nvSpPr>
          <p:spPr>
            <a:xfrm>
              <a:off x="5592600" y="453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70"/>
          <p:cNvSpPr/>
          <p:nvPr/>
        </p:nvSpPr>
        <p:spPr>
          <a:xfrm>
            <a:off x="451008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1"/>
          <p:cNvSpPr/>
          <p:nvPr/>
        </p:nvSpPr>
        <p:spPr>
          <a:xfrm>
            <a:off x="4331160" y="451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72"/>
          <p:cNvSpPr/>
          <p:nvPr/>
        </p:nvSpPr>
        <p:spPr>
          <a:xfrm>
            <a:off x="695952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73"/>
          <p:cNvSpPr/>
          <p:nvPr/>
        </p:nvSpPr>
        <p:spPr>
          <a:xfrm>
            <a:off x="6816600" y="45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29"/>
          <p:cNvGrpSpPr/>
          <p:nvPr/>
        </p:nvGrpSpPr>
        <p:grpSpPr>
          <a:xfrm>
            <a:off x="6886440" y="4383000"/>
            <a:ext cx="144720" cy="142920"/>
            <a:chOff x="6886440" y="4383000"/>
            <a:chExt cx="144720" cy="142920"/>
          </a:xfrm>
        </p:grpSpPr>
        <p:sp>
          <p:nvSpPr>
            <p:cNvPr id="298" name="Line 30"/>
            <p:cNvSpPr/>
            <p:nvPr/>
          </p:nvSpPr>
          <p:spPr>
            <a:xfrm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31"/>
            <p:cNvSpPr/>
            <p:nvPr/>
          </p:nvSpPr>
          <p:spPr>
            <a:xfrm flipH="1"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29"/>
          <p:cNvGrpSpPr/>
          <p:nvPr/>
        </p:nvGrpSpPr>
        <p:grpSpPr>
          <a:xfrm>
            <a:off x="4438440" y="4371840"/>
            <a:ext cx="144720" cy="142920"/>
            <a:chOff x="4438440" y="4371840"/>
            <a:chExt cx="144720" cy="142920"/>
          </a:xfrm>
        </p:grpSpPr>
        <p:sp>
          <p:nvSpPr>
            <p:cNvPr id="301" name="Line 30"/>
            <p:cNvSpPr/>
            <p:nvPr/>
          </p:nvSpPr>
          <p:spPr>
            <a:xfrm>
              <a:off x="443880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31"/>
            <p:cNvSpPr/>
            <p:nvPr/>
          </p:nvSpPr>
          <p:spPr>
            <a:xfrm flipH="1">
              <a:off x="443844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Line 45"/>
          <p:cNvSpPr/>
          <p:nvPr/>
        </p:nvSpPr>
        <p:spPr>
          <a:xfrm>
            <a:off x="3348000" y="2565360"/>
            <a:ext cx="289080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44"/>
          <p:cNvSpPr/>
          <p:nvPr/>
        </p:nvSpPr>
        <p:spPr>
          <a:xfrm>
            <a:off x="270036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2916360" y="3500280"/>
            <a:ext cx="2674800" cy="127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1116000" y="404640"/>
                <a:ext cx="2519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835280" y="1125360"/>
                <a:ext cx="17920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1671480" y="1932120"/>
                <a:ext cx="1835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1886040" y="3732120"/>
                <a:ext cx="100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6"/>
          <p:cNvSpPr/>
          <p:nvPr/>
        </p:nvSpPr>
        <p:spPr>
          <a:xfrm>
            <a:off x="2432160" y="308448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211640" y="404640"/>
            <a:ext cx="49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 AH musí být pouze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1855800" y="3516480"/>
            <a:ext cx="115236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AutoShape 21"/>
          <p:cNvSpPr/>
          <p:nvPr/>
        </p:nvSpPr>
        <p:spPr>
          <a:xfrm>
            <a:off x="3181320" y="272412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3470400" y="3108240"/>
            <a:ext cx="1082520" cy="1055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2036880" y="5877000"/>
                <a:ext cx="1482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028960" y="2651040"/>
                <a:ext cx="1396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Line 43"/>
          <p:cNvSpPr/>
          <p:nvPr/>
        </p:nvSpPr>
        <p:spPr>
          <a:xfrm>
            <a:off x="3470400" y="3100320"/>
            <a:ext cx="2377800" cy="1063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Group 76"/>
          <p:cNvGrpSpPr/>
          <p:nvPr/>
        </p:nvGrpSpPr>
        <p:grpSpPr>
          <a:xfrm>
            <a:off x="4119480" y="4048200"/>
            <a:ext cx="1224000" cy="654120"/>
            <a:chOff x="4119480" y="4048200"/>
            <a:chExt cx="1224000" cy="654120"/>
          </a:xfrm>
        </p:grpSpPr>
        <p:sp>
          <p:nvSpPr>
            <p:cNvPr id="319" name="Arc 66"/>
            <p:cNvSpPr/>
            <p:nvPr/>
          </p:nvSpPr>
          <p:spPr>
            <a:xfrm flipH="1">
              <a:off x="4119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Text Box 67"/>
            <p:cNvSpPr/>
            <p:nvPr/>
          </p:nvSpPr>
          <p:spPr>
            <a:xfrm>
              <a:off x="455436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75"/>
          <p:cNvGrpSpPr/>
          <p:nvPr/>
        </p:nvGrpSpPr>
        <p:grpSpPr>
          <a:xfrm>
            <a:off x="5343480" y="4048200"/>
            <a:ext cx="1224000" cy="654120"/>
            <a:chOff x="5343480" y="4048200"/>
            <a:chExt cx="1224000" cy="654120"/>
          </a:xfrm>
        </p:grpSpPr>
        <p:sp>
          <p:nvSpPr>
            <p:cNvPr id="322" name="Arc 68"/>
            <p:cNvSpPr/>
            <p:nvPr/>
          </p:nvSpPr>
          <p:spPr>
            <a:xfrm flipH="1">
              <a:off x="5343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69"/>
            <p:cNvSpPr/>
            <p:nvPr/>
          </p:nvSpPr>
          <p:spPr>
            <a:xfrm>
              <a:off x="584964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Group 60"/>
          <p:cNvGrpSpPr/>
          <p:nvPr/>
        </p:nvGrpSpPr>
        <p:grpSpPr>
          <a:xfrm>
            <a:off x="3327480" y="4624560"/>
            <a:ext cx="4897080" cy="520560"/>
            <a:chOff x="3327480" y="4624560"/>
            <a:chExt cx="4897080" cy="520560"/>
          </a:xfrm>
        </p:grpSpPr>
        <p:sp>
          <p:nvSpPr>
            <p:cNvPr id="325" name="Line 61"/>
            <p:cNvSpPr/>
            <p:nvPr/>
          </p:nvSpPr>
          <p:spPr>
            <a:xfrm>
              <a:off x="3327480" y="469620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Text Box 62"/>
            <p:cNvSpPr/>
            <p:nvPr/>
          </p:nvSpPr>
          <p:spPr>
            <a:xfrm>
              <a:off x="7865640" y="4624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7" name="Group 77"/>
          <p:cNvGrpSpPr/>
          <p:nvPr/>
        </p:nvGrpSpPr>
        <p:grpSpPr>
          <a:xfrm>
            <a:off x="5202000" y="4552920"/>
            <a:ext cx="358920" cy="757080"/>
            <a:chOff x="5202000" y="4552920"/>
            <a:chExt cx="358920" cy="757080"/>
          </a:xfrm>
        </p:grpSpPr>
        <p:sp>
          <p:nvSpPr>
            <p:cNvPr id="328" name="Line 64"/>
            <p:cNvSpPr/>
            <p:nvPr/>
          </p:nvSpPr>
          <p:spPr>
            <a:xfrm>
              <a:off x="5344920" y="4552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65"/>
            <p:cNvSpPr/>
            <p:nvPr/>
          </p:nvSpPr>
          <p:spPr>
            <a:xfrm>
              <a:off x="5202000" y="478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Line 70"/>
          <p:cNvSpPr/>
          <p:nvPr/>
        </p:nvSpPr>
        <p:spPr>
          <a:xfrm>
            <a:off x="411948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71"/>
          <p:cNvSpPr/>
          <p:nvPr/>
        </p:nvSpPr>
        <p:spPr>
          <a:xfrm>
            <a:off x="3940200" y="4768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72"/>
          <p:cNvSpPr/>
          <p:nvPr/>
        </p:nvSpPr>
        <p:spPr>
          <a:xfrm>
            <a:off x="656892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3"/>
          <p:cNvSpPr/>
          <p:nvPr/>
        </p:nvSpPr>
        <p:spPr>
          <a:xfrm>
            <a:off x="6426000" y="4789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6494040" y="4635360"/>
            <a:ext cx="144720" cy="142920"/>
            <a:chOff x="6494040" y="4635360"/>
            <a:chExt cx="144720" cy="142920"/>
          </a:xfrm>
        </p:grpSpPr>
        <p:sp>
          <p:nvSpPr>
            <p:cNvPr id="335" name="Line 30"/>
            <p:cNvSpPr/>
            <p:nvPr/>
          </p:nvSpPr>
          <p:spPr>
            <a:xfrm>
              <a:off x="649440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31"/>
            <p:cNvSpPr/>
            <p:nvPr/>
          </p:nvSpPr>
          <p:spPr>
            <a:xfrm flipH="1">
              <a:off x="649404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29"/>
          <p:cNvGrpSpPr/>
          <p:nvPr/>
        </p:nvGrpSpPr>
        <p:grpSpPr>
          <a:xfrm>
            <a:off x="4047840" y="4624560"/>
            <a:ext cx="144720" cy="142560"/>
            <a:chOff x="4047840" y="4624560"/>
            <a:chExt cx="144720" cy="142560"/>
          </a:xfrm>
        </p:grpSpPr>
        <p:sp>
          <p:nvSpPr>
            <p:cNvPr id="338" name="Line 30"/>
            <p:cNvSpPr/>
            <p:nvPr/>
          </p:nvSpPr>
          <p:spPr>
            <a:xfrm>
              <a:off x="404820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1"/>
            <p:cNvSpPr/>
            <p:nvPr/>
          </p:nvSpPr>
          <p:spPr>
            <a:xfrm flipH="1">
              <a:off x="404784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kt 1"/>
              <p:cNvSpPr txBox="1"/>
              <p:nvPr/>
            </p:nvSpPr>
            <p:spPr>
              <a:xfrm>
                <a:off x="3916440" y="2004840"/>
                <a:ext cx="74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AutoShape 44"/>
          <p:cNvSpPr/>
          <p:nvPr/>
        </p:nvSpPr>
        <p:spPr>
          <a:xfrm>
            <a:off x="2246400" y="2003400"/>
            <a:ext cx="330120" cy="43200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2000"/>
              <a:gd name="textAreaBottom" fmla="*/ 416160 h 432000"/>
            </a:gdLst>
            <a:ahLst/>
            <a:rect l="textAreaLeft" t="textAreaTop" r="textAreaRight" b="textAreaBottom"/>
            <a:pathLst>
              <a:path w="21600" h="28259">
                <a:moveTo>
                  <a:pt x="3600" y="0"/>
                </a:moveTo>
                <a:arcTo wR="3600" hR="3600" stAng="16200000" swAng="-5400000"/>
                <a:lnTo>
                  <a:pt x="0" y="24659"/>
                </a:lnTo>
                <a:arcTo wR="3600" hR="3600" stAng="10800000" swAng="-5400000"/>
                <a:lnTo>
                  <a:pt x="18000" y="28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2" name="AutoShape 39"/>
          <p:cNvCxnSpPr>
            <a:stCxn id="341" idx="0"/>
          </p:cNvCxnSpPr>
          <p:nvPr/>
        </p:nvCxnSpPr>
        <p:spPr>
          <a:xfrm flipH="1" rot="16200000">
            <a:off x="3341520" y="1058400"/>
            <a:ext cx="16560" cy="1877400"/>
          </a:xfrm>
          <a:prstGeom prst="curvedConnector5">
            <a:avLst>
              <a:gd name="adj1" fmla="val -1348888"/>
              <a:gd name="adj2" fmla="val 50000"/>
              <a:gd name="adj3" fmla="val -1348888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343" name="AutoShape 44"/>
          <p:cNvSpPr/>
          <p:nvPr/>
        </p:nvSpPr>
        <p:spPr>
          <a:xfrm>
            <a:off x="2916360" y="270828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3008160" y="3925800"/>
            <a:ext cx="2192400" cy="11048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252440" y="268200"/>
                <a:ext cx="2246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6084720" y="5157720"/>
                <a:ext cx="139068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5364000" y="692280"/>
                <a:ext cx="820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979640" y="1268280"/>
                <a:ext cx="1547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1979640" y="2349360"/>
                <a:ext cx="13669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292720" y="1341360"/>
                <a:ext cx="1701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2556000" y="3573360"/>
                <a:ext cx="1547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2556000" y="4221000"/>
                <a:ext cx="10317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2556000" y="4869000"/>
                <a:ext cx="909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3492360" y="4869000"/>
                <a:ext cx="6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4284720" y="5157720"/>
                <a:ext cx="66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708360" y="256536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4067280" y="4221000"/>
                <a:ext cx="636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1258920" y="404640"/>
                <a:ext cx="35211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1979640" y="1197000"/>
                <a:ext cx="279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340000" y="1916280"/>
                <a:ext cx="239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2987640" y="270828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7383600" y="270972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5940360" y="2781360"/>
            <a:ext cx="320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ZO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78800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334800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3348000" y="4076640"/>
                <a:ext cx="118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356400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944640" y="404640"/>
                <a:ext cx="31892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1428840" y="1197000"/>
                <a:ext cx="273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1830240" y="1916280"/>
                <a:ext cx="2308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2482920" y="2708280"/>
                <a:ext cx="160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276696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736720" y="4091040"/>
                <a:ext cx="1244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298296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4788000" y="404640"/>
                <a:ext cx="3014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5364000" y="1197000"/>
                <a:ext cx="3370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6227640" y="1916280"/>
                <a:ext cx="25210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364000" y="3141720"/>
                <a:ext cx="1881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6229440" y="5734080"/>
                <a:ext cx="790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6012000" y="4221000"/>
                <a:ext cx="103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6012000" y="4941720"/>
                <a:ext cx="1153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380360" y="3213000"/>
                <a:ext cx="8208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8159760" y="3213000"/>
                <a:ext cx="984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Line 18"/>
          <p:cNvSpPr/>
          <p:nvPr/>
        </p:nvSpPr>
        <p:spPr>
          <a:xfrm>
            <a:off x="6804000" y="378936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687888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7451640" y="3284640"/>
            <a:ext cx="72072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Line 21"/>
          <p:cNvSpPr/>
          <p:nvPr/>
        </p:nvSpPr>
        <p:spPr>
          <a:xfrm flipV="1">
            <a:off x="7451640" y="3212640"/>
            <a:ext cx="720720" cy="79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21164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1228680" y="404640"/>
                <a:ext cx="40086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835280" y="1197000"/>
                <a:ext cx="3916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2914560" y="2852640"/>
                <a:ext cx="29163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3635280" y="3933720"/>
                <a:ext cx="2216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4427640" y="4869000"/>
                <a:ext cx="1000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4427640" y="5516640"/>
                <a:ext cx="1093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4643280" y="6165720"/>
                <a:ext cx="79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2627280" y="1917720"/>
                <a:ext cx="3157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227640" y="4005360"/>
                <a:ext cx="868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3765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rovnice – společný základ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404640"/>
                <a:ext cx="5072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547640" y="1197000"/>
                <a:ext cx="5253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3203640" y="1844640"/>
                <a:ext cx="35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5219640" y="5373720"/>
                <a:ext cx="1546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5219640" y="6021360"/>
                <a:ext cx="1306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7740720" y="6093000"/>
                <a:ext cx="852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877080" y="4149720"/>
                <a:ext cx="706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3348000" y="2997360"/>
                <a:ext cx="34624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4643280" y="4076640"/>
                <a:ext cx="212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7524720" y="544500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333360"/>
                <a:ext cx="3732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19280" y="1052640"/>
                <a:ext cx="312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1619280" y="1916280"/>
                <a:ext cx="3128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2411280" y="2781360"/>
                <a:ext cx="2335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2268360" y="3573360"/>
                <a:ext cx="2489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5435640" y="3573360"/>
                <a:ext cx="3127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5292720" y="5373720"/>
                <a:ext cx="1025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5680080" y="1962000"/>
                <a:ext cx="2065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5219640" y="4076640"/>
                <a:ext cx="1001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5219640" y="472428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156360" y="6021360"/>
                <a:ext cx="1501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7524720" y="4076640"/>
                <a:ext cx="106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7524720" y="4724280"/>
                <a:ext cx="12128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3"/>
              <p:cNvSpPr txBox="1"/>
              <p:nvPr/>
            </p:nvSpPr>
            <p:spPr>
              <a:xfrm>
                <a:off x="7596360" y="5373720"/>
                <a:ext cx="10555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1042920" y="333360"/>
                <a:ext cx="3252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6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1476360" y="1125360"/>
                <a:ext cx="2855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2484360" y="3645000"/>
                <a:ext cx="2184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5651640" y="3860640"/>
                <a:ext cx="3095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5435640" y="285264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5489640" y="472608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7577280" y="4726080"/>
                <a:ext cx="13046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979640" y="1773360"/>
                <a:ext cx="24001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4643280" y="1989000"/>
                <a:ext cx="7002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1908000" y="2781360"/>
                <a:ext cx="3038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5364000" y="476280"/>
                <a:ext cx="35640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z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6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1547640" y="4292640"/>
                <a:ext cx="2698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1332000" y="5013360"/>
                <a:ext cx="3608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6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3"/>
              <p:cNvSpPr txBox="1"/>
              <p:nvPr/>
            </p:nvSpPr>
            <p:spPr>
              <a:xfrm>
                <a:off x="1332000" y="5734080"/>
                <a:ext cx="2152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AutoShape 18"/>
          <p:cNvSpPr/>
          <p:nvPr/>
        </p:nvSpPr>
        <p:spPr>
          <a:xfrm>
            <a:off x="1979640" y="19162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AutoShape 20"/>
          <p:cNvSpPr/>
          <p:nvPr/>
        </p:nvSpPr>
        <p:spPr>
          <a:xfrm>
            <a:off x="4643280" y="1916280"/>
            <a:ext cx="792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AutoShape 23"/>
          <p:cNvSpPr/>
          <p:nvPr/>
        </p:nvSpPr>
        <p:spPr>
          <a:xfrm>
            <a:off x="5219640" y="836640"/>
            <a:ext cx="1297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AutoShape 24"/>
          <p:cNvSpPr/>
          <p:nvPr/>
        </p:nvSpPr>
        <p:spPr>
          <a:xfrm>
            <a:off x="7885080" y="83664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AutoShape 25"/>
          <p:cNvSpPr/>
          <p:nvPr/>
        </p:nvSpPr>
        <p:spPr>
          <a:xfrm>
            <a:off x="1763640" y="2781360"/>
            <a:ext cx="1368360" cy="71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5508720" y="5300640"/>
                <a:ext cx="96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6186600" y="6021360"/>
                <a:ext cx="1439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"/>
              <p:cNvSpPr txBox="1"/>
              <p:nvPr/>
            </p:nvSpPr>
            <p:spPr>
              <a:xfrm>
                <a:off x="7596360" y="5300640"/>
                <a:ext cx="1242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4" name="Object 3"/>
              <p:cNvSpPr txBox="1"/>
              <p:nvPr/>
            </p:nvSpPr>
            <p:spPr>
              <a:xfrm>
                <a:off x="971640" y="260280"/>
                <a:ext cx="3706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3"/>
              <p:cNvSpPr txBox="1"/>
              <p:nvPr/>
            </p:nvSpPr>
            <p:spPr>
              <a:xfrm>
                <a:off x="1692360" y="907920"/>
                <a:ext cx="3494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1979640" y="2637000"/>
                <a:ext cx="221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5580000" y="3573360"/>
                <a:ext cx="3246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5651640" y="177156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5405400" y="4595760"/>
                <a:ext cx="118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7580160" y="4581360"/>
                <a:ext cx="1335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1476360" y="1628640"/>
                <a:ext cx="3100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3"/>
              <p:cNvSpPr txBox="1"/>
              <p:nvPr/>
            </p:nvSpPr>
            <p:spPr>
              <a:xfrm>
                <a:off x="1835280" y="3645000"/>
                <a:ext cx="2334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116000" y="5157720"/>
                <a:ext cx="4032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1116000" y="5734080"/>
                <a:ext cx="2152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4716360" y="2924280"/>
                <a:ext cx="54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1116000" y="4365720"/>
                <a:ext cx="28512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5435640" y="5300640"/>
                <a:ext cx="963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045120" y="6021360"/>
                <a:ext cx="1722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7581960" y="5300640"/>
                <a:ext cx="127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16000" y="333360"/>
                <a:ext cx="397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908000" y="1052640"/>
                <a:ext cx="35848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771640" y="2492280"/>
                <a:ext cx="27306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2195640" y="4869000"/>
                <a:ext cx="467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2987640" y="6021360"/>
                <a:ext cx="851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6372360" y="184320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6012000" y="6021360"/>
                <a:ext cx="806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867280" y="5373720"/>
                <a:ext cx="1122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908000" y="1700280"/>
                <a:ext cx="3556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3059280" y="3427560"/>
                <a:ext cx="2517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5796000" y="2708280"/>
                <a:ext cx="547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2916360" y="4221000"/>
                <a:ext cx="2701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3"/>
          <p:cNvSpPr/>
          <p:nvPr/>
        </p:nvSpPr>
        <p:spPr>
          <a:xfrm>
            <a:off x="900000" y="5373720"/>
            <a:ext cx="4102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cnina – vždy číslo klad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7380360" y="6021360"/>
                <a:ext cx="1252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Times New Roman"/>
              </a:rPr>
              <a:t>Řešené příklady můžeme rozdělit na 3 typ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1042920" y="119700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042920" y="2781360"/>
            <a:ext cx="8101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1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6012000" y="763560"/>
            <a:ext cx="2252520" cy="4251240"/>
            <a:chOff x="6012000" y="763560"/>
            <a:chExt cx="2252520" cy="4251240"/>
          </a:xfrm>
        </p:grpSpPr>
        <mc:AlternateContent>
          <mc:Choice xmlns:a14="http://schemas.microsoft.com/office/drawing/2010/main" Requires="a14">
            <p:sp>
              <p:nvSpPr>
                <p:cNvPr id="479" name="Object 3"/>
                <p:cNvSpPr txBox="1"/>
                <p:nvPr/>
              </p:nvSpPr>
              <p:spPr>
                <a:xfrm>
                  <a:off x="6227640" y="763560"/>
                  <a:ext cx="17258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Object 9"/>
                <p:cNvSpPr txBox="1"/>
                <p:nvPr/>
              </p:nvSpPr>
              <p:spPr>
                <a:xfrm>
                  <a:off x="6012000" y="1311120"/>
                  <a:ext cx="22525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10"/>
                <p:cNvSpPr txBox="1"/>
                <p:nvPr/>
              </p:nvSpPr>
              <p:spPr>
                <a:xfrm>
                  <a:off x="6804000" y="4005360"/>
                  <a:ext cx="892080" cy="100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Object 9"/>
                <p:cNvSpPr txBox="1"/>
                <p:nvPr/>
              </p:nvSpPr>
              <p:spPr>
                <a:xfrm>
                  <a:off x="6372360" y="2205000"/>
                  <a:ext cx="14731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Object 9"/>
                <p:cNvSpPr txBox="1"/>
                <p:nvPr/>
              </p:nvSpPr>
              <p:spPr>
                <a:xfrm>
                  <a:off x="6372360" y="3068640"/>
                  <a:ext cx="133020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4" name="Rectangle 3"/>
          <p:cNvSpPr/>
          <p:nvPr/>
        </p:nvSpPr>
        <p:spPr>
          <a:xfrm>
            <a:off x="1187280" y="51577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AutoShape 10"/>
          <p:cNvSpPr/>
          <p:nvPr/>
        </p:nvSpPr>
        <p:spPr>
          <a:xfrm>
            <a:off x="6156360" y="76500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AutoShape 11"/>
          <p:cNvSpPr/>
          <p:nvPr/>
        </p:nvSpPr>
        <p:spPr>
          <a:xfrm>
            <a:off x="7236000" y="76500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5939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163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1187280" y="6102360"/>
            <a:ext cx="7956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2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7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5867280" y="692280"/>
            <a:ext cx="2729160" cy="4359240"/>
            <a:chOff x="5867280" y="692280"/>
            <a:chExt cx="2729160" cy="4359240"/>
          </a:xfrm>
        </p:grpSpPr>
        <mc:AlternateContent>
          <mc:Choice xmlns:a14="http://schemas.microsoft.com/office/drawing/2010/main" Requires="a14">
            <p:sp>
              <p:nvSpPr>
                <p:cNvPr id="492" name="Object 3"/>
                <p:cNvSpPr txBox="1"/>
                <p:nvPr/>
              </p:nvSpPr>
              <p:spPr>
                <a:xfrm>
                  <a:off x="6516720" y="692280"/>
                  <a:ext cx="20160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Object 3"/>
                <p:cNvSpPr txBox="1"/>
                <p:nvPr/>
              </p:nvSpPr>
              <p:spPr>
                <a:xfrm>
                  <a:off x="5867280" y="1270080"/>
                  <a:ext cx="261324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3"/>
                <p:cNvSpPr txBox="1"/>
                <p:nvPr/>
              </p:nvSpPr>
              <p:spPr>
                <a:xfrm>
                  <a:off x="6300720" y="1922400"/>
                  <a:ext cx="224496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3"/>
                <p:cNvSpPr txBox="1"/>
                <p:nvPr/>
              </p:nvSpPr>
              <p:spPr>
                <a:xfrm>
                  <a:off x="6948360" y="2567160"/>
                  <a:ext cx="164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Object 3"/>
                <p:cNvSpPr txBox="1"/>
                <p:nvPr/>
              </p:nvSpPr>
              <p:spPr>
                <a:xfrm>
                  <a:off x="7308720" y="3214800"/>
                  <a:ext cx="116532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3"/>
                <p:cNvSpPr txBox="1"/>
                <p:nvPr/>
              </p:nvSpPr>
              <p:spPr>
                <a:xfrm>
                  <a:off x="7308720" y="3862440"/>
                  <a:ext cx="110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Object 3"/>
                <p:cNvSpPr txBox="1"/>
                <p:nvPr/>
              </p:nvSpPr>
              <p:spPr>
                <a:xfrm>
                  <a:off x="7524720" y="4513320"/>
                  <a:ext cx="7970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9" name="Rectangle 3"/>
          <p:cNvSpPr/>
          <p:nvPr/>
        </p:nvSpPr>
        <p:spPr>
          <a:xfrm>
            <a:off x="1187280" y="472428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AutoShape 12"/>
          <p:cNvSpPr/>
          <p:nvPr/>
        </p:nvSpPr>
        <p:spPr>
          <a:xfrm>
            <a:off x="6443640" y="69228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797080" y="1890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dvojčlen, v každém členu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cs-CZ" sz="24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AutoShape 14"/>
          <p:cNvSpPr/>
          <p:nvPr/>
        </p:nvSpPr>
        <p:spPr>
          <a:xfrm>
            <a:off x="6227640" y="1989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3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22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87280" y="443700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33560" y="1125360"/>
            <a:ext cx="44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rojčlen; členy neobsahují stejné mocnin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3276720" y="1557360"/>
            <a:ext cx="5083200" cy="2789280"/>
            <a:chOff x="3276720" y="1557360"/>
            <a:chExt cx="5083200" cy="2789280"/>
          </a:xfrm>
        </p:grpSpPr>
        <mc:AlternateContent>
          <mc:Choice xmlns:a14="http://schemas.microsoft.com/office/drawing/2010/main" Requires="a14">
            <p:sp>
              <p:nvSpPr>
                <p:cNvPr id="509" name="Object 3"/>
                <p:cNvSpPr txBox="1"/>
                <p:nvPr/>
              </p:nvSpPr>
              <p:spPr>
                <a:xfrm>
                  <a:off x="3708360" y="1557360"/>
                  <a:ext cx="23702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0" name="Object 3"/>
                <p:cNvSpPr txBox="1"/>
                <p:nvPr/>
              </p:nvSpPr>
              <p:spPr>
                <a:xfrm>
                  <a:off x="3276720" y="2060640"/>
                  <a:ext cx="279072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Object 3"/>
                <p:cNvSpPr txBox="1"/>
                <p:nvPr/>
              </p:nvSpPr>
              <p:spPr>
                <a:xfrm>
                  <a:off x="3276720" y="2708280"/>
                  <a:ext cx="27939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3"/>
                <p:cNvSpPr txBox="1"/>
                <p:nvPr/>
              </p:nvSpPr>
              <p:spPr>
                <a:xfrm>
                  <a:off x="4140360" y="3429000"/>
                  <a:ext cx="19764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</m:t>
                          </m:r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3"/>
                <p:cNvSpPr txBox="1"/>
                <p:nvPr/>
              </p:nvSpPr>
              <p:spPr>
                <a:xfrm>
                  <a:off x="6516720" y="2781360"/>
                  <a:ext cx="184320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ubs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4" name="AutoShape 12"/>
          <p:cNvSpPr/>
          <p:nvPr/>
        </p:nvSpPr>
        <p:spPr>
          <a:xfrm>
            <a:off x="3492360" y="1557360"/>
            <a:ext cx="2089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6372360" y="2852640"/>
            <a:ext cx="2089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ciální rovnice, které lze řešit převodem mocnin na společný zákla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547640" y="3357720"/>
                <a:ext cx="3757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042920" y="184464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476360" y="285264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expon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476360" y="4581360"/>
            <a:ext cx="76676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exponenty, musí se rovnat základ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1"/>
              <p:cNvSpPr txBox="1"/>
              <p:nvPr/>
            </p:nvSpPr>
            <p:spPr>
              <a:xfrm>
                <a:off x="1547640" y="5086440"/>
                <a:ext cx="3589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8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1692360" y="981000"/>
                <a:ext cx="150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701720" y="1800360"/>
                <a:ext cx="1630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"/>
              <p:cNvSpPr txBox="1"/>
              <p:nvPr/>
            </p:nvSpPr>
            <p:spPr>
              <a:xfrm>
                <a:off x="1692360" y="2637000"/>
                <a:ext cx="24778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5"/>
              <p:cNvSpPr txBox="1"/>
              <p:nvPr/>
            </p:nvSpPr>
            <p:spPr>
              <a:xfrm>
                <a:off x="1547640" y="3535200"/>
                <a:ext cx="2006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1547640" y="4149720"/>
                <a:ext cx="207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1547640" y="5518080"/>
                <a:ext cx="2100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5796000" y="1052640"/>
                <a:ext cx="909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5796000" y="17002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5796000" y="285264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96000" y="3429000"/>
                <a:ext cx="1033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13"/>
              <p:cNvSpPr txBox="1"/>
              <p:nvPr/>
            </p:nvSpPr>
            <p:spPr>
              <a:xfrm>
                <a:off x="5796000" y="4437000"/>
                <a:ext cx="1222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14"/>
              <p:cNvSpPr txBox="1"/>
              <p:nvPr/>
            </p:nvSpPr>
            <p:spPr>
              <a:xfrm>
                <a:off x="5796000" y="5948280"/>
                <a:ext cx="1096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2"/>
          <p:cNvSpPr/>
          <p:nvPr/>
        </p:nvSpPr>
        <p:spPr>
          <a:xfrm>
            <a:off x="971640" y="333360"/>
            <a:ext cx="81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68040" indent="-96804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1763640" y="476280"/>
                <a:ext cx="29178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1763640" y="1916280"/>
                <a:ext cx="2914560" cy="11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1763640" y="3357720"/>
                <a:ext cx="31338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1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5"/>
              <p:cNvSpPr txBox="1"/>
              <p:nvPr/>
            </p:nvSpPr>
            <p:spPr>
              <a:xfrm>
                <a:off x="1258920" y="4940280"/>
                <a:ext cx="332100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7"/>
              <p:cNvSpPr txBox="1"/>
              <p:nvPr/>
            </p:nvSpPr>
            <p:spPr>
              <a:xfrm>
                <a:off x="6227640" y="54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8"/>
              <p:cNvSpPr txBox="1"/>
              <p:nvPr/>
            </p:nvSpPr>
            <p:spPr>
              <a:xfrm>
                <a:off x="6227640" y="2060640"/>
                <a:ext cx="1096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9"/>
              <p:cNvSpPr txBox="1"/>
              <p:nvPr/>
            </p:nvSpPr>
            <p:spPr>
              <a:xfrm>
                <a:off x="6227640" y="3708360"/>
                <a:ext cx="2305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10"/>
              <p:cNvSpPr txBox="1"/>
              <p:nvPr/>
            </p:nvSpPr>
            <p:spPr>
              <a:xfrm>
                <a:off x="6227640" y="522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2916360" y="3141720"/>
                <a:ext cx="2006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333360"/>
                <a:ext cx="279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1366920" y="1700280"/>
                <a:ext cx="30099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5"/>
              <p:cNvSpPr txBox="1"/>
              <p:nvPr/>
            </p:nvSpPr>
            <p:spPr>
              <a:xfrm>
                <a:off x="2411280" y="4508640"/>
                <a:ext cx="26035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2771640" y="5805360"/>
                <a:ext cx="1536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8"/>
              <p:cNvSpPr txBox="1"/>
              <p:nvPr/>
            </p:nvSpPr>
            <p:spPr>
              <a:xfrm>
                <a:off x="6227640" y="350028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6227640" y="692280"/>
                <a:ext cx="876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6227640" y="213372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1"/>
              <p:cNvSpPr txBox="1"/>
              <p:nvPr/>
            </p:nvSpPr>
            <p:spPr>
              <a:xfrm>
                <a:off x="6227640" y="4892760"/>
                <a:ext cx="2376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2"/>
              <p:cNvSpPr txBox="1"/>
              <p:nvPr/>
            </p:nvSpPr>
            <p:spPr>
              <a:xfrm>
                <a:off x="6227640" y="5975280"/>
                <a:ext cx="2160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258920" y="2997360"/>
                <a:ext cx="294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835280" y="620640"/>
                <a:ext cx="1912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1114560" y="1700280"/>
                <a:ext cx="2665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5"/>
              <p:cNvSpPr txBox="1"/>
              <p:nvPr/>
            </p:nvSpPr>
            <p:spPr>
              <a:xfrm>
                <a:off x="1258920" y="4149720"/>
                <a:ext cx="2416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6"/>
              <p:cNvSpPr txBox="1"/>
              <p:nvPr/>
            </p:nvSpPr>
            <p:spPr>
              <a:xfrm>
                <a:off x="1906560" y="5300640"/>
                <a:ext cx="3387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6307200" y="27766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300720" y="765000"/>
                <a:ext cx="2197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6300720" y="5732640"/>
                <a:ext cx="1035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6324480" y="1916280"/>
                <a:ext cx="25606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2"/>
              <p:cNvSpPr txBox="1"/>
              <p:nvPr/>
            </p:nvSpPr>
            <p:spPr>
              <a:xfrm>
                <a:off x="6300720" y="429264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1979640" y="476280"/>
                <a:ext cx="260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2124000" y="5661000"/>
                <a:ext cx="22906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1908000" y="2563920"/>
                <a:ext cx="2511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5"/>
              <p:cNvSpPr txBox="1"/>
              <p:nvPr/>
            </p:nvSpPr>
            <p:spPr>
              <a:xfrm>
                <a:off x="1763640" y="3645000"/>
                <a:ext cx="2824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6"/>
              <p:cNvSpPr txBox="1"/>
              <p:nvPr/>
            </p:nvSpPr>
            <p:spPr>
              <a:xfrm>
                <a:off x="2124000" y="4724280"/>
                <a:ext cx="244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8"/>
              <p:cNvSpPr txBox="1"/>
              <p:nvPr/>
            </p:nvSpPr>
            <p:spPr>
              <a:xfrm>
                <a:off x="6300720" y="2637000"/>
                <a:ext cx="814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9"/>
              <p:cNvSpPr txBox="1"/>
              <p:nvPr/>
            </p:nvSpPr>
            <p:spPr>
              <a:xfrm>
                <a:off x="6300720" y="5475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0"/>
              <p:cNvSpPr txBox="1"/>
              <p:nvPr/>
            </p:nvSpPr>
            <p:spPr>
              <a:xfrm>
                <a:off x="6315120" y="590868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1"/>
              <p:cNvSpPr txBox="1"/>
              <p:nvPr/>
            </p:nvSpPr>
            <p:spPr>
              <a:xfrm>
                <a:off x="630072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2"/>
              <p:cNvSpPr txBox="1"/>
              <p:nvPr/>
            </p:nvSpPr>
            <p:spPr>
              <a:xfrm>
                <a:off x="6315120" y="482760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3"/>
              <p:cNvSpPr txBox="1"/>
              <p:nvPr/>
            </p:nvSpPr>
            <p:spPr>
              <a:xfrm>
                <a:off x="6300720" y="155592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4"/>
              <p:cNvSpPr txBox="1"/>
              <p:nvPr/>
            </p:nvSpPr>
            <p:spPr>
              <a:xfrm>
                <a:off x="1476360" y="1484280"/>
                <a:ext cx="288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1" name="Object 2"/>
              <p:cNvSpPr txBox="1"/>
              <p:nvPr/>
            </p:nvSpPr>
            <p:spPr>
              <a:xfrm>
                <a:off x="1476360" y="476280"/>
                <a:ext cx="344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620720" y="5805360"/>
                <a:ext cx="2511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"/>
              <p:cNvSpPr txBox="1"/>
              <p:nvPr/>
            </p:nvSpPr>
            <p:spPr>
              <a:xfrm>
                <a:off x="1547640" y="2565360"/>
                <a:ext cx="254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5"/>
              <p:cNvSpPr txBox="1"/>
              <p:nvPr/>
            </p:nvSpPr>
            <p:spPr>
              <a:xfrm>
                <a:off x="1547640" y="3645000"/>
                <a:ext cx="382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6"/>
              <p:cNvSpPr txBox="1"/>
              <p:nvPr/>
            </p:nvSpPr>
            <p:spPr>
              <a:xfrm>
                <a:off x="1620720" y="4724280"/>
                <a:ext cx="4362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8"/>
              <p:cNvSpPr txBox="1"/>
              <p:nvPr/>
            </p:nvSpPr>
            <p:spPr>
              <a:xfrm>
                <a:off x="7093080" y="26370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9"/>
              <p:cNvSpPr txBox="1"/>
              <p:nvPr/>
            </p:nvSpPr>
            <p:spPr>
              <a:xfrm>
                <a:off x="7093080" y="5493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10"/>
              <p:cNvSpPr txBox="1"/>
              <p:nvPr/>
            </p:nvSpPr>
            <p:spPr>
              <a:xfrm>
                <a:off x="7093080" y="5661000"/>
                <a:ext cx="971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11"/>
              <p:cNvSpPr txBox="1"/>
              <p:nvPr/>
            </p:nvSpPr>
            <p:spPr>
              <a:xfrm>
                <a:off x="713916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2"/>
              <p:cNvSpPr txBox="1"/>
              <p:nvPr/>
            </p:nvSpPr>
            <p:spPr>
              <a:xfrm>
                <a:off x="7137360" y="48276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3"/>
              <p:cNvSpPr txBox="1"/>
              <p:nvPr/>
            </p:nvSpPr>
            <p:spPr>
              <a:xfrm>
                <a:off x="7093080" y="155736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14"/>
              <p:cNvSpPr txBox="1"/>
              <p:nvPr/>
            </p:nvSpPr>
            <p:spPr>
              <a:xfrm>
                <a:off x="1476360" y="1484280"/>
                <a:ext cx="376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258920" y="620640"/>
                <a:ext cx="517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258920" y="1700280"/>
                <a:ext cx="43592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1332000" y="4365720"/>
                <a:ext cx="2320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1332000" y="5446800"/>
                <a:ext cx="3260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1332000" y="3213000"/>
                <a:ext cx="3228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8"/>
              <p:cNvSpPr txBox="1"/>
              <p:nvPr/>
            </p:nvSpPr>
            <p:spPr>
              <a:xfrm>
                <a:off x="6950160" y="450864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6950160" y="549360"/>
                <a:ext cx="9745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0"/>
              <p:cNvSpPr txBox="1"/>
              <p:nvPr/>
            </p:nvSpPr>
            <p:spPr>
              <a:xfrm>
                <a:off x="6972480" y="5516640"/>
                <a:ext cx="2171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1"/>
              <p:cNvSpPr txBox="1"/>
              <p:nvPr/>
            </p:nvSpPr>
            <p:spPr>
              <a:xfrm>
                <a:off x="6948360" y="1916280"/>
                <a:ext cx="1376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2"/>
              <p:cNvSpPr txBox="1"/>
              <p:nvPr/>
            </p:nvSpPr>
            <p:spPr>
              <a:xfrm>
                <a:off x="6966000" y="3284640"/>
                <a:ext cx="2125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3" name="Object 2"/>
              <p:cNvSpPr txBox="1"/>
              <p:nvPr/>
            </p:nvSpPr>
            <p:spPr>
              <a:xfrm>
                <a:off x="1476360" y="620640"/>
                <a:ext cx="21319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1547640" y="2205000"/>
                <a:ext cx="222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4"/>
              <p:cNvSpPr txBox="1"/>
              <p:nvPr/>
            </p:nvSpPr>
            <p:spPr>
              <a:xfrm>
                <a:off x="1547640" y="3500280"/>
                <a:ext cx="2667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6"/>
              <p:cNvSpPr txBox="1"/>
              <p:nvPr/>
            </p:nvSpPr>
            <p:spPr>
              <a:xfrm>
                <a:off x="5940360" y="765000"/>
                <a:ext cx="14176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7"/>
              <p:cNvSpPr txBox="1"/>
              <p:nvPr/>
            </p:nvSpPr>
            <p:spPr>
              <a:xfrm>
                <a:off x="5943600" y="2259000"/>
                <a:ext cx="2328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8"/>
              <p:cNvSpPr txBox="1"/>
              <p:nvPr/>
            </p:nvSpPr>
            <p:spPr>
              <a:xfrm>
                <a:off x="5940360" y="328464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3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71640" y="1890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... opět definice mocniny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843280" y="907920"/>
                <a:ext cx="3903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843280" y="227664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2838600" y="3068640"/>
                <a:ext cx="6305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8"/>
              <p:cNvSpPr txBox="1"/>
              <p:nvPr/>
            </p:nvSpPr>
            <p:spPr>
              <a:xfrm>
                <a:off x="2843280" y="5338800"/>
                <a:ext cx="23763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q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187280" y="1413000"/>
                <a:ext cx="11750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1187280" y="242100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0"/>
              <p:cNvSpPr txBox="1"/>
              <p:nvPr/>
            </p:nvSpPr>
            <p:spPr>
              <a:xfrm>
                <a:off x="1187280" y="3429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0"/>
              <p:cNvSpPr txBox="1"/>
              <p:nvPr/>
            </p:nvSpPr>
            <p:spPr>
              <a:xfrm>
                <a:off x="1187280" y="4437000"/>
                <a:ext cx="6667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je zlomek 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kde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r>
                      <m:t xml:space="preserve">q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42920" y="260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Nejčastější chyba!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116000" y="1052640"/>
            <a:ext cx="80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nemění znaménko základu!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2916360" y="3213000"/>
            <a:ext cx="29876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NESMYSL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042920" y="4076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Správné řešení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116000" y="479736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je záporné v čitateli výrazu, tudíž bude kladné ve jmenovateli výrazu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5003640" y="5157720"/>
                <a:ext cx="38512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" name="Group 8"/>
          <p:cNvGrpSpPr/>
          <p:nvPr/>
        </p:nvGrpSpPr>
        <p:grpSpPr>
          <a:xfrm>
            <a:off x="2556000" y="1628280"/>
            <a:ext cx="3960720" cy="1800360"/>
            <a:chOff x="2556000" y="1628280"/>
            <a:chExt cx="3960720" cy="1800360"/>
          </a:xfrm>
        </p:grpSpPr>
        <mc:AlternateContent>
          <mc:Choice xmlns:a14="http://schemas.microsoft.com/office/drawing/2010/main" Requires="a14">
            <p:sp>
              <p:nvSpPr>
                <p:cNvPr id="164" name="Object 3"/>
                <p:cNvSpPr txBox="1"/>
                <p:nvPr/>
              </p:nvSpPr>
              <p:spPr>
                <a:xfrm>
                  <a:off x="2556000" y="1839600"/>
                  <a:ext cx="3960720" cy="10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Line 11"/>
            <p:cNvSpPr/>
            <p:nvPr/>
          </p:nvSpPr>
          <p:spPr>
            <a:xfrm flipV="1">
              <a:off x="2611800" y="1680480"/>
              <a:ext cx="3854520" cy="1694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 flipH="1" flipV="1">
              <a:off x="2556000" y="1628280"/>
              <a:ext cx="3854160" cy="180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Mocnin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42920" y="1052640"/>
            <a:ext cx="810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i="1" lang="cs-CZ" sz="24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, s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Q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1116000" y="1773360"/>
                <a:ext cx="27892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1098720" y="2421000"/>
                <a:ext cx="2269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1116000" y="3716280"/>
                <a:ext cx="26319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1116000" y="4797360"/>
                <a:ext cx="31780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1116000" y="5649840"/>
                <a:ext cx="24624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Rectangle 3"/>
          <p:cNvSpPr/>
          <p:nvPr/>
        </p:nvSpPr>
        <p:spPr>
          <a:xfrm>
            <a:off x="4788000" y="1916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násobíme, exponenty s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788000" y="28400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dělíme, exponenty ode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788000" y="378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mocninu, exponenty   násobí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788000" y="4869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součin, umocňujeme každého čini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788000" y="5877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podíl, umocňujeme zvlášť čitatele, zvlášť jmenova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1116000" y="1700280"/>
                <a:ext cx="16732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154764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763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635280" y="1700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413856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4427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6156360" y="1700280"/>
                <a:ext cx="210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661080" y="2490840"/>
                <a:ext cx="1606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7164360" y="3932280"/>
                <a:ext cx="936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6661080" y="3282840"/>
                <a:ext cx="1470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549360"/>
                <a:ext cx="192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674720" y="1341360"/>
                <a:ext cx="16858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2320920" y="3789360"/>
                <a:ext cx="10652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1962000" y="2349360"/>
                <a:ext cx="14814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2104920" y="3213000"/>
                <a:ext cx="11350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5292720" y="476280"/>
                <a:ext cx="2168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5724360" y="1341360"/>
                <a:ext cx="1892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0"/>
              <p:cNvSpPr txBox="1"/>
              <p:nvPr/>
            </p:nvSpPr>
            <p:spPr>
              <a:xfrm>
                <a:off x="5765760" y="3902040"/>
                <a:ext cx="161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5595840" y="2205000"/>
                <a:ext cx="1822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4500720" y="3139920"/>
                <a:ext cx="3090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476360" y="333360"/>
                <a:ext cx="2443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1763640" y="1701720"/>
                <a:ext cx="2095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4869000"/>
                <a:ext cx="1407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1979640" y="2781360"/>
                <a:ext cx="1857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2195640" y="3789360"/>
                <a:ext cx="13413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148360" y="620640"/>
                <a:ext cx="28414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5565600" y="1825560"/>
                <a:ext cx="2100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429240" y="4202280"/>
                <a:ext cx="110016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5421240" y="2833560"/>
                <a:ext cx="21718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6502320" y="3625920"/>
                <a:ext cx="1174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43Z</dcterms:modified>
  <cp:revision>319</cp:revision>
  <dc:subject/>
  <dc:title>FCE</dc:title>
</cp:coreProperties>
</file>