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34A2-5A33-4661-BE7E-9534E417E7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1D0D-3C8A-4FB5-8B1B-EFB667C5091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9FB4-53FA-4792-BBF2-C4D017E259F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4F7F-1B1F-406E-A859-6FF082A503C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1D0D-15A1-4B1B-ABFC-B59C203AD69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B69-F680-4FEB-AD6A-D4A81F3E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213-4238-4919-8612-A13804BF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2B8-6314-4821-8260-43C7CC34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D9C-1528-469D-A415-0F88A692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909D-6593-4090-A8FB-727F43BB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5122-7107-43D0-926F-C7F8658E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641F-F5DD-4BE9-98A6-9A00CDE0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2561-F9D5-408F-A51E-F504A2F2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B7B0-943F-4E49-99AF-0B0A92FB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AD77-8A0B-491B-BE1C-52284109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C6CB-8923-456C-B86F-F3F96EB5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D73-41CE-4A25-BB8E-B9E4D450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032C-8DAF-43BB-A8B7-BAF3D678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55E7-B7F6-4112-9208-F75C355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32EF-98BD-4A8A-9F75-25F2703C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A588-2F12-4A1D-86BD-8F1808C5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F7DE-CA84-4C88-A2AE-6DC60A4D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9EA-2E6D-48AA-BE19-4BD1A4D0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252-B7FF-4D2E-AE51-D0278652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A5B-8754-4731-BB3C-01683878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7FC-F93C-439F-AA80-BDF4D640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6C1-6E78-4069-AFA7-A9595BB2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AD0-4CE0-4592-8ED0-38DC74A5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E28-0DBF-4E74-AAED-FE3D4E8E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E48C-DA43-4AEE-B11B-686C9C160C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C15F-9E94-4764-A022-58FF9A0ACFA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prosté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042920" y="1125360"/>
            <a:ext cx="8101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lastnost určíme snadno z grafu funkce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prostá, protne libovolná rovnoběžka s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jí graf nejvýše jedno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896080" y="6165720"/>
            <a:ext cx="32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lineární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je prost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55680" y="5030640"/>
            <a:ext cx="50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oniometrická funkce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sinus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není prost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6"/>
          <p:cNvGrpSpPr/>
          <p:nvPr/>
        </p:nvGrpSpPr>
        <p:grpSpPr>
          <a:xfrm>
            <a:off x="1114560" y="3645000"/>
            <a:ext cx="5184720" cy="865080"/>
            <a:chOff x="1114560" y="3645000"/>
            <a:chExt cx="5184720" cy="865080"/>
          </a:xfrm>
        </p:grpSpPr>
        <p:sp>
          <p:nvSpPr>
            <p:cNvPr id="276" name="Freeform 7"/>
            <p:cNvSpPr/>
            <p:nvPr/>
          </p:nvSpPr>
          <p:spPr>
            <a:xfrm>
              <a:off x="2409840" y="407664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Freeform 8"/>
            <p:cNvSpPr/>
            <p:nvPr/>
          </p:nvSpPr>
          <p:spPr>
            <a:xfrm flipV="1">
              <a:off x="3706920" y="364500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Freeform 9"/>
            <p:cNvSpPr/>
            <p:nvPr/>
          </p:nvSpPr>
          <p:spPr>
            <a:xfrm flipV="1">
              <a:off x="1114560" y="364500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Freeform 10"/>
            <p:cNvSpPr/>
            <p:nvPr/>
          </p:nvSpPr>
          <p:spPr>
            <a:xfrm>
              <a:off x="5002200" y="407664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0" name="Text Box 11"/>
          <p:cNvSpPr/>
          <p:nvPr/>
        </p:nvSpPr>
        <p:spPr>
          <a:xfrm>
            <a:off x="370800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3706920" y="4365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3635280" y="3645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3635280" y="451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4" name="Group 15"/>
          <p:cNvGrpSpPr/>
          <p:nvPr/>
        </p:nvGrpSpPr>
        <p:grpSpPr>
          <a:xfrm>
            <a:off x="969840" y="2997360"/>
            <a:ext cx="5769000" cy="1942560"/>
            <a:chOff x="969840" y="2997360"/>
            <a:chExt cx="5769000" cy="1942560"/>
          </a:xfrm>
        </p:grpSpPr>
        <p:sp>
          <p:nvSpPr>
            <p:cNvPr id="285" name="Line 16"/>
            <p:cNvSpPr/>
            <p:nvPr/>
          </p:nvSpPr>
          <p:spPr>
            <a:xfrm>
              <a:off x="969840" y="4076640"/>
              <a:ext cx="56898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 flipV="1">
              <a:off x="3706920" y="3139560"/>
              <a:ext cx="0" cy="180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3636360" y="4005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3708360" y="2997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6445440" y="40766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21"/>
          <p:cNvSpPr/>
          <p:nvPr/>
        </p:nvSpPr>
        <p:spPr>
          <a:xfrm>
            <a:off x="4858920" y="350028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sin 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22"/>
          <p:cNvGrpSpPr/>
          <p:nvPr/>
        </p:nvGrpSpPr>
        <p:grpSpPr>
          <a:xfrm>
            <a:off x="6732720" y="2565360"/>
            <a:ext cx="2411280" cy="3455640"/>
            <a:chOff x="6732720" y="2565360"/>
            <a:chExt cx="2411280" cy="3455640"/>
          </a:xfrm>
        </p:grpSpPr>
        <p:sp>
          <p:nvSpPr>
            <p:cNvPr id="292" name="Line 23"/>
            <p:cNvSpPr/>
            <p:nvPr/>
          </p:nvSpPr>
          <p:spPr>
            <a:xfrm>
              <a:off x="6732720" y="4797360"/>
              <a:ext cx="2411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V="1">
              <a:off x="7740720" y="2707920"/>
              <a:ext cx="0" cy="3313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Text Box 25"/>
            <p:cNvSpPr/>
            <p:nvPr/>
          </p:nvSpPr>
          <p:spPr>
            <a:xfrm>
              <a:off x="7668720" y="472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Text Box 26"/>
            <p:cNvSpPr/>
            <p:nvPr/>
          </p:nvSpPr>
          <p:spPr>
            <a:xfrm>
              <a:off x="7813800" y="2565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Text Box 27"/>
            <p:cNvSpPr/>
            <p:nvPr/>
          </p:nvSpPr>
          <p:spPr>
            <a:xfrm>
              <a:off x="8848800" y="4869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7" name="Line 28"/>
          <p:cNvSpPr/>
          <p:nvPr/>
        </p:nvSpPr>
        <p:spPr>
          <a:xfrm>
            <a:off x="1116000" y="4365720"/>
            <a:ext cx="5327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8" name="Group 63"/>
          <p:cNvGrpSpPr/>
          <p:nvPr/>
        </p:nvGrpSpPr>
        <p:grpSpPr>
          <a:xfrm>
            <a:off x="2626920" y="4292640"/>
            <a:ext cx="144720" cy="142920"/>
            <a:chOff x="2626920" y="4292640"/>
            <a:chExt cx="144720" cy="142920"/>
          </a:xfrm>
        </p:grpSpPr>
        <p:sp>
          <p:nvSpPr>
            <p:cNvPr id="299" name="Line 64"/>
            <p:cNvSpPr/>
            <p:nvPr/>
          </p:nvSpPr>
          <p:spPr>
            <a:xfrm>
              <a:off x="262728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Line 65"/>
            <p:cNvSpPr/>
            <p:nvPr/>
          </p:nvSpPr>
          <p:spPr>
            <a:xfrm flipH="1">
              <a:off x="262692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3347640" y="4292640"/>
            <a:ext cx="144720" cy="142920"/>
            <a:chOff x="3347640" y="4292640"/>
            <a:chExt cx="144720" cy="142920"/>
          </a:xfrm>
        </p:grpSpPr>
        <p:sp>
          <p:nvSpPr>
            <p:cNvPr id="302" name="Line 64"/>
            <p:cNvSpPr/>
            <p:nvPr/>
          </p:nvSpPr>
          <p:spPr>
            <a:xfrm>
              <a:off x="3348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Line 65"/>
            <p:cNvSpPr/>
            <p:nvPr/>
          </p:nvSpPr>
          <p:spPr>
            <a:xfrm flipH="1">
              <a:off x="3347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4" name="Group 63"/>
          <p:cNvGrpSpPr/>
          <p:nvPr/>
        </p:nvGrpSpPr>
        <p:grpSpPr>
          <a:xfrm>
            <a:off x="5219280" y="4292640"/>
            <a:ext cx="144720" cy="142920"/>
            <a:chOff x="5219280" y="4292640"/>
            <a:chExt cx="144720" cy="142920"/>
          </a:xfrm>
        </p:grpSpPr>
        <p:sp>
          <p:nvSpPr>
            <p:cNvPr id="305" name="Line 64"/>
            <p:cNvSpPr/>
            <p:nvPr/>
          </p:nvSpPr>
          <p:spPr>
            <a:xfrm>
              <a:off x="5219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65"/>
            <p:cNvSpPr/>
            <p:nvPr/>
          </p:nvSpPr>
          <p:spPr>
            <a:xfrm flipH="1">
              <a:off x="521928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7" name="Group 63"/>
          <p:cNvGrpSpPr/>
          <p:nvPr/>
        </p:nvGrpSpPr>
        <p:grpSpPr>
          <a:xfrm>
            <a:off x="5940000" y="4292640"/>
            <a:ext cx="144720" cy="142920"/>
            <a:chOff x="5940000" y="4292640"/>
            <a:chExt cx="144720" cy="142920"/>
          </a:xfrm>
        </p:grpSpPr>
        <p:sp>
          <p:nvSpPr>
            <p:cNvPr id="308" name="Line 64"/>
            <p:cNvSpPr/>
            <p:nvPr/>
          </p:nvSpPr>
          <p:spPr>
            <a:xfrm>
              <a:off x="594036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Line 65"/>
            <p:cNvSpPr/>
            <p:nvPr/>
          </p:nvSpPr>
          <p:spPr>
            <a:xfrm flipH="1">
              <a:off x="5940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0" name="Group 41"/>
          <p:cNvGrpSpPr/>
          <p:nvPr/>
        </p:nvGrpSpPr>
        <p:grpSpPr>
          <a:xfrm>
            <a:off x="1763640" y="4005360"/>
            <a:ext cx="71640" cy="431280"/>
            <a:chOff x="1763640" y="4005360"/>
            <a:chExt cx="71640" cy="431280"/>
          </a:xfrm>
        </p:grpSpPr>
        <p:sp>
          <p:nvSpPr>
            <p:cNvPr id="311" name="Line 33"/>
            <p:cNvSpPr/>
            <p:nvPr/>
          </p:nvSpPr>
          <p:spPr>
            <a:xfrm flipV="1">
              <a:off x="1763640" y="429408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2" name="Line 34"/>
            <p:cNvSpPr/>
            <p:nvPr/>
          </p:nvSpPr>
          <p:spPr>
            <a:xfrm flipV="1">
              <a:off x="1835280" y="429408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3"/>
            <p:cNvSpPr/>
            <p:nvPr/>
          </p:nvSpPr>
          <p:spPr>
            <a:xfrm flipV="1">
              <a:off x="1763640" y="400536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34"/>
            <p:cNvSpPr/>
            <p:nvPr/>
          </p:nvSpPr>
          <p:spPr>
            <a:xfrm flipV="1">
              <a:off x="1835280" y="400536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5" name="Line 46"/>
          <p:cNvSpPr/>
          <p:nvPr/>
        </p:nvSpPr>
        <p:spPr>
          <a:xfrm flipV="1">
            <a:off x="7164360" y="2781360"/>
            <a:ext cx="1511280" cy="3240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7381440" y="3645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48"/>
          <p:cNvSpPr/>
          <p:nvPr/>
        </p:nvSpPr>
        <p:spPr>
          <a:xfrm>
            <a:off x="7669080" y="3860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8029080" y="486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Line 50"/>
          <p:cNvSpPr/>
          <p:nvPr/>
        </p:nvSpPr>
        <p:spPr>
          <a:xfrm flipV="1">
            <a:off x="8172360" y="472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51"/>
          <p:cNvSpPr/>
          <p:nvPr/>
        </p:nvSpPr>
        <p:spPr>
          <a:xfrm>
            <a:off x="8172360" y="3860640"/>
            <a:ext cx="0" cy="863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52"/>
          <p:cNvSpPr/>
          <p:nvPr/>
        </p:nvSpPr>
        <p:spPr>
          <a:xfrm>
            <a:off x="7740720" y="3860640"/>
            <a:ext cx="431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8309160" y="32846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</a:t>
            </a:r>
            <a:r>
              <a:rPr b="0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54"/>
          <p:cNvSpPr/>
          <p:nvPr/>
        </p:nvSpPr>
        <p:spPr>
          <a:xfrm>
            <a:off x="6732720" y="3860640"/>
            <a:ext cx="24112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Group 55"/>
          <p:cNvGrpSpPr/>
          <p:nvPr/>
        </p:nvGrpSpPr>
        <p:grpSpPr>
          <a:xfrm>
            <a:off x="7021440" y="3789000"/>
            <a:ext cx="71640" cy="1077840"/>
            <a:chOff x="7021440" y="3789000"/>
            <a:chExt cx="71640" cy="1077840"/>
          </a:xfrm>
        </p:grpSpPr>
        <p:sp>
          <p:nvSpPr>
            <p:cNvPr id="325" name="Line 33"/>
            <p:cNvSpPr/>
            <p:nvPr/>
          </p:nvSpPr>
          <p:spPr>
            <a:xfrm flipV="1">
              <a:off x="7021440" y="4723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34"/>
            <p:cNvSpPr/>
            <p:nvPr/>
          </p:nvSpPr>
          <p:spPr>
            <a:xfrm flipV="1">
              <a:off x="7093080" y="4723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Line 33"/>
            <p:cNvSpPr/>
            <p:nvPr/>
          </p:nvSpPr>
          <p:spPr>
            <a:xfrm flipV="1">
              <a:off x="7021440" y="37890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34"/>
            <p:cNvSpPr/>
            <p:nvPr/>
          </p:nvSpPr>
          <p:spPr>
            <a:xfrm flipV="1">
              <a:off x="7093080" y="37890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9" name="Group 63"/>
          <p:cNvGrpSpPr/>
          <p:nvPr/>
        </p:nvGrpSpPr>
        <p:grpSpPr>
          <a:xfrm>
            <a:off x="8100720" y="3789360"/>
            <a:ext cx="144720" cy="142920"/>
            <a:chOff x="8100720" y="3789360"/>
            <a:chExt cx="144720" cy="142920"/>
          </a:xfrm>
        </p:grpSpPr>
        <p:sp>
          <p:nvSpPr>
            <p:cNvPr id="330" name="Line 64"/>
            <p:cNvSpPr/>
            <p:nvPr/>
          </p:nvSpPr>
          <p:spPr>
            <a:xfrm>
              <a:off x="810108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65"/>
            <p:cNvSpPr/>
            <p:nvPr/>
          </p:nvSpPr>
          <p:spPr>
            <a:xfrm flipH="1">
              <a:off x="810072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705800" cy="4260600"/>
        </p:xfrm>
        <a:graphic>
          <a:graphicData uri="http://schemas.openxmlformats.org/drawingml/2006/table">
            <a:tbl>
              <a:tblPr/>
              <a:tblGrid>
                <a:gridCol w="3529080"/>
                <a:gridCol w="417672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ezenost a period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st funkce; Prost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názorné příklady.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 omezená zdola, shora; Funkce omezená; Funkce periodická; Perioda; Prost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I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OMEZE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1268280"/>
            <a:ext cx="802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s definičním oborem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ůže být na tomto obor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0640" indent="-530280">
              <a:lnSpc>
                <a:spcPct val="10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 zdo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0640" indent="-530280">
              <a:lnSpc>
                <a:spcPct val="10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 shor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stliže je funkce omezená zdola a současně i shora, je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istuje však mnoho funkcí, které jsou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neomezen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42920" y="981000"/>
            <a:ext cx="810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čísl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093080" y="5229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–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042920" y="189000"/>
            <a:ext cx="7916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 zdola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411280" y="1557360"/>
            <a:ext cx="1440000" cy="577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1332000" y="2060640"/>
            <a:ext cx="6726240" cy="4394160"/>
            <a:chOff x="1332000" y="2060640"/>
            <a:chExt cx="6726240" cy="4394160"/>
          </a:xfrm>
        </p:grpSpPr>
        <p:sp>
          <p:nvSpPr>
            <p:cNvPr id="148" name="Text Box 7"/>
            <p:cNvSpPr/>
            <p:nvPr/>
          </p:nvSpPr>
          <p:spPr>
            <a:xfrm>
              <a:off x="414144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49" name="Group 8"/>
            <p:cNvGrpSpPr/>
            <p:nvPr/>
          </p:nvGrpSpPr>
          <p:grpSpPr>
            <a:xfrm>
              <a:off x="1332000" y="2278080"/>
              <a:ext cx="6726240" cy="4176720"/>
              <a:chOff x="1332000" y="2278080"/>
              <a:chExt cx="6726240" cy="4176720"/>
            </a:xfrm>
          </p:grpSpPr>
          <p:sp>
            <p:nvSpPr>
              <p:cNvPr id="150" name="Line 9"/>
              <p:cNvSpPr/>
              <p:nvPr/>
            </p:nvSpPr>
            <p:spPr>
              <a:xfrm>
                <a:off x="3922560" y="5805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1" name="Line 10"/>
              <p:cNvSpPr/>
              <p:nvPr/>
            </p:nvSpPr>
            <p:spPr>
              <a:xfrm>
                <a:off x="5146560" y="458172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2" name="Line 11"/>
              <p:cNvSpPr/>
              <p:nvPr/>
            </p:nvSpPr>
            <p:spPr>
              <a:xfrm flipV="1">
                <a:off x="3994200" y="2278080"/>
                <a:ext cx="1440" cy="41767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1332000" y="4653000"/>
                <a:ext cx="6624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4" name="Text Box 13"/>
              <p:cNvSpPr/>
              <p:nvPr/>
            </p:nvSpPr>
            <p:spPr>
              <a:xfrm>
                <a:off x="399744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5" name="Text Box 14"/>
              <p:cNvSpPr/>
              <p:nvPr/>
            </p:nvSpPr>
            <p:spPr>
              <a:xfrm>
                <a:off x="7741800" y="47260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>
                <a:off x="5078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3997440" y="57340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 flipH="1">
                <a:off x="5148360" y="2494080"/>
                <a:ext cx="2232000" cy="3311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9" name="Text Box 18"/>
              <p:cNvSpPr/>
              <p:nvPr/>
            </p:nvSpPr>
            <p:spPr>
              <a:xfrm>
                <a:off x="6805440" y="249408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0" name="Line 19"/>
              <p:cNvSpPr/>
              <p:nvPr/>
            </p:nvSpPr>
            <p:spPr>
              <a:xfrm flipV="1">
                <a:off x="5148360" y="4653000"/>
                <a:ext cx="0" cy="11541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1" name="Line 20"/>
              <p:cNvSpPr/>
              <p:nvPr/>
            </p:nvSpPr>
            <p:spPr>
              <a:xfrm>
                <a:off x="1332000" y="5805720"/>
                <a:ext cx="381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Line 21"/>
          <p:cNvSpPr/>
          <p:nvPr/>
        </p:nvSpPr>
        <p:spPr>
          <a:xfrm>
            <a:off x="1332000" y="5805360"/>
            <a:ext cx="6985080" cy="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042920" y="981000"/>
            <a:ext cx="810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čísl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380360" y="270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042920" y="189000"/>
            <a:ext cx="7916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 shora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411280" y="1557360"/>
            <a:ext cx="1513080" cy="577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474920" y="3286080"/>
            <a:ext cx="6984720" cy="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1403280" y="2133720"/>
            <a:ext cx="6726240" cy="4463640"/>
            <a:chOff x="1403280" y="2133720"/>
            <a:chExt cx="6726240" cy="4463640"/>
          </a:xfrm>
        </p:grpSpPr>
        <p:sp>
          <p:nvSpPr>
            <p:cNvPr id="169" name="Text Box 8"/>
            <p:cNvSpPr/>
            <p:nvPr/>
          </p:nvSpPr>
          <p:spPr>
            <a:xfrm>
              <a:off x="406836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 flipV="1">
              <a:off x="4066920" y="2349000"/>
              <a:ext cx="0" cy="4248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1403280" y="5373720"/>
              <a:ext cx="662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4068720" y="544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7813080" y="544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6516360" y="4221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3993840" y="328608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15"/>
            <p:cNvSpPr/>
            <p:nvPr/>
          </p:nvSpPr>
          <p:spPr>
            <a:xfrm>
              <a:off x="4068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1474560" y="3429000"/>
              <a:ext cx="6193080" cy="3097080"/>
            </a:xfrm>
            <a:custGeom>
              <a:avLst/>
              <a:gdLst/>
              <a:ahLst/>
              <a:rect l="l" t="t" r="r" b="b"/>
              <a:pathLst>
                <a:path w="3901" h="1951">
                  <a:moveTo>
                    <a:pt x="0" y="0"/>
                  </a:moveTo>
                  <a:cubicBezTo>
                    <a:pt x="412" y="7"/>
                    <a:pt x="825" y="15"/>
                    <a:pt x="1180" y="45"/>
                  </a:cubicBezTo>
                  <a:cubicBezTo>
                    <a:pt x="1535" y="75"/>
                    <a:pt x="1845" y="84"/>
                    <a:pt x="2132" y="182"/>
                  </a:cubicBezTo>
                  <a:cubicBezTo>
                    <a:pt x="2419" y="280"/>
                    <a:pt x="2608" y="340"/>
                    <a:pt x="2903" y="635"/>
                  </a:cubicBezTo>
                  <a:cubicBezTo>
                    <a:pt x="3198" y="930"/>
                    <a:pt x="3549" y="1440"/>
                    <a:pt x="3901" y="1951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1332000" y="2205000"/>
            <a:ext cx="7086600" cy="4392360"/>
            <a:chOff x="1332000" y="2205000"/>
            <a:chExt cx="7086600" cy="4392360"/>
          </a:xfrm>
        </p:grpSpPr>
        <p:sp>
          <p:nvSpPr>
            <p:cNvPr id="179" name="Text Box 3"/>
            <p:cNvSpPr/>
            <p:nvPr/>
          </p:nvSpPr>
          <p:spPr>
            <a:xfrm>
              <a:off x="4860720" y="220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4788000" y="2349000"/>
              <a:ext cx="0" cy="4248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>
              <a:off x="1332000" y="5084640"/>
              <a:ext cx="705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789800" y="50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810216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6878520" y="3213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4714920" y="314316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478980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>
              <a:off x="4716360" y="5732640"/>
              <a:ext cx="21456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4789800" y="5661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89" name="Group 13"/>
            <p:cNvGrpSpPr/>
            <p:nvPr/>
          </p:nvGrpSpPr>
          <p:grpSpPr>
            <a:xfrm>
              <a:off x="1908000" y="3213000"/>
              <a:ext cx="5759280" cy="2448000"/>
              <a:chOff x="1908000" y="3213000"/>
              <a:chExt cx="5759280" cy="2448000"/>
            </a:xfrm>
          </p:grpSpPr>
          <p:sp>
            <p:nvSpPr>
              <p:cNvPr id="190" name="Freeform 14"/>
              <p:cNvSpPr/>
              <p:nvPr/>
            </p:nvSpPr>
            <p:spPr>
              <a:xfrm flipH="1">
                <a:off x="4787280" y="3213000"/>
                <a:ext cx="2880000" cy="1224000"/>
              </a:xfrm>
              <a:custGeom>
                <a:avLst/>
                <a:gdLst/>
                <a:ahLst/>
                <a:rect l="l" t="t" r="r" b="b"/>
                <a:pathLst>
                  <a:path w="3901" h="1951">
                    <a:moveTo>
                      <a:pt x="0" y="0"/>
                    </a:moveTo>
                    <a:cubicBezTo>
                      <a:pt x="412" y="7"/>
                      <a:pt x="825" y="15"/>
                      <a:pt x="1180" y="45"/>
                    </a:cubicBezTo>
                    <a:cubicBezTo>
                      <a:pt x="1535" y="75"/>
                      <a:pt x="1845" y="84"/>
                      <a:pt x="2132" y="182"/>
                    </a:cubicBezTo>
                    <a:cubicBezTo>
                      <a:pt x="2419" y="280"/>
                      <a:pt x="2608" y="340"/>
                      <a:pt x="2903" y="635"/>
                    </a:cubicBezTo>
                    <a:cubicBezTo>
                      <a:pt x="3198" y="930"/>
                      <a:pt x="3549" y="1440"/>
                      <a:pt x="3901" y="1951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 flipV="1">
                <a:off x="1908000" y="4437000"/>
                <a:ext cx="2879640" cy="1224000"/>
              </a:xfrm>
              <a:custGeom>
                <a:avLst/>
                <a:gdLst/>
                <a:ahLst/>
                <a:rect l="l" t="t" r="r" b="b"/>
                <a:pathLst>
                  <a:path w="3901" h="1951">
                    <a:moveTo>
                      <a:pt x="0" y="0"/>
                    </a:moveTo>
                    <a:cubicBezTo>
                      <a:pt x="412" y="7"/>
                      <a:pt x="825" y="15"/>
                      <a:pt x="1180" y="45"/>
                    </a:cubicBezTo>
                    <a:cubicBezTo>
                      <a:pt x="1535" y="75"/>
                      <a:pt x="1845" y="84"/>
                      <a:pt x="2132" y="182"/>
                    </a:cubicBezTo>
                    <a:cubicBezTo>
                      <a:pt x="2419" y="280"/>
                      <a:pt x="2608" y="340"/>
                      <a:pt x="2903" y="635"/>
                    </a:cubicBezTo>
                    <a:cubicBezTo>
                      <a:pt x="3198" y="930"/>
                      <a:pt x="3549" y="1440"/>
                      <a:pt x="3901" y="1951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Text Box 16"/>
          <p:cNvSpPr/>
          <p:nvPr/>
        </p:nvSpPr>
        <p:spPr>
          <a:xfrm>
            <a:off x="824040" y="1052640"/>
            <a:ext cx="8319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í taková dvě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, 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7308720" y="2565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26920" y="189000"/>
            <a:ext cx="8132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195640" y="1628640"/>
            <a:ext cx="2016000" cy="578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1403280" y="3141720"/>
            <a:ext cx="6985080" cy="46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7164360" y="566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–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1403280" y="5734080"/>
            <a:ext cx="6985080" cy="46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V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ERIODIČ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116000" y="1341360"/>
            <a:ext cx="8028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i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nazýváme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eriodickou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s periodou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na definičním oboru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, který s každým bodem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obsahuje také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jestliže pro každé číslo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platí            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ční hodnoty periodických funkcí se pravidelně opakuj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539640" y="2470320"/>
            <a:ext cx="8058240" cy="1082520"/>
            <a:chOff x="539640" y="2470320"/>
            <a:chExt cx="8058240" cy="1082520"/>
          </a:xfrm>
        </p:grpSpPr>
        <p:sp>
          <p:nvSpPr>
            <p:cNvPr id="202" name="Freeform 3"/>
            <p:cNvSpPr/>
            <p:nvPr/>
          </p:nvSpPr>
          <p:spPr>
            <a:xfrm>
              <a:off x="2124000" y="3119760"/>
              <a:ext cx="1586160" cy="43308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 flipV="1">
              <a:off x="3708360" y="268632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Freeform 5"/>
            <p:cNvSpPr/>
            <p:nvPr/>
          </p:nvSpPr>
          <p:spPr>
            <a:xfrm flipV="1">
              <a:off x="539640" y="268632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5292720" y="3119760"/>
              <a:ext cx="1584360" cy="43308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 flipV="1">
              <a:off x="6877080" y="2686320"/>
              <a:ext cx="158580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8318160" y="247032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periodické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3708360" y="2852640"/>
            <a:ext cx="43862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8098920" y="2851200"/>
            <a:ext cx="180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 flipH="1" flipV="1">
            <a:off x="4930920" y="2851200"/>
            <a:ext cx="144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749840" y="41497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3706920" y="2852640"/>
            <a:ext cx="12254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7740720" y="4149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 + 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16"/>
          <p:cNvSpPr/>
          <p:nvPr/>
        </p:nvSpPr>
        <p:spPr>
          <a:xfrm flipV="1">
            <a:off x="1763640" y="2851200"/>
            <a:ext cx="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1763640" y="285264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2918160" y="2565360"/>
            <a:ext cx="76284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1403280" y="414972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 – 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4930920" y="4149720"/>
            <a:ext cx="31683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6443640" y="3695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1762200" y="4149720"/>
            <a:ext cx="3168720" cy="14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3348000" y="3695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5006880" y="5084640"/>
            <a:ext cx="2276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25"/>
          <p:cNvSpPr/>
          <p:nvPr/>
        </p:nvSpPr>
        <p:spPr>
          <a:xfrm>
            <a:off x="3635280" y="285264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Line 26"/>
          <p:cNvSpPr/>
          <p:nvPr/>
        </p:nvSpPr>
        <p:spPr>
          <a:xfrm flipV="1">
            <a:off x="6877080" y="1750680"/>
            <a:ext cx="0" cy="136692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539640" y="1268280"/>
            <a:ext cx="8526600" cy="3722760"/>
            <a:chOff x="539640" y="1268280"/>
            <a:chExt cx="8526600" cy="3722760"/>
          </a:xfrm>
        </p:grpSpPr>
        <p:sp>
          <p:nvSpPr>
            <p:cNvPr id="227" name="Line 28"/>
            <p:cNvSpPr/>
            <p:nvPr/>
          </p:nvSpPr>
          <p:spPr>
            <a:xfrm>
              <a:off x="3635280" y="2707920"/>
              <a:ext cx="21600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3635280" y="3570120"/>
              <a:ext cx="21600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29" name="Group 30"/>
            <p:cNvGrpSpPr/>
            <p:nvPr/>
          </p:nvGrpSpPr>
          <p:grpSpPr>
            <a:xfrm>
              <a:off x="539640" y="1268280"/>
              <a:ext cx="8526600" cy="3722760"/>
              <a:chOff x="539640" y="1268280"/>
              <a:chExt cx="8526600" cy="3722760"/>
            </a:xfrm>
          </p:grpSpPr>
          <p:sp>
            <p:nvSpPr>
              <p:cNvPr id="230" name="Line 31"/>
              <p:cNvSpPr/>
              <p:nvPr/>
            </p:nvSpPr>
            <p:spPr>
              <a:xfrm>
                <a:off x="539640" y="3119400"/>
                <a:ext cx="83869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1" name="Line 32"/>
              <p:cNvSpPr/>
              <p:nvPr/>
            </p:nvSpPr>
            <p:spPr>
              <a:xfrm flipV="1">
                <a:off x="3708360" y="1390320"/>
                <a:ext cx="0" cy="360072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2" name="Text Box 33"/>
              <p:cNvSpPr/>
              <p:nvPr/>
            </p:nvSpPr>
            <p:spPr>
              <a:xfrm>
                <a:off x="3672000" y="306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3" name="Text Box 34"/>
              <p:cNvSpPr/>
              <p:nvPr/>
            </p:nvSpPr>
            <p:spPr>
              <a:xfrm>
                <a:off x="3781080" y="12682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4" name="Text Box 35"/>
              <p:cNvSpPr/>
              <p:nvPr/>
            </p:nvSpPr>
            <p:spPr>
              <a:xfrm>
                <a:off x="8749800" y="31194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5" name="Object 3"/>
                  <p:cNvSpPr txBox="1"/>
                  <p:nvPr/>
                </p:nvSpPr>
                <p:spPr>
                  <a:xfrm>
                    <a:off x="4356000" y="3190680"/>
                    <a:ext cx="2970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6" name="Object 3"/>
                  <p:cNvSpPr txBox="1"/>
                  <p:nvPr/>
                </p:nvSpPr>
                <p:spPr>
                  <a:xfrm>
                    <a:off x="5180040" y="3355920"/>
                    <a:ext cx="24768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Object 3"/>
                  <p:cNvSpPr txBox="1"/>
                  <p:nvPr/>
                </p:nvSpPr>
                <p:spPr>
                  <a:xfrm>
                    <a:off x="5867280" y="3190680"/>
                    <a:ext cx="4446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8" name="Object 3"/>
                  <p:cNvSpPr txBox="1"/>
                  <p:nvPr/>
                </p:nvSpPr>
                <p:spPr>
                  <a:xfrm>
                    <a:off x="7451640" y="3190680"/>
                    <a:ext cx="4446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Object 3"/>
                  <p:cNvSpPr txBox="1"/>
                  <p:nvPr/>
                </p:nvSpPr>
                <p:spPr>
                  <a:xfrm>
                    <a:off x="2556000" y="3190680"/>
                    <a:ext cx="51912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Object 3"/>
                  <p:cNvSpPr txBox="1"/>
                  <p:nvPr/>
                </p:nvSpPr>
                <p:spPr>
                  <a:xfrm>
                    <a:off x="1763640" y="3261960"/>
                    <a:ext cx="469800" cy="27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Object 3"/>
                  <p:cNvSpPr txBox="1"/>
                  <p:nvPr/>
                </p:nvSpPr>
                <p:spPr>
                  <a:xfrm>
                    <a:off x="1042920" y="3190680"/>
                    <a:ext cx="66672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43"/>
              <p:cNvSpPr/>
              <p:nvPr/>
            </p:nvSpPr>
            <p:spPr>
              <a:xfrm>
                <a:off x="3708720" y="2276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3" name="Text Box 44"/>
              <p:cNvSpPr/>
              <p:nvPr/>
            </p:nvSpPr>
            <p:spPr>
              <a:xfrm>
                <a:off x="3710160" y="34066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4" name="Line 45"/>
              <p:cNvSpPr/>
              <p:nvPr/>
            </p:nvSpPr>
            <p:spPr>
              <a:xfrm>
                <a:off x="529272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5" name="Line 46"/>
              <p:cNvSpPr/>
              <p:nvPr/>
            </p:nvSpPr>
            <p:spPr>
              <a:xfrm>
                <a:off x="450072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6" name="Line 47"/>
              <p:cNvSpPr/>
              <p:nvPr/>
            </p:nvSpPr>
            <p:spPr>
              <a:xfrm>
                <a:off x="6083280" y="3068280"/>
                <a:ext cx="0" cy="21600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48"/>
              <p:cNvSpPr/>
              <p:nvPr/>
            </p:nvSpPr>
            <p:spPr>
              <a:xfrm>
                <a:off x="687708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8" name="Line 49"/>
              <p:cNvSpPr/>
              <p:nvPr/>
            </p:nvSpPr>
            <p:spPr>
              <a:xfrm>
                <a:off x="291636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9" name="Line 50"/>
              <p:cNvSpPr/>
              <p:nvPr/>
            </p:nvSpPr>
            <p:spPr>
              <a:xfrm>
                <a:off x="212400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0" name="Line 51"/>
              <p:cNvSpPr/>
              <p:nvPr/>
            </p:nvSpPr>
            <p:spPr>
              <a:xfrm>
                <a:off x="133200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1" name="Line 52"/>
              <p:cNvSpPr/>
              <p:nvPr/>
            </p:nvSpPr>
            <p:spPr>
              <a:xfrm>
                <a:off x="766764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2" name="Object 3"/>
                  <p:cNvSpPr txBox="1"/>
                  <p:nvPr/>
                </p:nvSpPr>
                <p:spPr>
                  <a:xfrm>
                    <a:off x="6659640" y="3261960"/>
                    <a:ext cx="39528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53" name="Text Box 54"/>
          <p:cNvSpPr/>
          <p:nvPr/>
        </p:nvSpPr>
        <p:spPr>
          <a:xfrm>
            <a:off x="4716360" y="1606680"/>
            <a:ext cx="1152720" cy="392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p 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= 2</a:t>
            </a:r>
            <a:r>
              <a:rPr b="0" i="1" lang="el-GR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Line 55"/>
          <p:cNvSpPr/>
          <p:nvPr/>
        </p:nvSpPr>
        <p:spPr>
          <a:xfrm>
            <a:off x="3708360" y="2038320"/>
            <a:ext cx="316872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56"/>
          <p:cNvGrpSpPr/>
          <p:nvPr/>
        </p:nvGrpSpPr>
        <p:grpSpPr>
          <a:xfrm>
            <a:off x="3708360" y="2685960"/>
            <a:ext cx="3168720" cy="863640"/>
            <a:chOff x="3708360" y="2685960"/>
            <a:chExt cx="3168720" cy="863640"/>
          </a:xfrm>
        </p:grpSpPr>
        <p:sp>
          <p:nvSpPr>
            <p:cNvPr id="256" name="Freeform 57"/>
            <p:cNvSpPr/>
            <p:nvPr/>
          </p:nvSpPr>
          <p:spPr>
            <a:xfrm flipV="1">
              <a:off x="3708360" y="268596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Freeform 58"/>
            <p:cNvSpPr/>
            <p:nvPr/>
          </p:nvSpPr>
          <p:spPr>
            <a:xfrm>
              <a:off x="5292720" y="3117960"/>
              <a:ext cx="1584360" cy="431640"/>
            </a:xfrm>
            <a:custGeom>
              <a:avLst/>
              <a:gdLst/>
              <a:ahLst/>
              <a:rect l="l" t="t" r="r" b="b"/>
              <a:pathLst>
                <a:path w="998" h="272">
                  <a:moveTo>
                    <a:pt x="0" y="0"/>
                  </a:moveTo>
                  <a:cubicBezTo>
                    <a:pt x="166" y="136"/>
                    <a:pt x="333" y="272"/>
                    <a:pt x="499" y="272"/>
                  </a:cubicBezTo>
                  <a:cubicBezTo>
                    <a:pt x="665" y="272"/>
                    <a:pt x="831" y="136"/>
                    <a:pt x="998" y="0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8" name="Group 63"/>
          <p:cNvGrpSpPr/>
          <p:nvPr/>
        </p:nvGrpSpPr>
        <p:grpSpPr>
          <a:xfrm>
            <a:off x="1690560" y="2779560"/>
            <a:ext cx="144720" cy="142920"/>
            <a:chOff x="1690560" y="2779560"/>
            <a:chExt cx="144720" cy="142920"/>
          </a:xfrm>
        </p:grpSpPr>
        <p:sp>
          <p:nvSpPr>
            <p:cNvPr id="259" name="Line 64"/>
            <p:cNvSpPr/>
            <p:nvPr/>
          </p:nvSpPr>
          <p:spPr>
            <a:xfrm>
              <a:off x="1690560" y="27795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65"/>
            <p:cNvSpPr/>
            <p:nvPr/>
          </p:nvSpPr>
          <p:spPr>
            <a:xfrm flipH="1">
              <a:off x="1690560" y="27795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63"/>
          <p:cNvGrpSpPr/>
          <p:nvPr/>
        </p:nvGrpSpPr>
        <p:grpSpPr>
          <a:xfrm>
            <a:off x="4858920" y="2779560"/>
            <a:ext cx="144720" cy="142920"/>
            <a:chOff x="4858920" y="2779560"/>
            <a:chExt cx="144720" cy="142920"/>
          </a:xfrm>
        </p:grpSpPr>
        <p:sp>
          <p:nvSpPr>
            <p:cNvPr id="262" name="Line 64"/>
            <p:cNvSpPr/>
            <p:nvPr/>
          </p:nvSpPr>
          <p:spPr>
            <a:xfrm>
              <a:off x="485928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65"/>
            <p:cNvSpPr/>
            <p:nvPr/>
          </p:nvSpPr>
          <p:spPr>
            <a:xfrm flipH="1">
              <a:off x="485892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4" name="Rectangle 65"/>
          <p:cNvSpPr/>
          <p:nvPr/>
        </p:nvSpPr>
        <p:spPr>
          <a:xfrm rot="2164200">
            <a:off x="8221680" y="2484360"/>
            <a:ext cx="431640" cy="50508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66"/>
          <p:cNvSpPr/>
          <p:nvPr/>
        </p:nvSpPr>
        <p:spPr>
          <a:xfrm>
            <a:off x="7524360" y="227664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sin 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63"/>
          <p:cNvGrpSpPr/>
          <p:nvPr/>
        </p:nvGrpSpPr>
        <p:grpSpPr>
          <a:xfrm>
            <a:off x="8027640" y="2779560"/>
            <a:ext cx="144720" cy="142920"/>
            <a:chOff x="8027640" y="2779560"/>
            <a:chExt cx="144720" cy="142920"/>
          </a:xfrm>
        </p:grpSpPr>
        <p:sp>
          <p:nvSpPr>
            <p:cNvPr id="267" name="Line 64"/>
            <p:cNvSpPr/>
            <p:nvPr/>
          </p:nvSpPr>
          <p:spPr>
            <a:xfrm>
              <a:off x="802800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 flipH="1">
              <a:off x="802764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973080" y="1484280"/>
            <a:ext cx="81709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Funkce 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f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je prost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rávě když                          pro všechna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,  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-li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, pak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jednodušeji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stliže funkc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nabývá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 každé dva různé argumenty dvě různé funkční hodnot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ak tuto funkci nazýváme 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stou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1042920" y="54936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)</a:t>
            </a: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ROSTÁ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1:58:58Z</dcterms:modified>
  <cp:revision>310</cp:revision>
  <dc:subject/>
  <dc:title>FCE</dc:title>
</cp:coreProperties>
</file>