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CC2-FC96-4B97-9DC2-18B8462104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D11-4530-4C7E-A3FE-7D0175A2FD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E71-D874-4A49-8E19-F17590A38EE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397B-5183-49B0-BC55-3E797DE84D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1304-4F31-450F-BD7D-DD4722383C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9A4F-DF32-445C-944A-ECC76C46B4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B114-D8B2-4DCB-B071-68ABF95A48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897-017A-43FD-A69A-F43C5E45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886-89BD-4137-B015-0AF9CB0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3CD-DD12-47C3-8295-097CBD3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013-8D78-4772-9F6F-9A02D3A2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983F-A84F-45B8-9924-C845E22A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AFA2-46EB-4833-8D57-9EDEC800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22E6-D834-4761-891D-DA05DFDA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4BA-D0C2-49A2-B596-6A3EE6B6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5E5-BEAC-4FFD-915A-9A3AB0D8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FB8F-59E5-4AE9-83DF-6C6045C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32DD-0627-417A-B0CC-9C1C15B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A25-AEC1-4D29-8A79-CA083318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49D-8F03-4D19-85EC-F6F85CA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2DFA-67BF-4761-B021-0D51ADD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DB50-F7D2-4939-8A9A-68DA495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0280-A118-40D5-B812-38995E80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384C-FCFD-4308-8A09-610844B5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529-6C3A-4C89-9E1A-DC564EA4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0BE-C0C1-4AF6-AE81-AE35435F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A25-A102-46D7-9D13-DC9A84D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CC8-3600-46A4-851A-8AD7FFF7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6A8-E45D-4CB7-AE6B-423D93C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DB8-3D98-4170-A405-642ED16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ACD-9B30-4E38-A885-819AE58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B76F-29DB-4E63-9F9F-02563A27B0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E0CB-BEBC-44E3-BD45-0F1D6632FD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1116000" y="0"/>
                <a:ext cx="3571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655640" y="1844640"/>
                <a:ext cx="173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58920" y="5805360"/>
                <a:ext cx="273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Line 5"/>
          <p:cNvSpPr/>
          <p:nvPr/>
        </p:nvSpPr>
        <p:spPr>
          <a:xfrm>
            <a:off x="1116000" y="1727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419640" y="692280"/>
            <a:ext cx="1223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760120" y="1224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84720" y="1916280"/>
            <a:ext cx="48592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8"/>
              <p:cNvSpPr txBox="1"/>
              <p:nvPr/>
            </p:nvSpPr>
            <p:spPr>
              <a:xfrm>
                <a:off x="1187280" y="4437000"/>
                <a:ext cx="1479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1"/>
              <p:cNvSpPr txBox="1"/>
              <p:nvPr/>
            </p:nvSpPr>
            <p:spPr>
              <a:xfrm>
                <a:off x="1042920" y="2689200"/>
                <a:ext cx="3097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24"/>
          <p:cNvSpPr/>
          <p:nvPr/>
        </p:nvSpPr>
        <p:spPr>
          <a:xfrm>
            <a:off x="5148360" y="501336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5940360" y="4941360"/>
            <a:ext cx="217080" cy="215640"/>
            <a:chOff x="5940360" y="4941360"/>
            <a:chExt cx="217080" cy="215640"/>
          </a:xfrm>
        </p:grpSpPr>
        <p:sp>
          <p:nvSpPr>
            <p:cNvPr id="245" name="Line 23"/>
            <p:cNvSpPr/>
            <p:nvPr/>
          </p:nvSpPr>
          <p:spPr>
            <a:xfrm>
              <a:off x="5940360" y="5049720"/>
              <a:ext cx="21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6047640" y="494136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7" name="Line 32"/>
          <p:cNvSpPr/>
          <p:nvPr/>
        </p:nvSpPr>
        <p:spPr>
          <a:xfrm>
            <a:off x="6588000" y="5013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35"/>
          <p:cNvSpPr/>
          <p:nvPr/>
        </p:nvSpPr>
        <p:spPr>
          <a:xfrm>
            <a:off x="5724360" y="4797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4572000" y="4653000"/>
            <a:ext cx="2952720" cy="1201680"/>
            <a:chOff x="4572000" y="4653000"/>
            <a:chExt cx="2952720" cy="1201680"/>
          </a:xfrm>
        </p:grpSpPr>
        <p:sp>
          <p:nvSpPr>
            <p:cNvPr id="250" name="Line 14"/>
            <p:cNvSpPr/>
            <p:nvPr/>
          </p:nvSpPr>
          <p:spPr>
            <a:xfrm>
              <a:off x="4572000" y="52293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7243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5652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8"/>
                <p:cNvSpPr txBox="1"/>
                <p:nvPr/>
              </p:nvSpPr>
              <p:spPr>
                <a:xfrm>
                  <a:off x="5290920" y="5445360"/>
                  <a:ext cx="651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19"/>
                <p:cNvSpPr txBox="1"/>
                <p:nvPr/>
              </p:nvSpPr>
              <p:spPr>
                <a:xfrm>
                  <a:off x="6156000" y="5445360"/>
                  <a:ext cx="4269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0"/>
            <p:cNvSpPr/>
            <p:nvPr/>
          </p:nvSpPr>
          <p:spPr>
            <a:xfrm>
              <a:off x="63705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6300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3564000" y="2565360"/>
            <a:ext cx="285840" cy="285840"/>
            <a:chOff x="3564000" y="256536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3564000" y="2565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3635280" y="2708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3706920" y="2636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4320" y="61920"/>
                <a:ext cx="36352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49360" y="1628640"/>
                <a:ext cx="2147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7480" y="5010120"/>
                <a:ext cx="3025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Line 5"/>
          <p:cNvSpPr/>
          <p:nvPr/>
        </p:nvSpPr>
        <p:spPr>
          <a:xfrm>
            <a:off x="1187280" y="1484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059280" y="719280"/>
            <a:ext cx="165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746960" y="765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211640" y="1700280"/>
            <a:ext cx="4932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"/>
              <p:cNvSpPr txBox="1"/>
              <p:nvPr/>
            </p:nvSpPr>
            <p:spPr>
              <a:xfrm>
                <a:off x="1403280" y="3645000"/>
                <a:ext cx="245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403280" y="2852640"/>
                <a:ext cx="2316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017720" y="0"/>
                <a:ext cx="4417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258920" y="184464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258920" y="5661000"/>
                <a:ext cx="2027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3" name="Line 5"/>
          <p:cNvSpPr/>
          <p:nvPr/>
        </p:nvSpPr>
        <p:spPr>
          <a:xfrm>
            <a:off x="1187280" y="1700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276720" y="692280"/>
            <a:ext cx="21589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83760" y="1197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356000" y="1916280"/>
            <a:ext cx="4788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258920" y="3573360"/>
                <a:ext cx="299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1258920" y="4437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1258920" y="2637000"/>
                <a:ext cx="2529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12"/>
          <p:cNvGrpSpPr/>
          <p:nvPr/>
        </p:nvGrpSpPr>
        <p:grpSpPr>
          <a:xfrm>
            <a:off x="4716360" y="4581360"/>
            <a:ext cx="2952720" cy="1170000"/>
            <a:chOff x="4716360" y="4581360"/>
            <a:chExt cx="2952720" cy="1170000"/>
          </a:xfrm>
        </p:grpSpPr>
        <p:sp>
          <p:nvSpPr>
            <p:cNvPr id="281" name="Line 13"/>
            <p:cNvSpPr/>
            <p:nvPr/>
          </p:nvSpPr>
          <p:spPr>
            <a:xfrm>
              <a:off x="4716360" y="5157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58690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579744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17"/>
                <p:cNvSpPr txBox="1"/>
                <p:nvPr/>
              </p:nvSpPr>
              <p:spPr>
                <a:xfrm>
                  <a:off x="5653080" y="5445000"/>
                  <a:ext cx="3873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18"/>
                <p:cNvSpPr txBox="1"/>
                <p:nvPr/>
              </p:nvSpPr>
              <p:spPr>
                <a:xfrm>
                  <a:off x="6445080" y="544500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Line 19"/>
            <p:cNvSpPr/>
            <p:nvPr/>
          </p:nvSpPr>
          <p:spPr>
            <a:xfrm>
              <a:off x="651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644508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8" name="Group 20"/>
          <p:cNvGrpSpPr/>
          <p:nvPr/>
        </p:nvGrpSpPr>
        <p:grpSpPr>
          <a:xfrm>
            <a:off x="5435640" y="4797360"/>
            <a:ext cx="215640" cy="213840"/>
            <a:chOff x="5435640" y="4797360"/>
            <a:chExt cx="215640" cy="213840"/>
          </a:xfrm>
        </p:grpSpPr>
        <p:sp>
          <p:nvSpPr>
            <p:cNvPr id="289" name="Line 22"/>
            <p:cNvSpPr/>
            <p:nvPr/>
          </p:nvSpPr>
          <p:spPr>
            <a:xfrm>
              <a:off x="543564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4220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1" name="Line 25"/>
          <p:cNvSpPr/>
          <p:nvPr/>
        </p:nvSpPr>
        <p:spPr>
          <a:xfrm>
            <a:off x="6084720" y="4941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867280" y="472428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6804000" y="4797360"/>
            <a:ext cx="215640" cy="213840"/>
            <a:chOff x="6804000" y="4797360"/>
            <a:chExt cx="215640" cy="213840"/>
          </a:xfrm>
        </p:grpSpPr>
        <p:sp>
          <p:nvSpPr>
            <p:cNvPr id="294" name="Line 22"/>
            <p:cNvSpPr/>
            <p:nvPr/>
          </p:nvSpPr>
          <p:spPr>
            <a:xfrm>
              <a:off x="680400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 flipV="1">
              <a:off x="691056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6" name="Skupina 212"/>
          <p:cNvGrpSpPr/>
          <p:nvPr/>
        </p:nvGrpSpPr>
        <p:grpSpPr>
          <a:xfrm>
            <a:off x="1547640" y="3429000"/>
            <a:ext cx="285840" cy="285840"/>
            <a:chOff x="1547640" y="3429000"/>
            <a:chExt cx="285840" cy="285840"/>
          </a:xfrm>
        </p:grpSpPr>
        <p:sp>
          <p:nvSpPr>
            <p:cNvPr id="297" name="Elipsa 213"/>
            <p:cNvSpPr/>
            <p:nvPr/>
          </p:nvSpPr>
          <p:spPr>
            <a:xfrm>
              <a:off x="1547640" y="3429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61892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949320" y="189000"/>
                <a:ext cx="351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619280" y="1773360"/>
                <a:ext cx="15573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19280" y="5734080"/>
                <a:ext cx="1996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Line 5"/>
          <p:cNvSpPr/>
          <p:nvPr/>
        </p:nvSpPr>
        <p:spPr>
          <a:xfrm>
            <a:off x="1116000" y="1557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3348000" y="333360"/>
            <a:ext cx="107964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427640" y="26028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547640" y="3068640"/>
            <a:ext cx="47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podílová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92360" y="4221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13"/>
          <p:cNvSpPr/>
          <p:nvPr/>
        </p:nvSpPr>
        <p:spPr>
          <a:xfrm>
            <a:off x="4067280" y="4869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7"/>
              <p:cNvSpPr txBox="1"/>
              <p:nvPr/>
            </p:nvSpPr>
            <p:spPr>
              <a:xfrm>
                <a:off x="4789440" y="5086440"/>
                <a:ext cx="387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1800" y="5086440"/>
                <a:ext cx="20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25"/>
          <p:cNvSpPr/>
          <p:nvPr/>
        </p:nvSpPr>
        <p:spPr>
          <a:xfrm>
            <a:off x="601344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5292720" y="4510080"/>
            <a:ext cx="215640" cy="213840"/>
            <a:chOff x="5292720" y="4510080"/>
            <a:chExt cx="215640" cy="213840"/>
          </a:xfrm>
        </p:grpSpPr>
        <p:sp>
          <p:nvSpPr>
            <p:cNvPr id="312" name="Line 22"/>
            <p:cNvSpPr/>
            <p:nvPr/>
          </p:nvSpPr>
          <p:spPr>
            <a:xfrm>
              <a:off x="5292720" y="4616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 flipV="1">
              <a:off x="5399280" y="451008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Line 25"/>
          <p:cNvSpPr/>
          <p:nvPr/>
        </p:nvSpPr>
        <p:spPr>
          <a:xfrm>
            <a:off x="435600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72000" y="83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3419640" y="907920"/>
            <a:ext cx="1152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5"/>
              <p:cNvSpPr txBox="1"/>
              <p:nvPr/>
            </p:nvSpPr>
            <p:spPr>
              <a:xfrm>
                <a:off x="6012000" y="2060640"/>
                <a:ext cx="2582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7"/>
              <p:cNvSpPr txBox="1"/>
              <p:nvPr/>
            </p:nvSpPr>
            <p:spPr>
              <a:xfrm>
                <a:off x="7696080" y="2779560"/>
                <a:ext cx="1116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20"/>
          <p:cNvSpPr/>
          <p:nvPr/>
        </p:nvSpPr>
        <p:spPr>
          <a:xfrm>
            <a:off x="4788000" y="4078440"/>
            <a:ext cx="431640" cy="431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5003640" y="4365720"/>
            <a:ext cx="722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00364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4932360" y="4221000"/>
            <a:ext cx="14292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8"/>
          <p:cNvSpPr/>
          <p:nvPr/>
        </p:nvSpPr>
        <p:spPr>
          <a:xfrm flipH="1">
            <a:off x="5219640" y="3284640"/>
            <a:ext cx="2448000" cy="7920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Skupina 110"/>
          <p:cNvGrpSpPr/>
          <p:nvPr/>
        </p:nvGrpSpPr>
        <p:grpSpPr>
          <a:xfrm>
            <a:off x="2556000" y="1844640"/>
            <a:ext cx="285480" cy="285840"/>
            <a:chOff x="2556000" y="1844640"/>
            <a:chExt cx="285480" cy="285840"/>
          </a:xfrm>
        </p:grpSpPr>
        <p:sp>
          <p:nvSpPr>
            <p:cNvPr id="327" name="Elipsa 109"/>
            <p:cNvSpPr/>
            <p:nvPr/>
          </p:nvSpPr>
          <p:spPr>
            <a:xfrm>
              <a:off x="2556000" y="184464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3"/>
            <p:cNvSpPr/>
            <p:nvPr/>
          </p:nvSpPr>
          <p:spPr>
            <a:xfrm>
              <a:off x="262728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34"/>
            <p:cNvSpPr/>
            <p:nvPr/>
          </p:nvSpPr>
          <p:spPr>
            <a:xfrm flipV="1">
              <a:off x="269892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971640" y="189000"/>
                <a:ext cx="47926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649520" y="2224080"/>
                <a:ext cx="149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19280" y="5302080"/>
                <a:ext cx="3968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3" name="Line 5"/>
          <p:cNvSpPr/>
          <p:nvPr/>
        </p:nvSpPr>
        <p:spPr>
          <a:xfrm>
            <a:off x="1138320" y="1800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419640" y="549360"/>
            <a:ext cx="1008000" cy="45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78800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4738680" y="865080"/>
            <a:ext cx="1008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476360" y="981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4067280" y="220500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268360" y="2925720"/>
                <a:ext cx="90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7"/>
              <p:cNvSpPr txBox="1"/>
              <p:nvPr/>
            </p:nvSpPr>
            <p:spPr>
              <a:xfrm>
                <a:off x="5796000" y="292572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43"/>
          <p:cNvGrpSpPr/>
          <p:nvPr/>
        </p:nvGrpSpPr>
        <p:grpSpPr>
          <a:xfrm>
            <a:off x="1547280" y="3573360"/>
            <a:ext cx="2953080" cy="1243080"/>
            <a:chOff x="1547280" y="3573360"/>
            <a:chExt cx="2953080" cy="1243080"/>
          </a:xfrm>
        </p:grpSpPr>
        <p:sp>
          <p:nvSpPr>
            <p:cNvPr id="342" name="Line 29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2700360" y="3717720"/>
              <a:ext cx="0" cy="57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62728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H="1">
              <a:off x="1547280" y="3717720"/>
              <a:ext cx="1729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33"/>
                <p:cNvSpPr txBox="1"/>
                <p:nvPr/>
              </p:nvSpPr>
              <p:spPr>
                <a:xfrm>
                  <a:off x="2432160" y="4508280"/>
                  <a:ext cx="406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34"/>
                <p:cNvSpPr txBox="1"/>
                <p:nvPr/>
              </p:nvSpPr>
              <p:spPr>
                <a:xfrm>
                  <a:off x="3274920" y="451008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Line 35"/>
            <p:cNvSpPr/>
            <p:nvPr/>
          </p:nvSpPr>
          <p:spPr>
            <a:xfrm flipH="1">
              <a:off x="3346560" y="3717720"/>
              <a:ext cx="1440" cy="576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274920" y="3644640"/>
              <a:ext cx="14292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53"/>
          <p:cNvGrpSpPr/>
          <p:nvPr/>
        </p:nvGrpSpPr>
        <p:grpSpPr>
          <a:xfrm>
            <a:off x="1547640" y="3645000"/>
            <a:ext cx="2952720" cy="1171080"/>
            <a:chOff x="1547640" y="3645000"/>
            <a:chExt cx="2952720" cy="1171080"/>
          </a:xfrm>
        </p:grpSpPr>
        <p:sp>
          <p:nvSpPr>
            <p:cNvPr id="351" name="Line 45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48"/>
            <p:cNvSpPr/>
            <p:nvPr/>
          </p:nvSpPr>
          <p:spPr>
            <a:xfrm flipH="1">
              <a:off x="1547640" y="3717720"/>
              <a:ext cx="1728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50"/>
                <p:cNvSpPr txBox="1"/>
                <p:nvPr/>
              </p:nvSpPr>
              <p:spPr>
                <a:xfrm>
                  <a:off x="3274920" y="4510080"/>
                  <a:ext cx="20304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51"/>
            <p:cNvSpPr/>
            <p:nvPr/>
          </p:nvSpPr>
          <p:spPr>
            <a:xfrm flipH="1">
              <a:off x="3345840" y="3717720"/>
              <a:ext cx="1800" cy="57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3274920" y="3645000"/>
              <a:ext cx="142920" cy="14436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042920" y="189000"/>
                <a:ext cx="5075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547640" y="2638440"/>
                <a:ext cx="1702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19280" y="5572080"/>
                <a:ext cx="223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9" name="Line 5"/>
          <p:cNvSpPr/>
          <p:nvPr/>
        </p:nvSpPr>
        <p:spPr>
          <a:xfrm>
            <a:off x="1116000" y="2349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076720" y="982800"/>
            <a:ext cx="102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547640" y="141300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222720" y="911160"/>
            <a:ext cx="115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03640" y="14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0"/>
              <p:cNvSpPr txBox="1"/>
              <p:nvPr/>
            </p:nvSpPr>
            <p:spPr>
              <a:xfrm>
                <a:off x="4067280" y="261936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2035080" y="3340080"/>
                <a:ext cx="1378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2"/>
              <p:cNvSpPr txBox="1"/>
              <p:nvPr/>
            </p:nvSpPr>
            <p:spPr>
              <a:xfrm>
                <a:off x="5796000" y="334008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2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68" name="Line 1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5653080" y="4222800"/>
              <a:ext cx="0" cy="57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558000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18"/>
                <p:cNvSpPr txBox="1"/>
                <p:nvPr/>
              </p:nvSpPr>
              <p:spPr>
                <a:xfrm>
                  <a:off x="5313240" y="5013360"/>
                  <a:ext cx="5490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116400" y="5014800"/>
                  <a:ext cx="4269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Line 20"/>
            <p:cNvSpPr/>
            <p:nvPr/>
          </p:nvSpPr>
          <p:spPr>
            <a:xfrm flipH="1">
              <a:off x="6298920" y="4222800"/>
              <a:ext cx="108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6229440" y="4078440"/>
              <a:ext cx="14220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77" name="Line 2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9"/>
                <p:cNvSpPr txBox="1"/>
                <p:nvPr/>
              </p:nvSpPr>
              <p:spPr>
                <a:xfrm>
                  <a:off x="6116400" y="5014800"/>
                  <a:ext cx="4266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30"/>
            <p:cNvSpPr/>
            <p:nvPr/>
          </p:nvSpPr>
          <p:spPr>
            <a:xfrm flipH="1">
              <a:off x="6298920" y="4222800"/>
              <a:ext cx="144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622908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1104840" y="33480"/>
                <a:ext cx="495000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79400" y="2511360"/>
                <a:ext cx="1436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1514520" y="5538960"/>
                <a:ext cx="38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85" name="Line 5"/>
          <p:cNvSpPr/>
          <p:nvPr/>
        </p:nvSpPr>
        <p:spPr>
          <a:xfrm>
            <a:off x="1116000" y="2205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859280" y="692280"/>
            <a:ext cx="1152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403280" y="155736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203640" y="1125360"/>
            <a:ext cx="10810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788000" y="119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854520" y="2355840"/>
                <a:ext cx="260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2195640" y="3213000"/>
                <a:ext cx="85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808440" y="3044880"/>
                <a:ext cx="3305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Text Box 22"/>
          <p:cNvSpPr/>
          <p:nvPr/>
        </p:nvSpPr>
        <p:spPr>
          <a:xfrm>
            <a:off x="3924360" y="1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AutoShape 23"/>
          <p:cNvSpPr/>
          <p:nvPr/>
        </p:nvSpPr>
        <p:spPr>
          <a:xfrm>
            <a:off x="3708360" y="47628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4"/>
              <p:cNvSpPr txBox="1"/>
              <p:nvPr/>
            </p:nvSpPr>
            <p:spPr>
              <a:xfrm>
                <a:off x="7093080" y="2492280"/>
                <a:ext cx="176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0"/>
              <p:cNvSpPr txBox="1"/>
              <p:nvPr/>
            </p:nvSpPr>
            <p:spPr>
              <a:xfrm>
                <a:off x="5364000" y="4869000"/>
                <a:ext cx="16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1"/>
              <p:cNvSpPr txBox="1"/>
              <p:nvPr/>
            </p:nvSpPr>
            <p:spPr>
              <a:xfrm>
                <a:off x="4643280" y="4869000"/>
                <a:ext cx="2034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42"/>
          <p:cNvSpPr/>
          <p:nvPr/>
        </p:nvSpPr>
        <p:spPr>
          <a:xfrm>
            <a:off x="4788000" y="407664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43"/>
          <p:cNvSpPr/>
          <p:nvPr/>
        </p:nvSpPr>
        <p:spPr>
          <a:xfrm>
            <a:off x="4714920" y="3932280"/>
            <a:ext cx="142920" cy="144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5435640" y="407664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45"/>
          <p:cNvSpPr/>
          <p:nvPr/>
        </p:nvSpPr>
        <p:spPr>
          <a:xfrm>
            <a:off x="5362560" y="3932280"/>
            <a:ext cx="14292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06728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3995640" y="4005360"/>
            <a:ext cx="1587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0"/>
              <p:cNvSpPr txBox="1"/>
              <p:nvPr/>
            </p:nvSpPr>
            <p:spPr>
              <a:xfrm>
                <a:off x="5705640" y="4815000"/>
                <a:ext cx="372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6" name="Line 51"/>
          <p:cNvSpPr/>
          <p:nvPr/>
        </p:nvSpPr>
        <p:spPr>
          <a:xfrm>
            <a:off x="594036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Oval 52"/>
          <p:cNvSpPr/>
          <p:nvPr/>
        </p:nvSpPr>
        <p:spPr>
          <a:xfrm>
            <a:off x="5851440" y="4005360"/>
            <a:ext cx="1605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57"/>
          <p:cNvSpPr/>
          <p:nvPr/>
        </p:nvSpPr>
        <p:spPr>
          <a:xfrm>
            <a:off x="4140360" y="4149720"/>
            <a:ext cx="1842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8"/>
              <p:cNvSpPr txBox="1"/>
              <p:nvPr/>
            </p:nvSpPr>
            <p:spPr>
              <a:xfrm>
                <a:off x="3787920" y="4815000"/>
                <a:ext cx="56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Line 25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4859280" y="4292640"/>
            <a:ext cx="215640" cy="213840"/>
            <a:chOff x="4859280" y="4292640"/>
            <a:chExt cx="215640" cy="213840"/>
          </a:xfrm>
        </p:grpSpPr>
        <p:sp>
          <p:nvSpPr>
            <p:cNvPr id="412" name="Line 22"/>
            <p:cNvSpPr/>
            <p:nvPr/>
          </p:nvSpPr>
          <p:spPr>
            <a:xfrm>
              <a:off x="485928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 flipV="1">
              <a:off x="49658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>
            <a:off x="363528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Skupina 110"/>
          <p:cNvGrpSpPr/>
          <p:nvPr/>
        </p:nvGrpSpPr>
        <p:grpSpPr>
          <a:xfrm>
            <a:off x="6443640" y="2924280"/>
            <a:ext cx="285840" cy="285480"/>
            <a:chOff x="6443640" y="2924280"/>
            <a:chExt cx="285840" cy="285480"/>
          </a:xfrm>
        </p:grpSpPr>
        <p:sp>
          <p:nvSpPr>
            <p:cNvPr id="416" name="Elipsa 109"/>
            <p:cNvSpPr/>
            <p:nvPr/>
          </p:nvSpPr>
          <p:spPr>
            <a:xfrm>
              <a:off x="6443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6514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6586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258920" y="333360"/>
                <a:ext cx="2263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5788080" y="333360"/>
                <a:ext cx="2333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258920" y="1789200"/>
                <a:ext cx="252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5789520" y="1844640"/>
                <a:ext cx="2170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1243080" y="2708280"/>
                <a:ext cx="2587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5788080" y="2708280"/>
                <a:ext cx="2430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258920" y="394956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788080" y="4005360"/>
                <a:ext cx="26575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1258920" y="5389560"/>
                <a:ext cx="2459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5773680" y="5300640"/>
                <a:ext cx="291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116000" y="260280"/>
                <a:ext cx="2360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99040" y="557280"/>
                <a:ext cx="1911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116000" y="1484280"/>
                <a:ext cx="2522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987880" y="1628640"/>
                <a:ext cx="2395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1116000" y="2781360"/>
                <a:ext cx="27795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5989680" y="2981160"/>
                <a:ext cx="2170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116000" y="402120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598788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1122480" y="5342040"/>
                <a:ext cx="2619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5987880" y="5373720"/>
                <a:ext cx="2624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87280" y="260280"/>
                <a:ext cx="26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5845320" y="333360"/>
                <a:ext cx="2624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71440" y="1468440"/>
                <a:ext cx="2521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845320" y="1628640"/>
                <a:ext cx="24256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87280" y="2781360"/>
                <a:ext cx="2295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5845320" y="2908440"/>
                <a:ext cx="27525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187280" y="4005360"/>
                <a:ext cx="2230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584352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1187280" y="5373720"/>
                <a:ext cx="2617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5843520" y="564516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13000"/>
          <a:ext cx="777744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5928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 -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čení na základě předpis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dmínky pro výpočet definičního oboru funkce -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rie je vřazena do řešených příkladů, ale uvedeny jsou také příklady na procvičení s výsledk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268360" y="0"/>
            <a:ext cx="568836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530360"/>
            <a:ext cx="817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6040" indent="-35604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et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 všech nezávisle proměnný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které má funkční předpis smys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56040" indent="-35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OR!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omezu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lomek s neznámou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odmocnina s neznámou: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logaritmus s neznámou: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67680" indent="-343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Není-li předpis omezen, platí: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907920"/>
                <a:ext cx="3071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340000" y="3502080"/>
                <a:ext cx="1598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979640" y="5516640"/>
                <a:ext cx="2319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987640" y="4510080"/>
                <a:ext cx="969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234936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předpis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úlohu řešíme početn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64000" y="3429000"/>
            <a:ext cx="37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116000" y="220500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3132000" y="1557360"/>
            <a:ext cx="1081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83520" y="156996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258920" y="476280"/>
                <a:ext cx="360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835280" y="1628640"/>
                <a:ext cx="181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839960" y="4987800"/>
                <a:ext cx="26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700360" y="2492280"/>
                <a:ext cx="1189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187280" y="1268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00720" y="16286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627280" y="3141720"/>
                <a:ext cx="1033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2"/>
          <p:cNvSpPr/>
          <p:nvPr/>
        </p:nvSpPr>
        <p:spPr>
          <a:xfrm>
            <a:off x="4643280" y="378936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372360" y="3429000"/>
            <a:ext cx="0" cy="50472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227640" y="4076640"/>
                <a:ext cx="246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Oval 17"/>
          <p:cNvSpPr/>
          <p:nvPr/>
        </p:nvSpPr>
        <p:spPr>
          <a:xfrm>
            <a:off x="6300720" y="328464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716360" y="3429000"/>
            <a:ext cx="165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635280" y="62064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089680" y="6332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1133640" y="209520"/>
                <a:ext cx="3854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692360" y="2852640"/>
                <a:ext cx="2036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933560" y="5732640"/>
                <a:ext cx="24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556000" y="3716280"/>
                <a:ext cx="1658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1187280" y="2565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859280" y="2852640"/>
            <a:ext cx="42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2771640" y="4653000"/>
                <a:ext cx="1220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15"/>
          <p:cNvSpPr/>
          <p:nvPr/>
        </p:nvSpPr>
        <p:spPr>
          <a:xfrm>
            <a:off x="3492360" y="981000"/>
            <a:ext cx="1440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64480" y="155736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,ale také jmenovatel zlomk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43280" y="472608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6372360" y="429408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300720" y="414828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372360" y="429264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6156360" y="5013360"/>
                <a:ext cx="438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260280"/>
                <a:ext cx="4011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5734080"/>
                <a:ext cx="1409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476360" y="3860640"/>
                <a:ext cx="341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861080" y="3860640"/>
                <a:ext cx="657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3"/>
          <p:cNvSpPr/>
          <p:nvPr/>
        </p:nvSpPr>
        <p:spPr>
          <a:xfrm>
            <a:off x="1403280" y="443700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160640"/>
                <a:tab algn="l" pos="22352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záporný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ovnice nemá reálný kořen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emáme co zakáza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„bereme vše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1131840" y="260280"/>
                <a:ext cx="3979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5661000"/>
                <a:ext cx="2913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4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332000" y="3860640"/>
                <a:ext cx="319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1403280" y="4653000"/>
                <a:ext cx="3256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900000" y="0"/>
                <a:ext cx="4794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58920" y="1484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258920" y="5373720"/>
                <a:ext cx="4084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Line 6"/>
          <p:cNvSpPr/>
          <p:nvPr/>
        </p:nvSpPr>
        <p:spPr>
          <a:xfrm>
            <a:off x="971640" y="13413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203640" y="189000"/>
            <a:ext cx="24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415120" y="6206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427640" y="1555920"/>
            <a:ext cx="47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1258920" y="2563920"/>
                <a:ext cx="3031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258920" y="3932280"/>
                <a:ext cx="2160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3924360" y="3716280"/>
                <a:ext cx="28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0" name="Přímá spojovací šipka 167"/>
          <p:cNvCxnSpPr/>
          <p:nvPr/>
        </p:nvCxnSpPr>
        <p:spPr>
          <a:xfrm>
            <a:off x="6658560" y="4219560"/>
            <a:ext cx="114372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11" name="Přímá spojovací šipka 170"/>
          <p:cNvCxnSpPr/>
          <p:nvPr/>
        </p:nvCxnSpPr>
        <p:spPr>
          <a:xfrm flipH="1" flipV="1">
            <a:off x="4858920" y="4219200"/>
            <a:ext cx="100080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grpSp>
        <p:nvGrpSpPr>
          <p:cNvPr id="212" name="Group 14"/>
          <p:cNvGrpSpPr/>
          <p:nvPr/>
        </p:nvGrpSpPr>
        <p:grpSpPr>
          <a:xfrm>
            <a:off x="4861080" y="4076640"/>
            <a:ext cx="2952720" cy="1303200"/>
            <a:chOff x="4861080" y="4076640"/>
            <a:chExt cx="2952720" cy="1303200"/>
          </a:xfrm>
        </p:grpSpPr>
        <p:sp>
          <p:nvSpPr>
            <p:cNvPr id="213" name="Line 10"/>
            <p:cNvSpPr/>
            <p:nvPr/>
          </p:nvSpPr>
          <p:spPr>
            <a:xfrm>
              <a:off x="4861080" y="4628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67080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659952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>
              <a:off x="588528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81364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9"/>
                <p:cNvSpPr txBox="1"/>
                <p:nvPr/>
              </p:nvSpPr>
              <p:spPr>
                <a:xfrm>
                  <a:off x="5653440" y="4724280"/>
                  <a:ext cx="4269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6518520" y="4784760"/>
                  <a:ext cx="1936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Line 22"/>
          <p:cNvSpPr/>
          <p:nvPr/>
        </p:nvSpPr>
        <p:spPr>
          <a:xfrm flipV="1">
            <a:off x="3492360" y="4076640"/>
            <a:ext cx="28764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3492360" y="4437000"/>
            <a:ext cx="287640" cy="358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3708360" y="4435560"/>
                <a:ext cx="555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3" name="Group 25"/>
          <p:cNvGrpSpPr/>
          <p:nvPr/>
        </p:nvGrpSpPr>
        <p:grpSpPr>
          <a:xfrm>
            <a:off x="5364000" y="4292640"/>
            <a:ext cx="215640" cy="213840"/>
            <a:chOff x="5364000" y="4292640"/>
            <a:chExt cx="215640" cy="213840"/>
          </a:xfrm>
        </p:grpSpPr>
        <p:sp>
          <p:nvSpPr>
            <p:cNvPr id="224" name="Line 22"/>
            <p:cNvSpPr/>
            <p:nvPr/>
          </p:nvSpPr>
          <p:spPr>
            <a:xfrm>
              <a:off x="536400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547056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25"/>
          <p:cNvSpPr/>
          <p:nvPr/>
        </p:nvSpPr>
        <p:spPr>
          <a:xfrm>
            <a:off x="6157800" y="443700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29"/>
          <p:cNvGrpSpPr/>
          <p:nvPr/>
        </p:nvGrpSpPr>
        <p:grpSpPr>
          <a:xfrm>
            <a:off x="7093080" y="4292640"/>
            <a:ext cx="215280" cy="213840"/>
            <a:chOff x="7093080" y="4292640"/>
            <a:chExt cx="215280" cy="213840"/>
          </a:xfrm>
        </p:grpSpPr>
        <p:sp>
          <p:nvSpPr>
            <p:cNvPr id="228" name="Line 22"/>
            <p:cNvSpPr/>
            <p:nvPr/>
          </p:nvSpPr>
          <p:spPr>
            <a:xfrm>
              <a:off x="7093080" y="4399200"/>
              <a:ext cx="215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 flipV="1">
              <a:off x="71996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0" name="Skupina 110"/>
          <p:cNvGrpSpPr/>
          <p:nvPr/>
        </p:nvGrpSpPr>
        <p:grpSpPr>
          <a:xfrm>
            <a:off x="3564000" y="1413000"/>
            <a:ext cx="285840" cy="285480"/>
            <a:chOff x="3564000" y="1413000"/>
            <a:chExt cx="285840" cy="285480"/>
          </a:xfrm>
        </p:grpSpPr>
        <p:sp>
          <p:nvSpPr>
            <p:cNvPr id="231" name="Elipsa 109"/>
            <p:cNvSpPr/>
            <p:nvPr/>
          </p:nvSpPr>
          <p:spPr>
            <a:xfrm>
              <a:off x="356400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3635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3706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8:53Z</dcterms:modified>
  <cp:revision>302</cp:revision>
  <dc:subject/>
  <dc:title>FCE</dc:title>
</cp:coreProperties>
</file>