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333F-CCF3-4171-BDBA-166E497F13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A811-84F1-4682-8B99-A0FF186EE7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502D-1D54-4E6A-9064-C65A82D498D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96D-F01F-4AF6-AA61-DAC2EED1CB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D28F-E850-449F-B4C5-2D86CDBB638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EF39-038A-4F40-A8EF-50B90B0B47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247A-823E-4B4A-9E3E-21DEAA7314C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D0D3-07DB-457B-A902-32AB5E2109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4195-62A4-445A-B2E7-19F678D8C1D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4DF2-6655-4D1F-912E-8134D9A63E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D204-A472-4897-81FA-54DCDBFBCD9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B6E6-0A57-476B-BC01-207D212C035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E880-3CC1-478D-90B7-F37C3E39B81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0D4F-19BB-4D44-BF7D-47BF0DEE234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85B1-ABF8-4F96-8B20-19D650F95FB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3C37-4B88-4DD4-82B7-314FF1EB54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9ADC-850C-470C-B0A5-4D1AAA033D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764-6B7D-47D4-BF17-A2FE0D5E69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0FA3-F83A-429C-8260-2FC44798EC0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8CAA-7708-421C-9F79-E832D7C2FB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2B1F-CD81-4B5C-B561-5CFD8C5198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4344-F549-436C-B547-77E324F41E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A27C-2D70-47B6-A657-6E3228D06F4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1F09-1FDB-4E44-A5CC-3F1098C0E5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777F-20BB-46E4-9DF8-40F80828DE2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6CE-A6A3-4B1E-B0FC-A6A30F40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048-BE16-47AD-903E-DAD5E320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84C-3B8C-4F24-93FC-3FE99B7F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335-92D1-47C5-A675-056B158F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4DA1-3ADC-4468-91A0-68814115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B44D-2475-47FD-BD75-6F31B65C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2282-3178-484F-BF98-8FD03A4A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3DE5-6E09-49BA-A5FA-A76CD594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0634-0F3C-4D8B-BC15-CEC7C069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7DC9-0A67-4F2A-88CC-1116B8C2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7125-479D-4BDC-9D4C-B8EE03F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D15-00AB-43EE-8A39-429D3C85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7B6D-490E-49BE-8B25-F26A9DDA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310B-4BA6-4C0B-9860-48FCCB4E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EE02-5840-4661-AE61-1F8FC8F1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3B7F-8EE9-4CFB-BC31-E0088F36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D5EA-2CF0-48F6-9370-670137FD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0E3-3B13-417B-A1F8-A34A5EF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B96-FCF6-446D-9A74-AFBD4FC3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37F-FB80-4FBC-8CF0-C5683CA2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5E9-E9A2-420E-BE95-34AE1434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3F0-C2C8-4BBF-9121-0E19E3D3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539-6D38-42BB-AA79-67938FD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EED-3559-410D-B9A3-7955C10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AE98-0ADD-4C7B-BD10-C6449A232F7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ABF5-B13B-4EDB-9DCC-1D9EE52924E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9.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edpisem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zorcem, rovnicí)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     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abulkou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adání, zápis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332000" y="3573360"/>
          <a:ext cx="7632720" cy="1187640"/>
        </p:xfrm>
        <a:graphic>
          <a:graphicData uri="http://schemas.openxmlformats.org/drawingml/2006/table">
            <a:tbl>
              <a:tblPr/>
              <a:tblGrid>
                <a:gridCol w="1655640"/>
                <a:gridCol w="622440"/>
                <a:gridCol w="672840"/>
                <a:gridCol w="671760"/>
                <a:gridCol w="671400"/>
                <a:gridCol w="696960"/>
                <a:gridCol w="26416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y = f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3"/>
          <p:cNvSpPr/>
          <p:nvPr/>
        </p:nvSpPr>
        <p:spPr>
          <a:xfrm>
            <a:off x="900000" y="4869000"/>
            <a:ext cx="82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graf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y z tabulky – bod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yneseme do souřadného systému 0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914560" y="3573360"/>
          <a:ext cx="5737320" cy="612720"/>
        </p:xfrm>
        <a:graphic>
          <a:graphicData uri="http://schemas.openxmlformats.org/drawingml/2006/table">
            <a:tbl>
              <a:tblPr/>
              <a:tblGrid>
                <a:gridCol w="671760"/>
                <a:gridCol w="672840"/>
                <a:gridCol w="671760"/>
                <a:gridCol w="671400"/>
                <a:gridCol w="696960"/>
                <a:gridCol w="23526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... volíme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164"/>
          <p:cNvSpPr/>
          <p:nvPr/>
        </p:nvSpPr>
        <p:spPr>
          <a:xfrm>
            <a:off x="306072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167"/>
          <p:cNvSpPr/>
          <p:nvPr/>
        </p:nvSpPr>
        <p:spPr>
          <a:xfrm>
            <a:off x="370836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168"/>
          <p:cNvSpPr/>
          <p:nvPr/>
        </p:nvSpPr>
        <p:spPr>
          <a:xfrm>
            <a:off x="442908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169"/>
          <p:cNvSpPr/>
          <p:nvPr/>
        </p:nvSpPr>
        <p:spPr>
          <a:xfrm>
            <a:off x="5003640" y="4221000"/>
            <a:ext cx="69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170"/>
          <p:cNvSpPr/>
          <p:nvPr/>
        </p:nvSpPr>
        <p:spPr>
          <a:xfrm>
            <a:off x="5653080" y="420696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174"/>
          <p:cNvSpPr/>
          <p:nvPr/>
        </p:nvSpPr>
        <p:spPr>
          <a:xfrm>
            <a:off x="6373800" y="42688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dopočít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84"/>
          <p:cNvSpPr/>
          <p:nvPr/>
        </p:nvSpPr>
        <p:spPr>
          <a:xfrm flipV="1">
            <a:off x="3348000" y="2491920"/>
            <a:ext cx="2303640" cy="129708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5"/>
          <p:cNvSpPr/>
          <p:nvPr/>
        </p:nvSpPr>
        <p:spPr>
          <a:xfrm flipH="1">
            <a:off x="3347640" y="2492280"/>
            <a:ext cx="2376360" cy="201636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42"/>
          <p:cNvSpPr/>
          <p:nvPr/>
        </p:nvSpPr>
        <p:spPr>
          <a:xfrm>
            <a:off x="3059280" y="3645000"/>
            <a:ext cx="433080" cy="115236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445">
                <a:moveTo>
                  <a:pt x="3600" y="0"/>
                </a:moveTo>
                <a:arcTo wR="3600" hR="3600" stAng="16200000" swAng="-5400000"/>
                <a:lnTo>
                  <a:pt x="0" y="53845"/>
                </a:lnTo>
                <a:arcTo wR="3600" hR="3600" stAng="10800000" swAng="-5400000"/>
                <a:lnTo>
                  <a:pt x="18000" y="574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AutoShape 43"/>
          <p:cNvSpPr/>
          <p:nvPr/>
        </p:nvSpPr>
        <p:spPr>
          <a:xfrm>
            <a:off x="5148360" y="5661000"/>
            <a:ext cx="718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7" name="AutoShape 44"/>
          <p:cNvCxnSpPr>
            <a:stCxn id="325" idx="2"/>
            <a:endCxn id="326" idx="0"/>
          </p:cNvCxnSpPr>
          <p:nvPr/>
        </p:nvCxnSpPr>
        <p:spPr>
          <a:xfrm>
            <a:off x="3276720" y="4811400"/>
            <a:ext cx="2232720" cy="8355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360880" y="476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84880" y="1700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880160" y="299736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176520" y="429264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471800" y="558972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63"/>
          <p:cNvGrpSpPr/>
          <p:nvPr/>
        </p:nvGrpSpPr>
        <p:grpSpPr>
          <a:xfrm>
            <a:off x="2266560" y="981000"/>
            <a:ext cx="144720" cy="142920"/>
            <a:chOff x="2266560" y="981000"/>
            <a:chExt cx="144720" cy="142920"/>
          </a:xfrm>
        </p:grpSpPr>
        <p:sp>
          <p:nvSpPr>
            <p:cNvPr id="334" name="Line 64"/>
            <p:cNvSpPr/>
            <p:nvPr/>
          </p:nvSpPr>
          <p:spPr>
            <a:xfrm>
              <a:off x="226692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5"/>
            <p:cNvSpPr/>
            <p:nvPr/>
          </p:nvSpPr>
          <p:spPr>
            <a:xfrm flipH="1">
              <a:off x="226656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1258920" y="144360"/>
            <a:ext cx="7518600" cy="6669000"/>
            <a:chOff x="1258920" y="144360"/>
            <a:chExt cx="7518600" cy="6669000"/>
          </a:xfrm>
        </p:grpSpPr>
        <p:sp>
          <p:nvSpPr>
            <p:cNvPr id="337" name="Line 11"/>
            <p:cNvSpPr/>
            <p:nvPr/>
          </p:nvSpPr>
          <p:spPr>
            <a:xfrm>
              <a:off x="1258920" y="3645000"/>
              <a:ext cx="7416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 flipV="1">
              <a:off x="2338560" y="333000"/>
              <a:ext cx="0" cy="648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34180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>
              <a:off x="846108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2412720" y="144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63"/>
          <p:cNvGrpSpPr/>
          <p:nvPr/>
        </p:nvGrpSpPr>
        <p:grpSpPr>
          <a:xfrm>
            <a:off x="3562200" y="2278080"/>
            <a:ext cx="144720" cy="142920"/>
            <a:chOff x="3562200" y="2278080"/>
            <a:chExt cx="144720" cy="142920"/>
          </a:xfrm>
        </p:grpSpPr>
        <p:sp>
          <p:nvSpPr>
            <p:cNvPr id="343" name="Line 64"/>
            <p:cNvSpPr/>
            <p:nvPr/>
          </p:nvSpPr>
          <p:spPr>
            <a:xfrm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65"/>
            <p:cNvSpPr/>
            <p:nvPr/>
          </p:nvSpPr>
          <p:spPr>
            <a:xfrm flipH="1"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5" name="Line 19"/>
          <p:cNvSpPr/>
          <p:nvPr/>
        </p:nvSpPr>
        <p:spPr>
          <a:xfrm>
            <a:off x="3635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2195640" y="2349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493092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622764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7523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195640" y="494172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2195640" y="6237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6"/>
          <p:cNvSpPr/>
          <p:nvPr/>
        </p:nvSpPr>
        <p:spPr>
          <a:xfrm>
            <a:off x="1908360" y="83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349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190836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9"/>
          <p:cNvSpPr/>
          <p:nvPr/>
        </p:nvSpPr>
        <p:spPr>
          <a:xfrm>
            <a:off x="478800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30"/>
          <p:cNvSpPr/>
          <p:nvPr/>
        </p:nvSpPr>
        <p:spPr>
          <a:xfrm>
            <a:off x="176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31"/>
          <p:cNvSpPr/>
          <p:nvPr/>
        </p:nvSpPr>
        <p:spPr>
          <a:xfrm>
            <a:off x="176400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32"/>
          <p:cNvSpPr/>
          <p:nvPr/>
        </p:nvSpPr>
        <p:spPr>
          <a:xfrm>
            <a:off x="6085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7309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34"/>
          <p:cNvSpPr/>
          <p:nvPr/>
        </p:nvSpPr>
        <p:spPr>
          <a:xfrm flipV="1">
            <a:off x="3635280" y="2349000"/>
            <a:ext cx="0" cy="1295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35"/>
          <p:cNvSpPr/>
          <p:nvPr/>
        </p:nvSpPr>
        <p:spPr>
          <a:xfrm>
            <a:off x="2338560" y="2349360"/>
            <a:ext cx="1296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63"/>
          <p:cNvGrpSpPr/>
          <p:nvPr/>
        </p:nvGrpSpPr>
        <p:grpSpPr>
          <a:xfrm>
            <a:off x="4858920" y="3573360"/>
            <a:ext cx="144720" cy="142920"/>
            <a:chOff x="4858920" y="3573360"/>
            <a:chExt cx="144720" cy="142920"/>
          </a:xfrm>
        </p:grpSpPr>
        <p:sp>
          <p:nvSpPr>
            <p:cNvPr id="363" name="Line 64"/>
            <p:cNvSpPr/>
            <p:nvPr/>
          </p:nvSpPr>
          <p:spPr>
            <a:xfrm>
              <a:off x="485928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 flipH="1">
              <a:off x="485892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39"/>
          <p:cNvSpPr/>
          <p:nvPr/>
        </p:nvSpPr>
        <p:spPr>
          <a:xfrm>
            <a:off x="2195640" y="105264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6" name="Group 6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67" name="Line 6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6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9" name="Line 43"/>
          <p:cNvSpPr/>
          <p:nvPr/>
        </p:nvSpPr>
        <p:spPr>
          <a:xfrm>
            <a:off x="6227640" y="3645000"/>
            <a:ext cx="0" cy="129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44"/>
          <p:cNvSpPr/>
          <p:nvPr/>
        </p:nvSpPr>
        <p:spPr>
          <a:xfrm>
            <a:off x="2340000" y="494172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6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372" name="Line 6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6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Line 48"/>
          <p:cNvSpPr/>
          <p:nvPr/>
        </p:nvSpPr>
        <p:spPr>
          <a:xfrm>
            <a:off x="7524720" y="3645000"/>
            <a:ext cx="0" cy="25923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49"/>
          <p:cNvSpPr/>
          <p:nvPr/>
        </p:nvSpPr>
        <p:spPr>
          <a:xfrm>
            <a:off x="2340000" y="6237360"/>
            <a:ext cx="5184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0"/>
          <p:cNvSpPr/>
          <p:nvPr/>
        </p:nvSpPr>
        <p:spPr>
          <a:xfrm>
            <a:off x="1835280" y="549360"/>
            <a:ext cx="6049800" cy="604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51"/>
          <p:cNvSpPr/>
          <p:nvPr/>
        </p:nvSpPr>
        <p:spPr>
          <a:xfrm>
            <a:off x="6229440" y="522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64"/>
          <p:cNvSpPr/>
          <p:nvPr/>
        </p:nvSpPr>
        <p:spPr>
          <a:xfrm>
            <a:off x="522108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67"/>
          <p:cNvSpPr/>
          <p:nvPr/>
        </p:nvSpPr>
        <p:spPr>
          <a:xfrm>
            <a:off x="586872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Rectangle 168"/>
          <p:cNvSpPr/>
          <p:nvPr/>
        </p:nvSpPr>
        <p:spPr>
          <a:xfrm>
            <a:off x="658944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169"/>
          <p:cNvSpPr/>
          <p:nvPr/>
        </p:nvSpPr>
        <p:spPr>
          <a:xfrm>
            <a:off x="7093080" y="765000"/>
            <a:ext cx="691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170"/>
          <p:cNvSpPr/>
          <p:nvPr/>
        </p:nvSpPr>
        <p:spPr>
          <a:xfrm>
            <a:off x="7886520" y="76500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92"/>
          <p:cNvSpPr/>
          <p:nvPr/>
        </p:nvSpPr>
        <p:spPr>
          <a:xfrm>
            <a:off x="4500720" y="765000"/>
            <a:ext cx="4392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93"/>
          <p:cNvSpPr/>
          <p:nvPr/>
        </p:nvSpPr>
        <p:spPr>
          <a:xfrm flipV="1">
            <a:off x="507672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164"/>
          <p:cNvSpPr/>
          <p:nvPr/>
        </p:nvSpPr>
        <p:spPr>
          <a:xfrm>
            <a:off x="522108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164"/>
          <p:cNvSpPr/>
          <p:nvPr/>
        </p:nvSpPr>
        <p:spPr>
          <a:xfrm>
            <a:off x="58687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Rectangle 164"/>
          <p:cNvSpPr/>
          <p:nvPr/>
        </p:nvSpPr>
        <p:spPr>
          <a:xfrm>
            <a:off x="658944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164"/>
          <p:cNvSpPr/>
          <p:nvPr/>
        </p:nvSpPr>
        <p:spPr>
          <a:xfrm>
            <a:off x="731016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164"/>
          <p:cNvSpPr/>
          <p:nvPr/>
        </p:nvSpPr>
        <p:spPr>
          <a:xfrm>
            <a:off x="81025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164"/>
          <p:cNvSpPr/>
          <p:nvPr/>
        </p:nvSpPr>
        <p:spPr>
          <a:xfrm>
            <a:off x="4573800" y="189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164"/>
          <p:cNvSpPr/>
          <p:nvPr/>
        </p:nvSpPr>
        <p:spPr>
          <a:xfrm>
            <a:off x="4573800" y="836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Line 101"/>
          <p:cNvSpPr/>
          <p:nvPr/>
        </p:nvSpPr>
        <p:spPr>
          <a:xfrm flipV="1">
            <a:off x="565164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102"/>
          <p:cNvSpPr/>
          <p:nvPr/>
        </p:nvSpPr>
        <p:spPr>
          <a:xfrm flipV="1">
            <a:off x="6372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103"/>
          <p:cNvSpPr/>
          <p:nvPr/>
        </p:nvSpPr>
        <p:spPr>
          <a:xfrm flipV="1">
            <a:off x="7020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104"/>
          <p:cNvSpPr/>
          <p:nvPr/>
        </p:nvSpPr>
        <p:spPr>
          <a:xfrm flipV="1">
            <a:off x="7812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105"/>
          <p:cNvSpPr/>
          <p:nvPr/>
        </p:nvSpPr>
        <p:spPr>
          <a:xfrm flipV="1">
            <a:off x="8604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funkční hodnoty pro dané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1042920" y="1700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1547640" y="249228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5"/>
          <p:cNvSpPr/>
          <p:nvPr/>
        </p:nvSpPr>
        <p:spPr>
          <a:xfrm>
            <a:off x="1547640" y="2276640"/>
            <a:ext cx="6796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bdélník 34"/>
          <p:cNvSpPr/>
          <p:nvPr/>
        </p:nvSpPr>
        <p:spPr>
          <a:xfrm>
            <a:off x="4140360" y="162864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1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1476360" y="3645000"/>
                <a:ext cx="3168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716360" y="3716280"/>
                <a:ext cx="1433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6227640" y="3716280"/>
                <a:ext cx="866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692360" y="429264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716360" y="4365720"/>
                <a:ext cx="12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6227640" y="4381560"/>
                <a:ext cx="866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1692360" y="501336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16360" y="5102280"/>
                <a:ext cx="1233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6227640" y="5084640"/>
                <a:ext cx="633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971640" y="333360"/>
                <a:ext cx="3817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1"/>
              <p:cNvSpPr txBox="1"/>
              <p:nvPr/>
            </p:nvSpPr>
            <p:spPr>
              <a:xfrm>
                <a:off x="1476360" y="134136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Line 4"/>
          <p:cNvSpPr/>
          <p:nvPr/>
        </p:nvSpPr>
        <p:spPr>
          <a:xfrm>
            <a:off x="1476360" y="981000"/>
            <a:ext cx="72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2; 0;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258920" y="2492280"/>
                <a:ext cx="4869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6084720" y="2637000"/>
                <a:ext cx="21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6084720" y="3213000"/>
                <a:ext cx="186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8077320" y="3213000"/>
                <a:ext cx="1066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476360" y="3860640"/>
                <a:ext cx="35686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005440" y="4005360"/>
                <a:ext cx="1733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6732720" y="4005360"/>
                <a:ext cx="566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476360" y="4941720"/>
                <a:ext cx="350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5003640" y="5084640"/>
                <a:ext cx="2100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5003640" y="5734080"/>
                <a:ext cx="1933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7020000" y="5734080"/>
                <a:ext cx="106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1187280" y="189000"/>
                <a:ext cx="2776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Line 3"/>
          <p:cNvSpPr/>
          <p:nvPr/>
        </p:nvSpPr>
        <p:spPr>
          <a:xfrm>
            <a:off x="1619280" y="12682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3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619280" y="1557360"/>
                <a:ext cx="28684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2"/>
              <p:cNvSpPr txBox="1"/>
              <p:nvPr/>
            </p:nvSpPr>
            <p:spPr>
              <a:xfrm>
                <a:off x="4427640" y="1557360"/>
                <a:ext cx="12668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5722920" y="155736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"/>
              <p:cNvSpPr txBox="1"/>
              <p:nvPr/>
            </p:nvSpPr>
            <p:spPr>
              <a:xfrm>
                <a:off x="1835280" y="3141720"/>
                <a:ext cx="21351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4056120" y="3179880"/>
                <a:ext cx="7002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4848120" y="3467160"/>
                <a:ext cx="633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819440" y="4653000"/>
                <a:ext cx="2168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3995640" y="465300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Obdélník 34"/>
          <p:cNvSpPr/>
          <p:nvPr/>
        </p:nvSpPr>
        <p:spPr>
          <a:xfrm>
            <a:off x="4859280" y="4724280"/>
            <a:ext cx="42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daný argument není funkční hodnota definová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116000" y="549360"/>
                <a:ext cx="3503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16000" y="1700280"/>
                <a:ext cx="3433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1116000" y="2781360"/>
                <a:ext cx="398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16000" y="3933720"/>
                <a:ext cx="41608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1116000" y="5300640"/>
                <a:ext cx="4195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6227640" y="620640"/>
                <a:ext cx="1873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6227640" y="1700280"/>
                <a:ext cx="1733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6227640" y="2852640"/>
                <a:ext cx="2009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6227640" y="4149720"/>
                <a:ext cx="1974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6227640" y="5516640"/>
                <a:ext cx="2737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ní d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1150920" y="341280"/>
                <a:ext cx="3433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1131840" y="1773360"/>
                <a:ext cx="4336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1116000" y="2708280"/>
                <a:ext cx="34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1116000" y="4292640"/>
                <a:ext cx="4403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1116000" y="5300640"/>
                <a:ext cx="43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6227640" y="333360"/>
                <a:ext cx="17352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6227640" y="1844640"/>
                <a:ext cx="1525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6227640" y="2997360"/>
                <a:ext cx="1524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"/>
              <p:cNvSpPr txBox="1"/>
              <p:nvPr/>
            </p:nvSpPr>
            <p:spPr>
              <a:xfrm>
                <a:off x="6227640" y="4365720"/>
                <a:ext cx="22878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6227640" y="5300640"/>
                <a:ext cx="2009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1258920" y="1557360"/>
            <a:ext cx="788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; ŘEPOVÁ, J.; SKŘÍČEK, L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1995. ISBN 8085849615. Kapitola 1, s. 7–1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557360"/>
          <a:ext cx="7705800" cy="48099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– definice, zápis, základní pojm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vysvětlí pojem funkce – funkčnost. Na příkladu zavede zápis funkce. V souřadném systému os se učí žáci rozpoznávat  graf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; Argument 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hodnota; Zápis funkce; P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dpis funkce; Graf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0496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20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ccecff"/>
                </a:solidFill>
                <a:latin typeface="Times New Roman"/>
              </a:rPr>
              <a:t>REÁLNÁ FUNKCE JEDNÉ  REÁLNÉ PROMĚNNÉ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195640" y="4797360"/>
            <a:ext cx="694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1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dále budeme používat pouze označení 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ěžně používáme označení, ž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ěco je či není funkč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 souvislosti s různými stroji,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íklad, když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DVD přehrávači stisknete tlačítko        , očekáváme, že se na obrazovce rozehraje film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varné konvici stisknete tlačítko        , očekáváme, že se v konvici var vody zastaví, ..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Funkce – funkčnos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71640" y="486900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je tedy „něco“, co pro jednoznačně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daný vstup dává vždy stejný výstup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ýsledek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AutoShape 5">
            <a:hlinkClick r:id="" action="ppaction://hlinkshowjump?jump=nextslide"/>
          </p:cNvPr>
          <p:cNvSpPr/>
          <p:nvPr/>
        </p:nvSpPr>
        <p:spPr>
          <a:xfrm>
            <a:off x="7236000" y="2637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6804000" y="37162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780000" y="5589720"/>
            <a:ext cx="936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4643280" y="2637000"/>
            <a:ext cx="3097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211640" y="3716280"/>
            <a:ext cx="30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1" name="AutoShape 10"/>
          <p:cNvCxnSpPr>
            <a:stCxn id="148" idx="0"/>
            <a:endCxn id="150" idx="2"/>
          </p:cNvCxnSpPr>
          <p:nvPr/>
        </p:nvCxnSpPr>
        <p:spPr>
          <a:xfrm flipV="1">
            <a:off x="4247640" y="4235040"/>
            <a:ext cx="1513800" cy="134064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cxnSp>
        <p:nvCxnSpPr>
          <p:cNvPr id="152" name="AutoShape 11"/>
          <p:cNvCxnSpPr>
            <a:stCxn id="148" idx="0"/>
            <a:endCxn id="149" idx="2"/>
          </p:cNvCxnSpPr>
          <p:nvPr/>
        </p:nvCxnSpPr>
        <p:spPr>
          <a:xfrm flipV="1">
            <a:off x="4248000" y="3156120"/>
            <a:ext cx="1945440" cy="241956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sp>
        <p:nvSpPr>
          <p:cNvPr id="153" name="AutoShape 12"/>
          <p:cNvSpPr/>
          <p:nvPr/>
        </p:nvSpPr>
        <p:spPr>
          <a:xfrm>
            <a:off x="7596360" y="5589720"/>
            <a:ext cx="1152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6300720" y="3213000"/>
            <a:ext cx="2087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5724360" y="4292640"/>
            <a:ext cx="244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6" name="AutoShape 15"/>
          <p:cNvCxnSpPr>
            <a:stCxn id="153" idx="0"/>
            <a:endCxn id="155" idx="2"/>
          </p:cNvCxnSpPr>
          <p:nvPr/>
        </p:nvCxnSpPr>
        <p:spPr>
          <a:xfrm flipH="1" flipV="1">
            <a:off x="6948000" y="4738320"/>
            <a:ext cx="1224720" cy="8373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  <p:cxnSp>
        <p:nvCxnSpPr>
          <p:cNvPr id="157" name="AutoShape 16"/>
          <p:cNvCxnSpPr>
            <a:stCxn id="153" idx="0"/>
            <a:endCxn id="154" idx="2"/>
          </p:cNvCxnSpPr>
          <p:nvPr/>
        </p:nvCxnSpPr>
        <p:spPr>
          <a:xfrm flipH="1" flipV="1">
            <a:off x="7344720" y="3658320"/>
            <a:ext cx="827640" cy="191700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82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 matematice se obvykle zabýváme čísly (přirozenými, celými, reálnými, ...) nikoliv stroji,      a proto definujeme  funkci takto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Definice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900000" y="1197000"/>
            <a:ext cx="82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c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ozn.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... 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, …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                       na množině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edpis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který každému číslu z množin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řiřazu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ávě jedno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reálné čísl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124000" y="3860640"/>
            <a:ext cx="576360" cy="20894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51280" y="3716280"/>
            <a:ext cx="3166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vadratická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onstant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81000" y="4941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zhodněte na základě grafu, zda daná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řivka odpovídá předpisu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02520" y="2854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2278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189080" y="407844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2771640" y="2276280"/>
            <a:ext cx="0" cy="367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84616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332000" y="2709360"/>
            <a:ext cx="3384360" cy="3095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570200" y="414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976400" y="4078440"/>
            <a:ext cx="4680" cy="11509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981080" y="522936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Line 13"/>
          <p:cNvSpPr/>
          <p:nvPr/>
        </p:nvSpPr>
        <p:spPr>
          <a:xfrm flipV="1">
            <a:off x="4065480" y="3285720"/>
            <a:ext cx="324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2771640" y="3284640"/>
            <a:ext cx="1297080" cy="1440"/>
          </a:xfrm>
          <a:prstGeom prst="line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3931920" y="4005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842840" y="3573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2347920" y="292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1189080" y="60944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111600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Pro argument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 nalezneme právě 1 funkční hodnotu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21964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5292720" y="407664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22"/>
          <p:cNvSpPr/>
          <p:nvPr/>
        </p:nvSpPr>
        <p:spPr>
          <a:xfrm flipV="1">
            <a:off x="7020000" y="2347560"/>
            <a:ext cx="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8821440" y="414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 flipV="1" rot="16200000">
            <a:off x="5615640" y="303192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7027560" y="2779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6667200" y="393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6732720" y="4076640"/>
            <a:ext cx="0" cy="57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7027560" y="4363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5364000" y="558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32"/>
          <p:cNvSpPr/>
          <p:nvPr/>
        </p:nvSpPr>
        <p:spPr>
          <a:xfrm flipV="1">
            <a:off x="6732720" y="306864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6732720" y="3068640"/>
            <a:ext cx="287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34"/>
          <p:cNvSpPr/>
          <p:nvPr/>
        </p:nvSpPr>
        <p:spPr>
          <a:xfrm flipV="1">
            <a:off x="6732720" y="4653000"/>
            <a:ext cx="287280" cy="14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2"/>
          <p:cNvSpPr/>
          <p:nvPr/>
        </p:nvSpPr>
        <p:spPr>
          <a:xfrm flipV="1">
            <a:off x="1619280" y="62028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42144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77956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91592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419200" y="1268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500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7027560" y="981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7459560" y="148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948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6630840" y="2160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5183280" y="144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5148360" y="198900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20"/>
          <p:cNvSpPr/>
          <p:nvPr/>
        </p:nvSpPr>
        <p:spPr>
          <a:xfrm flipV="1">
            <a:off x="7020000" y="189000"/>
            <a:ext cx="0" cy="3457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705780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8604360" y="2060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5796000" y="260280"/>
            <a:ext cx="2304720" cy="3456000"/>
            <a:chOff x="5796000" y="260280"/>
            <a:chExt cx="2304720" cy="3456000"/>
          </a:xfrm>
        </p:grpSpPr>
        <p:sp>
          <p:nvSpPr>
            <p:cNvPr id="218" name="Freeform 24"/>
            <p:cNvSpPr/>
            <p:nvPr/>
          </p:nvSpPr>
          <p:spPr>
            <a:xfrm flipH="1">
              <a:off x="6948000" y="1989000"/>
              <a:ext cx="115272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 flipV="1">
              <a:off x="5796000" y="259920"/>
              <a:ext cx="115236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8137800" y="29527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5759280" y="36734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30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2419200" y="36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71560" y="4797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5"/>
          <p:cNvSpPr/>
          <p:nvPr/>
        </p:nvSpPr>
        <p:spPr>
          <a:xfrm>
            <a:off x="2419200" y="54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2124000" y="3500280"/>
            <a:ext cx="2160720" cy="2521080"/>
            <a:chOff x="2124000" y="3500280"/>
            <a:chExt cx="2160720" cy="2521080"/>
          </a:xfrm>
        </p:grpSpPr>
        <p:sp>
          <p:nvSpPr>
            <p:cNvPr id="231" name="Line 37"/>
            <p:cNvSpPr/>
            <p:nvPr/>
          </p:nvSpPr>
          <p:spPr>
            <a:xfrm>
              <a:off x="2124000" y="4941720"/>
              <a:ext cx="2016360" cy="1079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8"/>
            <p:cNvSpPr/>
            <p:nvPr/>
          </p:nvSpPr>
          <p:spPr>
            <a:xfrm flipV="1">
              <a:off x="2124000" y="3500280"/>
              <a:ext cx="2160720" cy="1441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39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0"/>
          <p:cNvSpPr/>
          <p:nvPr/>
        </p:nvSpPr>
        <p:spPr>
          <a:xfrm flipV="1">
            <a:off x="3635280" y="393372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41"/>
          <p:cNvSpPr/>
          <p:nvPr/>
        </p:nvSpPr>
        <p:spPr>
          <a:xfrm flipH="1">
            <a:off x="2771280" y="393372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2"/>
          <p:cNvSpPr/>
          <p:nvPr/>
        </p:nvSpPr>
        <p:spPr>
          <a:xfrm flipV="1">
            <a:off x="2124000" y="1197000"/>
            <a:ext cx="0" cy="79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3"/>
          <p:cNvSpPr/>
          <p:nvPr/>
        </p:nvSpPr>
        <p:spPr>
          <a:xfrm>
            <a:off x="2124000" y="1197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4"/>
          <p:cNvSpPr/>
          <p:nvPr/>
        </p:nvSpPr>
        <p:spPr>
          <a:xfrm flipV="1">
            <a:off x="3635280" y="1557000"/>
            <a:ext cx="0" cy="431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5"/>
          <p:cNvSpPr/>
          <p:nvPr/>
        </p:nvSpPr>
        <p:spPr>
          <a:xfrm flipH="1">
            <a:off x="2771640" y="1557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46"/>
          <p:cNvSpPr/>
          <p:nvPr/>
        </p:nvSpPr>
        <p:spPr>
          <a:xfrm flipV="1">
            <a:off x="6084720" y="126828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7"/>
          <p:cNvSpPr/>
          <p:nvPr/>
        </p:nvSpPr>
        <p:spPr>
          <a:xfrm>
            <a:off x="6084720" y="1268280"/>
            <a:ext cx="935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48"/>
          <p:cNvSpPr/>
          <p:nvPr/>
        </p:nvSpPr>
        <p:spPr>
          <a:xfrm>
            <a:off x="766764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49"/>
          <p:cNvSpPr/>
          <p:nvPr/>
        </p:nvSpPr>
        <p:spPr>
          <a:xfrm flipH="1">
            <a:off x="7019640" y="2421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0"/>
          <p:cNvSpPr/>
          <p:nvPr/>
        </p:nvSpPr>
        <p:spPr>
          <a:xfrm>
            <a:off x="363528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51"/>
          <p:cNvSpPr/>
          <p:nvPr/>
        </p:nvSpPr>
        <p:spPr>
          <a:xfrm flipH="1">
            <a:off x="2771280" y="573408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6948360" y="189000"/>
            <a:ext cx="0" cy="2519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3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1116000" y="1341360"/>
            <a:ext cx="3600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28652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2850840" y="836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98756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268360" y="8366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500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5659200" y="620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6956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5659200" y="2131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24"/>
          <p:cNvSpPr/>
          <p:nvPr/>
        </p:nvSpPr>
        <p:spPr>
          <a:xfrm flipV="1">
            <a:off x="6948360" y="907560"/>
            <a:ext cx="0" cy="10810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25"/>
          <p:cNvSpPr/>
          <p:nvPr/>
        </p:nvSpPr>
        <p:spPr>
          <a:xfrm flipH="1">
            <a:off x="6011640" y="90792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 flipV="1">
            <a:off x="212400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27"/>
          <p:cNvSpPr/>
          <p:nvPr/>
        </p:nvSpPr>
        <p:spPr>
          <a:xfrm>
            <a:off x="2124000" y="134136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28"/>
          <p:cNvSpPr/>
          <p:nvPr/>
        </p:nvSpPr>
        <p:spPr>
          <a:xfrm flipV="1">
            <a:off x="363528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29"/>
          <p:cNvSpPr/>
          <p:nvPr/>
        </p:nvSpPr>
        <p:spPr>
          <a:xfrm flipH="1">
            <a:off x="2771640" y="1341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30"/>
          <p:cNvSpPr/>
          <p:nvPr/>
        </p:nvSpPr>
        <p:spPr>
          <a:xfrm>
            <a:off x="694836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 flipH="1">
            <a:off x="6011640" y="242100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32"/>
          <p:cNvSpPr/>
          <p:nvPr/>
        </p:nvSpPr>
        <p:spPr>
          <a:xfrm flipV="1">
            <a:off x="6012000" y="189000"/>
            <a:ext cx="0" cy="251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33"/>
          <p:cNvSpPr/>
          <p:nvPr/>
        </p:nvSpPr>
        <p:spPr>
          <a:xfrm>
            <a:off x="5038560" y="144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34"/>
          <p:cNvSpPr/>
          <p:nvPr/>
        </p:nvSpPr>
        <p:spPr>
          <a:xfrm>
            <a:off x="507672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6156360" y="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8492760" y="201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37"/>
          <p:cNvSpPr/>
          <p:nvPr/>
        </p:nvSpPr>
        <p:spPr>
          <a:xfrm>
            <a:off x="518328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2" name="AutoShape 38"/>
          <p:cNvCxnSpPr/>
          <p:nvPr/>
        </p:nvCxnSpPr>
        <p:spPr>
          <a:xfrm flipV="1">
            <a:off x="1187280" y="4076280"/>
            <a:ext cx="3169440" cy="1656720"/>
          </a:xfrm>
          <a:prstGeom prst="curvedConnector5">
            <a:avLst>
              <a:gd name="adj1" fmla="val 49994"/>
              <a:gd name="adj2" fmla="val 49989"/>
              <a:gd name="adj3" fmla="val 49994"/>
            </a:avLst>
          </a:prstGeom>
          <a:ln w="38160">
            <a:solidFill>
              <a:srgbClr val="00ff00"/>
            </a:solidFill>
            <a:miter/>
          </a:ln>
        </p:spPr>
      </p:cxnSp>
      <p:sp>
        <p:nvSpPr>
          <p:cNvPr id="283" name="Text Box 39"/>
          <p:cNvSpPr/>
          <p:nvPr/>
        </p:nvSpPr>
        <p:spPr>
          <a:xfrm>
            <a:off x="2779560" y="537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0"/>
          <p:cNvSpPr/>
          <p:nvPr/>
        </p:nvSpPr>
        <p:spPr>
          <a:xfrm>
            <a:off x="1626840" y="4508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2340000" y="393372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763640" y="494172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1763640" y="5661000"/>
            <a:ext cx="100800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44"/>
          <p:cNvSpPr/>
          <p:nvPr/>
        </p:nvSpPr>
        <p:spPr>
          <a:xfrm flipV="1">
            <a:off x="3492360" y="422100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45"/>
          <p:cNvSpPr/>
          <p:nvPr/>
        </p:nvSpPr>
        <p:spPr>
          <a:xfrm flipH="1">
            <a:off x="2771640" y="4221000"/>
            <a:ext cx="720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46"/>
          <p:cNvSpPr/>
          <p:nvPr/>
        </p:nvSpPr>
        <p:spPr>
          <a:xfrm>
            <a:off x="3284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47"/>
          <p:cNvSpPr/>
          <p:nvPr/>
        </p:nvSpPr>
        <p:spPr>
          <a:xfrm>
            <a:off x="3853080" y="35733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48"/>
          <p:cNvSpPr/>
          <p:nvPr/>
        </p:nvSpPr>
        <p:spPr>
          <a:xfrm>
            <a:off x="5111640" y="33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49"/>
          <p:cNvSpPr/>
          <p:nvPr/>
        </p:nvSpPr>
        <p:spPr>
          <a:xfrm>
            <a:off x="518472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50"/>
          <p:cNvSpPr/>
          <p:nvPr/>
        </p:nvSpPr>
        <p:spPr>
          <a:xfrm flipV="1">
            <a:off x="680400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Text Box 51"/>
          <p:cNvSpPr/>
          <p:nvPr/>
        </p:nvSpPr>
        <p:spPr>
          <a:xfrm>
            <a:off x="684180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52"/>
          <p:cNvSpPr/>
          <p:nvPr/>
        </p:nvSpPr>
        <p:spPr>
          <a:xfrm>
            <a:off x="856584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53"/>
          <p:cNvSpPr/>
          <p:nvPr/>
        </p:nvSpPr>
        <p:spPr>
          <a:xfrm>
            <a:off x="532764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7958520" y="5300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Freeform 55"/>
          <p:cNvSpPr/>
          <p:nvPr/>
        </p:nvSpPr>
        <p:spPr>
          <a:xfrm>
            <a:off x="5580000" y="3573360"/>
            <a:ext cx="2664000" cy="2303640"/>
          </a:xfrm>
          <a:custGeom>
            <a:avLst/>
            <a:gdLst/>
            <a:ahLst/>
            <a:rect l="l" t="t" r="r" b="b"/>
            <a:pathLst>
              <a:path w="1224" h="1225">
                <a:moveTo>
                  <a:pt x="0" y="0"/>
                </a:moveTo>
                <a:cubicBezTo>
                  <a:pt x="215" y="374"/>
                  <a:pt x="431" y="749"/>
                  <a:pt x="635" y="953"/>
                </a:cubicBezTo>
                <a:cubicBezTo>
                  <a:pt x="839" y="1157"/>
                  <a:pt x="1031" y="1191"/>
                  <a:pt x="1224" y="122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5867280" y="4005000"/>
            <a:ext cx="0" cy="93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57"/>
          <p:cNvSpPr/>
          <p:nvPr/>
        </p:nvSpPr>
        <p:spPr>
          <a:xfrm>
            <a:off x="5867280" y="4005360"/>
            <a:ext cx="936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58"/>
          <p:cNvSpPr/>
          <p:nvPr/>
        </p:nvSpPr>
        <p:spPr>
          <a:xfrm>
            <a:off x="759636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59"/>
          <p:cNvSpPr/>
          <p:nvPr/>
        </p:nvSpPr>
        <p:spPr>
          <a:xfrm flipH="1">
            <a:off x="6803640" y="573408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6811920" y="37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61"/>
          <p:cNvSpPr/>
          <p:nvPr/>
        </p:nvSpPr>
        <p:spPr>
          <a:xfrm>
            <a:off x="5732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6372360" y="544500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3"/>
          <p:cNvSpPr/>
          <p:nvPr/>
        </p:nvSpPr>
        <p:spPr>
          <a:xfrm>
            <a:off x="7459560" y="4437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rgument funk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jčastěji ji volím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unkční hodnot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a, kterou funkce přiřadí konkrétnímu argument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opočítáváme, pokud volí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ý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ákladní pojmy a značení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971640" y="1341360"/>
            <a:ext cx="489564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971640" y="3716280"/>
            <a:ext cx="4895640" cy="574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7:51Z</dcterms:modified>
  <cp:revision>303</cp:revision>
  <dc:subject/>
  <dc:title>FCE</dc:title>
</cp:coreProperties>
</file>