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B13-A9A5-4BEE-AB2A-928408617F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597-5FB7-4839-A601-3A687D6090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AD1A-F100-4D42-BF9D-C8CC3508E2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E57A-F435-4D9C-AAC8-6111574F10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8930-214E-4428-B5CE-744C5BB0B7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42D-9DD9-4FC9-B84E-824EEBD5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D16-C67D-428B-8A9B-DC43FA2A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036-9AF0-4BB1-93CB-06F0574D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9FC-C2E8-4C64-BFCE-8B39E2F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8A3-C721-4FF9-9A88-54824213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4E1-7EB6-4AB2-848D-8DD1DDB2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A06A-DE99-4BBA-A8CB-337518A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7021-66C4-4C59-ABAA-7A2C466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50D3-73F3-4760-AB90-44D9CC2C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FAD8-99A5-4220-B670-1CA6EE39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14B0-226D-48CE-AD31-4D8D2BF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805-95C2-4F4E-A026-733B723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6EC9-98B8-4C32-9FE2-C48F62A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D8C-993C-4231-A3F8-8CFF445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50D-D2CA-42CC-84F8-4D6FDE9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4F10-7F2D-4AD5-9CD9-E50FB7C4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397-BE93-4A5D-A39A-E9594F73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21F-04E5-4550-8779-7C78B21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271-ADF4-48B2-862D-5C6150F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BEA-3925-4CB1-9F0F-B66A5577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679-37AA-4167-A4EB-6E60A2A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674-9B78-4ED3-AEDA-112CAF1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A43-2CAC-4969-92D6-1A1F46D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1FC-6766-4F9C-969E-083743BD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5C3-8838-4BD3-A7E8-E44FCF5A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335-8DA4-4B55-8AD9-25F987E2E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836640"/>
                <a:ext cx="1524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16000" y="18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63640" y="1555920"/>
                <a:ext cx="1046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917960" y="1555920"/>
                <a:ext cx="1106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56000" y="836640"/>
                <a:ext cx="158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27280" y="2421000"/>
                <a:ext cx="5140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50920" y="3500280"/>
                <a:ext cx="781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6000" y="4726080"/>
                <a:ext cx="781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7280" y="6021360"/>
                <a:ext cx="7677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2484360" y="1627200"/>
            <a:ext cx="3598920" cy="749520"/>
            <a:chOff x="2484360" y="1627200"/>
            <a:chExt cx="3598920" cy="749520"/>
          </a:xfrm>
        </p:grpSpPr>
        <p:sp>
          <p:nvSpPr>
            <p:cNvPr id="257" name=""/>
            <p:cNvSpPr/>
            <p:nvPr/>
          </p:nvSpPr>
          <p:spPr>
            <a:xfrm>
              <a:off x="2484360" y="1627200"/>
              <a:ext cx="358560" cy="50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1280" y="1700280"/>
              <a:ext cx="432000" cy="430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7" idx="5"/>
              <a:endCxn id="258" idx="3"/>
            </p:cNvCxnSpPr>
            <p:nvPr/>
          </p:nvCxnSpPr>
          <p:spPr>
            <a:xfrm flipH="1" rot="16200000">
              <a:off x="4247640" y="618840"/>
              <a:ext cx="10440" cy="2924640"/>
            </a:xfrm>
            <a:prstGeom prst="curvedConnector5">
              <a:avLst>
                <a:gd name="adj1" fmla="val 2982142"/>
                <a:gd name="adj2" fmla="val 49993"/>
                <a:gd name="adj3" fmla="val 2982142"/>
              </a:avLst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60" name=""/>
          <p:cNvGrpSpPr/>
          <p:nvPr/>
        </p:nvGrpSpPr>
        <p:grpSpPr>
          <a:xfrm>
            <a:off x="1908000" y="1184760"/>
            <a:ext cx="3454200" cy="731160"/>
            <a:chOff x="1908000" y="1184760"/>
            <a:chExt cx="3454200" cy="731160"/>
          </a:xfrm>
        </p:grpSpPr>
        <p:sp>
          <p:nvSpPr>
            <p:cNvPr id="261" name=""/>
            <p:cNvSpPr/>
            <p:nvPr/>
          </p:nvSpPr>
          <p:spPr>
            <a:xfrm>
              <a:off x="190800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492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7"/>
              <a:endCxn id="262" idx="1"/>
            </p:cNvCxnSpPr>
            <p:nvPr/>
          </p:nvCxnSpPr>
          <p:spPr>
            <a:xfrm flipH="1" rot="16200000">
              <a:off x="3633840" y="103680"/>
              <a:ext cx="2880" cy="2966040"/>
            </a:xfrm>
            <a:prstGeom prst="curvedConnector5">
              <a:avLst>
                <a:gd name="adj1" fmla="val -15900000"/>
                <a:gd name="adj2" fmla="val 50000"/>
                <a:gd name="adj3" fmla="val -15900000"/>
              </a:avLst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78800" y="2519280"/>
                <a:ext cx="107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81200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7800" y="4749840"/>
            <a:ext cx="1150920" cy="86508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4654440"/>
            <a:ext cx="1536480" cy="11509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56000" y="1341360"/>
                <a:ext cx="195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00720" y="1341360"/>
                <a:ext cx="58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76720" y="2637000"/>
                <a:ext cx="2387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451640" y="2924280"/>
                <a:ext cx="1506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4365720"/>
                <a:ext cx="254952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667640" y="4653000"/>
                <a:ext cx="1479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042920" y="5734080"/>
            <a:ext cx="81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150000"/>
              <a:buFont typeface="Wingdings" charset="2"/>
              <a:buChar char="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Vycházeli jsme z AT (zadání rovnice), tudíž výsledky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opět převedeme z GT na A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6640" y="1341360"/>
            <a:ext cx="328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5560" y="292428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3440" y="414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46544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840" y="11592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672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836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6672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228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414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228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16000" y="981000"/>
            <a:ext cx="802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V oboru komplexních čísel jsme nalezli všechny tři kořeny zadané rovnice: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vní z kořenů je reálný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alší dva imaginár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Znázornění kořenů 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v Gaussově rovině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413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635280" y="4437000"/>
                <a:ext cx="79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16360" y="4869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32360" y="3645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4005360"/>
                <a:ext cx="709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436572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16360" y="145872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2920" y="4240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51280" y="431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59880" y="3645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213372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03640" y="1844640"/>
            <a:ext cx="1512720" cy="2494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484360" y="436572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4437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H="1" flipV="1" rot="10800000">
            <a:off x="3023280" y="2711880"/>
            <a:ext cx="332388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3" y="1327"/>
                </a:moveTo>
                <a:arcTo wR="10800" hR="10800" stAng="-7122267" swAng="7169642"/>
                <a:lnTo>
                  <a:pt x="10800" y="10800"/>
                </a:lnTo>
                <a:close/>
              </a:path>
              <a:path fill="none" w="21600" h="21600">
                <a:moveTo>
                  <a:pt x="5613" y="1327"/>
                </a:moveTo>
                <a:arcTo wR="10800" hR="10800" stAng="-7122267" swAng="7169642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788000" y="6308640"/>
                <a:ext cx="503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804000" y="4508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788000" y="1916280"/>
                <a:ext cx="264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 flipH="1" flipV="1" rot="10800000">
            <a:off x="3026520" y="2698560"/>
            <a:ext cx="3321000" cy="324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46" y="20063"/>
                </a:moveTo>
                <a:arcTo wR="10800" hR="10800" stAng="7256701" swAng="7084064"/>
                <a:lnTo>
                  <a:pt x="10800" y="10800"/>
                </a:lnTo>
                <a:close/>
              </a:path>
              <a:path fill="none" w="21600" h="21600">
                <a:moveTo>
                  <a:pt x="5246" y="20063"/>
                </a:moveTo>
                <a:arcTo wR="10800" hR="10800" stAng="7256701" swAng="7084064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360" y="4365720"/>
            <a:ext cx="143964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52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54800" y="5877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 rot="10800000">
            <a:off x="3028320" y="272520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4"/>
                </a:moveTo>
                <a:arcTo wR="10800" hR="10800" stAng="49171" swAng="7160381"/>
                <a:lnTo>
                  <a:pt x="10800" y="10800"/>
                </a:lnTo>
                <a:close/>
              </a:path>
              <a:path fill="none" w="21600" h="21600">
                <a:moveTo>
                  <a:pt x="21599" y="10954"/>
                </a:moveTo>
                <a:arcTo wR="10800" hR="10800" stAng="49171" swAng="716038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00" y="2421000"/>
            <a:ext cx="3384360" cy="1944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421000"/>
            <a:ext cx="0" cy="38163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64000" y="4365360"/>
            <a:ext cx="3384360" cy="187164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9800" y="126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6720" y="4292640"/>
            <a:ext cx="144720" cy="142920"/>
            <a:chOff x="6876720" y="4292640"/>
            <a:chExt cx="144720" cy="142920"/>
          </a:xfrm>
        </p:grpSpPr>
        <p:sp>
          <p:nvSpPr>
            <p:cNvPr id="319" name=""/>
            <p:cNvSpPr/>
            <p:nvPr/>
          </p:nvSpPr>
          <p:spPr>
            <a:xfrm>
              <a:off x="687708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7672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2349360"/>
            <a:ext cx="144720" cy="142920"/>
            <a:chOff x="3492360" y="2349360"/>
            <a:chExt cx="144720" cy="142920"/>
          </a:xfrm>
        </p:grpSpPr>
        <p:sp>
          <p:nvSpPr>
            <p:cNvPr id="322" name=""/>
            <p:cNvSpPr/>
            <p:nvPr/>
          </p:nvSpPr>
          <p:spPr>
            <a:xfrm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92360" y="6165720"/>
            <a:ext cx="144720" cy="142920"/>
            <a:chOff x="3492360" y="616572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41840" y="76500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oznámk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 řešení binomické rovnice dospějete, když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dodržíte postu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který jsme uplatnili při odvození vztahu (vzorce) pro kořeny binomické rovnice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eb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římo dosadít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do odvozeného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vzorc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vztahu) pro kořeny binomické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51498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odvození řeš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obecného vztahu a znázornění kořenů binomické rovnice jako vrcholů pravidelných rovinných útvarů. Rozdíl řeš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í v oboru reálných a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el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nomická rovni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333360"/>
            <a:ext cx="77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Binomickou rovnic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95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rovnice tvaru:                       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de 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10317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556000" y="1833480"/>
            <a:ext cx="3884400" cy="604800"/>
            <a:chOff x="2556000" y="1833480"/>
            <a:chExt cx="3884400" cy="60480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556000" y="1833480"/>
                  <a:ext cx="12510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51280" y="1846080"/>
                  <a:ext cx="1176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076720" y="1846080"/>
                  <a:ext cx="13636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1187280" y="2421000"/>
            <a:ext cx="795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stup řešení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epišt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spcBef>
                <a:spcPts val="3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ědomíme si, že rovnice má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kořen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eparuje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ou mocnin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evedeme z AT na GT – včetně period funkcí sinus a kosinus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i odmocníme – opakem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á odmocnin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levé straně získáme hodnot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pravé straně odmocníme 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omocí Moivreovy věty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0920" y="404640"/>
                <a:ext cx="1766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26920" y="134136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2133720"/>
                <a:ext cx="6053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3284640"/>
                <a:ext cx="648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55520" y="4233960"/>
                <a:ext cx="6697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9280" y="5445000"/>
                <a:ext cx="878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1384200"/>
                <a:ext cx="1368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13372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771640" y="549360"/>
            <a:ext cx="63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koř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12760"/>
            <a:ext cx="4464000" cy="839520"/>
            <a:chOff x="468360" y="212760"/>
            <a:chExt cx="4464000" cy="839520"/>
          </a:xfrm>
        </p:grpSpPr>
        <p:sp>
          <p:nvSpPr>
            <p:cNvPr id="161" name=""/>
            <p:cNvSpPr/>
            <p:nvPr/>
          </p:nvSpPr>
          <p:spPr>
            <a:xfrm>
              <a:off x="468360" y="476280"/>
              <a:ext cx="287280" cy="33084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639720"/>
              <a:ext cx="360360" cy="412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1" idx="7"/>
              <a:endCxn id="162" idx="1"/>
            </p:cNvCxnSpPr>
            <p:nvPr/>
          </p:nvCxnSpPr>
          <p:spPr>
            <a:xfrm flipH="1" rot="16200000">
              <a:off x="2581200" y="-1366560"/>
              <a:ext cx="175320" cy="3912480"/>
            </a:xfrm>
            <a:prstGeom prst="curvedConnector5">
              <a:avLst>
                <a:gd name="adj1" fmla="val -165432"/>
                <a:gd name="adj2" fmla="val 49995"/>
                <a:gd name="adj3" fmla="val -165432"/>
              </a:avLst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851280" y="1312920"/>
            <a:ext cx="52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lze zapsat v 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1312920"/>
            <a:ext cx="63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samostatní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31292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12258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1341360"/>
            <a:ext cx="505080" cy="5749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4920"/>
              <a:gd name="textAreaBottom" fmla="*/ 550440 h 574920"/>
            </a:gdLst>
            <a:ahLst/>
            <a:rect l="textAreaLeft" t="textAreaTop" r="textAreaRight" b="textAreaBottom"/>
            <a:pathLst>
              <a:path w="21600" h="24585">
                <a:moveTo>
                  <a:pt x="3600" y="0"/>
                </a:moveTo>
                <a:arcTo wR="3600" hR="3600" stAng="16200000" swAng="-5400000"/>
                <a:lnTo>
                  <a:pt x="0" y="20985"/>
                </a:lnTo>
                <a:arcTo wR="3600" hR="3600" stAng="10800000" swAng="-5400000"/>
                <a:lnTo>
                  <a:pt x="18000" y="24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5761080" cy="57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341360"/>
            <a:ext cx="5760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172360" y="2133720"/>
                <a:ext cx="657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35280" y="2781360"/>
            <a:ext cx="73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opakem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á odmocni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6064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umocňujeme-li součin, umocňujeme každého z činitel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94172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užijeme Moivreovu vě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328464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284640"/>
            <a:ext cx="525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445000"/>
            <a:ext cx="1368360" cy="93672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5445000"/>
            <a:ext cx="1392120" cy="9367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6000" y="260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čísla </a:t>
            </a:r>
            <a:r>
              <a:rPr b="0" i="1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x</a:t>
            </a:r>
            <a:r>
              <a:rPr b="0" i="1" lang="cs-CZ" sz="4000" spc="-1" strike="noStrike" u="sng" baseline="-25000">
                <a:solidFill>
                  <a:srgbClr val="ccecff"/>
                </a:solidFill>
                <a:uFillTx/>
                <a:latin typeface="Times New Roman"/>
              </a:rPr>
              <a:t>k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v Gaussově rovině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508640"/>
            <a:ext cx="8028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ým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úhelníkem je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5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504036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ovnostranný trojúhelník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554364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čtverec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04836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ravidelný pětiúhelník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981000"/>
            <a:ext cx="8028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oře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...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 – 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binomické rovnice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ž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r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 v Gaussově rovině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e vrcholech pravidelného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-úhelník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vepsaného do kruž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středem v počátku               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 poloměrem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3141720"/>
                <a:ext cx="12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40360" y="3573360"/>
                <a:ext cx="116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256536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92360" y="3068640"/>
                <a:ext cx="866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48360" y="292428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40360" y="3357720"/>
                <a:ext cx="4618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4076640"/>
                <a:ext cx="1038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116000" y="407664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119664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02920" y="397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80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40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260280"/>
                <a:ext cx="8172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71160" y="2349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84464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16360" y="2781360"/>
            <a:ext cx="273528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659280" y="3068640"/>
            <a:ext cx="144720" cy="142920"/>
            <a:chOff x="6659280" y="3068640"/>
            <a:chExt cx="144720" cy="142920"/>
          </a:xfrm>
        </p:grpSpPr>
        <p:sp>
          <p:nvSpPr>
            <p:cNvPr id="202" name=""/>
            <p:cNvSpPr/>
            <p:nvPr/>
          </p:nvSpPr>
          <p:spPr>
            <a:xfrm>
              <a:off x="665964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5928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84360" y="407664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57480" y="41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H="1" flipV="1" rot="10800000">
            <a:off x="3121920" y="2486160"/>
            <a:ext cx="332496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53" y="5762"/>
                </a:moveTo>
                <a:arcTo wR="10800" hR="10800" stAng="-1668277" swAng="1571075"/>
                <a:lnTo>
                  <a:pt x="10800" y="10800"/>
                </a:lnTo>
                <a:close/>
              </a:path>
              <a:path fill="none" w="21600" h="21600">
                <a:moveTo>
                  <a:pt x="20353" y="5762"/>
                </a:moveTo>
                <a:arcTo wR="10800" hR="10800" stAng="-1668277" swAng="1571075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821120" y="59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9000" y="4121280"/>
                <a:ext cx="609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88000" y="1484280"/>
                <a:ext cx="609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835280" y="1052640"/>
            <a:ext cx="1800000" cy="31683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33360"/>
            <a:ext cx="505080" cy="717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77">
                <a:moveTo>
                  <a:pt x="3600" y="0"/>
                </a:moveTo>
                <a:arcTo wR="3600" hR="3600" stAng="16200000" swAng="-5400000"/>
                <a:lnTo>
                  <a:pt x="0" y="27077"/>
                </a:lnTo>
                <a:arcTo wR="3600" hR="3600" stAng="10800000" swAng="-5400000"/>
                <a:lnTo>
                  <a:pt x="18000" y="30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333360"/>
            <a:ext cx="504720" cy="7174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99">
                <a:moveTo>
                  <a:pt x="3600" y="0"/>
                </a:moveTo>
                <a:arcTo wR="3600" hR="3600" stAng="16200000" swAng="-5400000"/>
                <a:lnTo>
                  <a:pt x="0" y="27099"/>
                </a:lnTo>
                <a:arcTo wR="3600" hR="3600" stAng="10800000" swAng="-5400000"/>
                <a:lnTo>
                  <a:pt x="18000" y="3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052640"/>
            <a:ext cx="2521080" cy="280800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 rot="10800000">
            <a:off x="3127320" y="2477160"/>
            <a:ext cx="3320640" cy="32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1" y="563"/>
                </a:moveTo>
                <a:arcTo wR="10800" hR="10800" stAng="-4285414" swAng="2586779"/>
                <a:lnTo>
                  <a:pt x="10800" y="10800"/>
                </a:lnTo>
                <a:close/>
              </a:path>
              <a:path fill="none" w="21600" h="21600">
                <a:moveTo>
                  <a:pt x="14241" y="563"/>
                </a:moveTo>
                <a:arcTo wR="10800" hR="10800" stAng="-4285414" swAng="258677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16360" y="1267920"/>
            <a:ext cx="1079640" cy="2808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1520" y="14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35280" y="1916280"/>
            <a:ext cx="144720" cy="142560"/>
            <a:chOff x="5435280" y="1916280"/>
            <a:chExt cx="144720" cy="142560"/>
          </a:xfrm>
        </p:grpSpPr>
        <p:sp>
          <p:nvSpPr>
            <p:cNvPr id="218" name=""/>
            <p:cNvSpPr/>
            <p:nvPr/>
          </p:nvSpPr>
          <p:spPr>
            <a:xfrm>
              <a:off x="543564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352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19640" y="333360"/>
            <a:ext cx="865080" cy="717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1052640"/>
            <a:ext cx="1584360" cy="1871640"/>
          </a:xfrm>
          <a:prstGeom prst="line">
            <a:avLst/>
          </a:prstGeom>
          <a:ln w="28440">
            <a:solidFill>
              <a:srgbClr val="ff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360" y="1412640"/>
            <a:ext cx="1224000" cy="26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0" y="1268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000" y="1989000"/>
            <a:ext cx="144720" cy="142920"/>
            <a:chOff x="3708000" y="1989000"/>
            <a:chExt cx="144720" cy="142920"/>
          </a:xfrm>
        </p:grpSpPr>
        <p:sp>
          <p:nvSpPr>
            <p:cNvPr id="225" name=""/>
            <p:cNvSpPr/>
            <p:nvPr/>
          </p:nvSpPr>
          <p:spPr>
            <a:xfrm>
              <a:off x="370836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0800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flipV="1" rot="10800000">
            <a:off x="3128040" y="2498400"/>
            <a:ext cx="33188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8" y="1077"/>
                </a:moveTo>
                <a:arcTo wR="10800" hR="10800" stAng="-6948455" swAng="2620919"/>
                <a:lnTo>
                  <a:pt x="10800" y="10800"/>
                </a:lnTo>
                <a:close/>
              </a:path>
              <a:path fill="none" w="21600" h="21600">
                <a:moveTo>
                  <a:pt x="6098" y="1077"/>
                </a:moveTo>
                <a:arcTo wR="10800" hR="10800" stAng="-6948455" swAng="262091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18920" y="2923920"/>
            <a:ext cx="309708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7160" y="2492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55640" y="3213000"/>
            <a:ext cx="144720" cy="142920"/>
            <a:chOff x="2555640" y="321300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255600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55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 rot="10800000">
            <a:off x="3125160" y="249876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7" y="6804"/>
                </a:moveTo>
                <a:arcTo wR="10800" hR="10800" stAng="-9496899" swAng="2548875"/>
                <a:lnTo>
                  <a:pt x="10800" y="10800"/>
                </a:lnTo>
                <a:close/>
              </a:path>
              <a:path fill="none" w="21600" h="21600">
                <a:moveTo>
                  <a:pt x="767" y="6804"/>
                </a:moveTo>
                <a:arcTo wR="10800" hR="10800" stAng="-9496899" swAng="2548875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 rot="10800000">
            <a:off x="2048400" y="1347120"/>
            <a:ext cx="51822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3"/>
                </a:moveTo>
                <a:arcTo wR="10800" hR="10800" stAng="-10344417" swAng="536284"/>
                <a:lnTo>
                  <a:pt x="10800" y="10800"/>
                </a:lnTo>
                <a:close/>
              </a:path>
              <a:path fill="none" w="21600" h="21600">
                <a:moveTo>
                  <a:pt x="95" y="9373"/>
                </a:moveTo>
                <a:arcTo wR="10800" hR="10800" stAng="-10344417" swAng="536284"/>
              </a:path>
            </a:pathLst>
          </a:cu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35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alší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58920" y="1484280"/>
            <a:ext cx="7489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orovnejte řešení rovni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reálný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komplexní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27640" y="1341360"/>
                <a:ext cx="220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79640" y="1052640"/>
                <a:ext cx="2004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27280" y="1989000"/>
                <a:ext cx="136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435640" y="1125360"/>
            <a:ext cx="370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ice má 3 koř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1989000"/>
                <a:ext cx="787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ad>
                          <m:deg>
                            <m:r>
                              <m:t xml:space="preserve">3</m:t>
                            </m:r>
                          </m:deg>
                          <m:e/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16360" y="2997360"/>
                <a:ext cx="1141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42920" y="4076640"/>
            <a:ext cx="8101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li jsme pouze jeden ze tří kořenů dané rovnice, který je reálný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bývající dva kořeny zřejmě nejsou reál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1052640"/>
            <a:ext cx="360360" cy="504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7"/>
            <a:endCxn id="241" idx="1"/>
          </p:cNvCxnSpPr>
          <p:nvPr/>
        </p:nvCxnSpPr>
        <p:spPr>
          <a:xfrm flipH="1" rot="16200000">
            <a:off x="3782520" y="-167760"/>
            <a:ext cx="374040" cy="2932920"/>
          </a:xfrm>
          <a:prstGeom prst="curvedConnector5">
            <a:avLst>
              <a:gd name="adj1" fmla="val -19556"/>
              <a:gd name="adj2" fmla="val 30603"/>
              <a:gd name="adj3" fmla="val -1955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12Z</dcterms:modified>
  <cp:revision>296</cp:revision>
  <dc:subject/>
  <dc:title>KČ</dc:title>
</cp:coreProperties>
</file>