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983B-5D03-4F4D-97C5-E99BF43739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BD1-8E46-4E43-976E-134FE59DBEC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A7EA-9AC1-46AF-B1CB-FCA3A229BB0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F653-17EC-496F-ADED-40A0CE3587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18E5-A64D-4412-B5CC-88D19F7D7B2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447-D6DD-48F2-B8BA-37336C79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004-4A07-4942-B9A3-7CEDAE8B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755-76A2-4502-9D26-F4AC43E3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AEC-DF60-42FB-91A5-361E6126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249E-933C-498D-95DE-70929FAF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9DB8-6D1C-447E-8134-79B6DEEA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28DD-788B-47E6-9B2A-536775D9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552B-531D-49FA-A034-F37DC861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4259-3115-491C-B916-FB43AA99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219B-AFB7-4115-9CC3-2F2FB145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471B-C76C-4FAC-833D-05F1FFB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8E0-37C0-47EE-A351-C1F5DEE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94EC-4DE3-49A7-A94B-D466033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367A-E92A-4E33-865E-4731650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57D4-7FCF-421D-9AAD-D6B784CC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1409-0BF0-4D93-8472-A42B6BC2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8690-94BE-4BF1-B338-F8500568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CBC-2FF6-4A88-9F01-B17A288A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AA9-718B-49F4-AA36-E626E707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073-54B8-4814-B51E-4AC3C149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708-3943-4216-92B8-35DF5943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BD9-30BE-4659-8B8E-1263D002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8B2-2043-44E8-8177-767B1C9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033-167C-42EA-B08E-749EECFD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32CB-57AC-49AA-B197-700E07D9C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6EA8-C28A-45DC-97AD-F89E4BF2B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371600" y="189000"/>
                <a:ext cx="31003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20920" y="1843200"/>
                <a:ext cx="27334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36760" y="3571920"/>
                <a:ext cx="2700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92120" y="4724280"/>
                <a:ext cx="2933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5364000" y="765000"/>
            <a:ext cx="1710000" cy="5226120"/>
            <a:chOff x="5364000" y="765000"/>
            <a:chExt cx="1710000" cy="522612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364000" y="1987560"/>
                  <a:ext cx="171000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5435640" y="3645000"/>
                  <a:ext cx="105264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sup>
                      </m:sSup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364000" y="4869000"/>
                  <a:ext cx="17100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506920" y="765000"/>
                  <a:ext cx="5256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476280"/>
                <a:ext cx="2166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65200" y="2060640"/>
                <a:ext cx="2100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65200" y="3284640"/>
                <a:ext cx="306720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5292720" y="620640"/>
            <a:ext cx="2192400" cy="5483160"/>
            <a:chOff x="5292720" y="620640"/>
            <a:chExt cx="2192400" cy="54831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5292720" y="620640"/>
                  <a:ext cx="21700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5348160" y="1741320"/>
                  <a:ext cx="213696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5508720" y="3357720"/>
                  <a:ext cx="17748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764320" y="4981680"/>
                  <a:ext cx="144612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476360" y="4941720"/>
                <a:ext cx="2467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cniny imaginárních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šší mocniny dvojčlenu; Algebraický tvar a goniometrický tvar komplexního čísla;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189000"/>
            <a:ext cx="79167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v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05264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početní operace, které jsme odvodili a procvičili v AT lze odvodit také pro GT, ale sčítat, odečítat, násobit či dělit je mnohem jednodušší v 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95520" y="5307120"/>
                <a:ext cx="7040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umocníme:</m:t>
                            </m:r>
                          </m:e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Moivreova  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052640"/>
            <a:ext cx="81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0040" indent="-320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 GT se soustředíme pouze na </a:t>
            </a:r>
            <a:r>
              <a:rPr b="0" lang="cs-CZ" sz="3000" spc="-1" strike="noStrike" u="sng">
                <a:solidFill>
                  <a:srgbClr val="dddddd"/>
                </a:solidFill>
                <a:uFillTx/>
                <a:latin typeface="Times New Roman"/>
              </a:rPr>
              <a:t>mocniny KČ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(cos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in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0040" indent="-320040"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známk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;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…algebraické vzorce: AT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4,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5, 6, ...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.. Moivreova věta: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65300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3944880"/>
                <a:tab algn="l" pos="511812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ostup úpravy zapíšeme schematicky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765000"/>
                <a:ext cx="233352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64000" y="836640"/>
                <a:ext cx="5033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92360" y="2421000"/>
                <a:ext cx="5472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92360" y="3141720"/>
                <a:ext cx="5126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92360" y="1628640"/>
                <a:ext cx="5067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92360" y="3645000"/>
                <a:ext cx="4336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12000" y="3933720"/>
                <a:ext cx="2859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877000"/>
                <a:ext cx="22478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308720" y="6093000"/>
                <a:ext cx="1633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58920" y="5300640"/>
                <a:ext cx="1673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692360" y="907920"/>
            <a:ext cx="1439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5227560"/>
            <a:ext cx="1657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32000" y="5300640"/>
                <a:ext cx="274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6021360"/>
                <a:ext cx="3240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908000" y="1484280"/>
            <a:ext cx="0" cy="3745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602136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90792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211640" y="1483920"/>
            <a:ext cx="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508360" y="1483920"/>
            <a:ext cx="295092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7380360" y="1483920"/>
            <a:ext cx="107928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44000" y="602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907920"/>
            <a:ext cx="792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90792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765000"/>
            <a:ext cx="43200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85080" y="83664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8440" y="1916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Moivreova v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08720" y="2708280"/>
            <a:ext cx="18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 baseline="-25000">
                <a:solidFill>
                  <a:srgbClr val="66ff33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360</a:t>
            </a: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16000" y="404640"/>
                <a:ext cx="183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59280" y="333360"/>
                <a:ext cx="5262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059280" y="2292480"/>
                <a:ext cx="5079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059280" y="3213000"/>
                <a:ext cx="4698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258920" y="501336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03280" y="5145120"/>
                <a:ext cx="2292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92400" y="1357200"/>
                <a:ext cx="5500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59280" y="4076640"/>
                <a:ext cx="2825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940360" y="4076640"/>
                <a:ext cx="1249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32000" y="5877000"/>
                <a:ext cx="24080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067280" y="5157720"/>
                <a:ext cx="21492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11640" y="5661000"/>
                <a:ext cx="28098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4360" y="5935680"/>
                <a:ext cx="1719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763640" y="549360"/>
            <a:ext cx="7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508464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981000"/>
            <a:ext cx="0" cy="403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587844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47628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419640" y="1052280"/>
            <a:ext cx="50472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219280" y="1052280"/>
            <a:ext cx="331308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948000" y="1052280"/>
            <a:ext cx="158436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2360" y="587700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04640"/>
            <a:ext cx="43164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33336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4292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40360" y="549360"/>
                <a:ext cx="4478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40360" y="2421000"/>
                <a:ext cx="383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4365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403280" y="4437000"/>
                <a:ext cx="29322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77080" y="3357720"/>
                <a:ext cx="1444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388360" y="3357720"/>
                <a:ext cx="560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1484280"/>
                <a:ext cx="3987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40360" y="3284640"/>
                <a:ext cx="2754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47640" y="5661000"/>
                <a:ext cx="23828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284720" y="5229360"/>
                <a:ext cx="282096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80360" y="5950080"/>
                <a:ext cx="15969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692360" y="333360"/>
            <a:ext cx="1871640" cy="115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1484280"/>
            <a:ext cx="0" cy="309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18900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56720" y="54936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587700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620640"/>
            <a:ext cx="216000" cy="57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576360"/>
              <a:gd name="textAreaBottom" fmla="*/ 565920 h 576360"/>
            </a:gdLst>
            <a:ahLst/>
            <a:rect l="textAreaLeft" t="textAreaTop" r="textAreaRight" b="textAreaBottom"/>
            <a:pathLst>
              <a:path w="21600" h="57576">
                <a:moveTo>
                  <a:pt x="3600" y="0"/>
                </a:moveTo>
                <a:arcTo wR="3600" hR="3600" stAng="16200000" swAng="-5400000"/>
                <a:lnTo>
                  <a:pt x="0" y="53976"/>
                </a:lnTo>
                <a:arcTo wR="3600" hR="3600" stAng="10800000" swAng="-5400000"/>
                <a:lnTo>
                  <a:pt x="18000" y="57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08360" y="1197000"/>
            <a:ext cx="93492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866920" y="1197000"/>
            <a:ext cx="273708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7596360" y="1197000"/>
            <a:ext cx="100800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7080" y="5877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436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0000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635280" y="549360"/>
                <a:ext cx="4900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635280" y="2565360"/>
                <a:ext cx="4262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258920" y="450864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4513320"/>
                <a:ext cx="288000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74000" y="3068640"/>
                <a:ext cx="20700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1484280"/>
                <a:ext cx="4314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35280" y="3429000"/>
                <a:ext cx="3538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76360" y="5664240"/>
                <a:ext cx="2409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11640" y="5234040"/>
                <a:ext cx="30859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43640" y="5950080"/>
                <a:ext cx="1792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476280"/>
                <a:ext cx="1533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700360" y="404640"/>
                <a:ext cx="4707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700360" y="2276640"/>
                <a:ext cx="531000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700360" y="3213000"/>
                <a:ext cx="4305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476360" y="5229360"/>
                <a:ext cx="1511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700360" y="1197000"/>
                <a:ext cx="47671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700360" y="4076640"/>
                <a:ext cx="2630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9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476360" y="5805360"/>
                <a:ext cx="2489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56000" y="5589720"/>
                <a:ext cx="28130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308720" y="5877000"/>
                <a:ext cx="1630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971640" y="404640"/>
                <a:ext cx="2300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492360" y="476280"/>
                <a:ext cx="4740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92360" y="2349360"/>
                <a:ext cx="4424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92360" y="3284640"/>
                <a:ext cx="4108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116000" y="515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16000" y="5300640"/>
                <a:ext cx="2266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92360" y="1197000"/>
                <a:ext cx="5167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492360" y="4076640"/>
                <a:ext cx="28940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7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16000" y="5948280"/>
                <a:ext cx="3492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88000" y="5732640"/>
                <a:ext cx="2840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553160" y="6019920"/>
                <a:ext cx="159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56Z</dcterms:modified>
  <cp:revision>300</cp:revision>
  <dc:subject/>
  <dc:title>KČ</dc:title>
</cp:coreProperties>
</file>