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77C9-2823-4A51-841E-F9C608BE813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6555-F5DD-4C68-A997-89A6D720CD9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A0FD-19A2-4A29-B7D8-5AB1158B2A3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2EA5-1C56-4F05-9925-F96324A88A1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DB4F-4F9C-44EE-A648-B69C23F6162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3AB2-61F4-422A-80B2-FEB9644D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0B35-162A-4B52-B3C0-6C2202CC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C657-1533-4D5B-B3FB-3AC5D1DF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893-2001-4470-897A-FE4891C1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4BD6-CBD2-41AB-9781-6D5056CE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A799-CD77-4542-B925-657B9D2E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459E-1444-4B87-BBB5-D2CFBAAC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968D-3D5F-425A-8C5E-18BF3CEC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81D5-4DC8-4F25-812B-5A495A80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38B6-C5E6-4A0E-891D-CCAC70D9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EB08-38DE-462D-94D2-49E9876A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4884-5998-496C-BB35-21B7D7C4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B833-B606-4F68-BFDF-6D365D9F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4B1C-8D05-4C0A-A1AE-15EDD1EA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DE12-3C7A-457C-8174-7781264C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1FAF-3ACD-4BFB-B41A-435BCE6E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AC80-93C0-45D1-AD33-E3D6F608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E2F-A7C1-4524-8749-C67081A9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1045-5839-4BDC-AFDE-2D6A5722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E76-EAAF-414B-9B63-4B8D1E76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663-2CCB-487F-BA74-F189255E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CE32-E889-4E33-ACE3-E5D03388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8494-76E4-498F-8B4E-C19FC7E4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DE6-BC28-4843-9915-2ABC2D38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8958-91A1-4DF6-B8CC-AB2DA20C7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06E9-927D-4BA7-87BA-AD278BC70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042920" y="476280"/>
                <a:ext cx="5900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g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987640" y="2349360"/>
                <a:ext cx="48402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987640" y="3502080"/>
                <a:ext cx="59482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059280" y="4941720"/>
                <a:ext cx="3801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987640" y="1557360"/>
                <a:ext cx="5934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g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16000" y="260280"/>
                <a:ext cx="540072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03640" y="2781360"/>
                <a:ext cx="480852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203640" y="4005360"/>
                <a:ext cx="568476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203640" y="5300640"/>
                <a:ext cx="38671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203640" y="1514520"/>
                <a:ext cx="53290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971640" y="549360"/>
                <a:ext cx="64339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8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8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268360" y="1700280"/>
                <a:ext cx="58071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  <m:r>
                              <m:t xml:space="preserve">°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  <m:r>
                              <m:t xml:space="preserve">°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268360" y="4005360"/>
                <a:ext cx="6080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  <m:r>
                          <m:t xml:space="preserve">°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  <m:r>
                          <m:t xml:space="preserve">°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340000" y="5157720"/>
                <a:ext cx="5383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305080" y="2900520"/>
                <a:ext cx="6773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92240" y="189000"/>
                <a:ext cx="460044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900600" y="1052640"/>
                <a:ext cx="42336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933720" y="1844640"/>
                <a:ext cx="44672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940200" y="2637000"/>
                <a:ext cx="304020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8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116000" y="3500280"/>
                <a:ext cx="46753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486240" y="4365720"/>
                <a:ext cx="45673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419640" y="5157720"/>
                <a:ext cx="53006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492360" y="5877000"/>
                <a:ext cx="3900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165320" y="260280"/>
                <a:ext cx="4734000" cy="13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851280" y="1557360"/>
                <a:ext cx="430056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51280" y="2924280"/>
                <a:ext cx="482436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851280" y="4292640"/>
                <a:ext cx="4129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851280" y="5300640"/>
                <a:ext cx="32702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165320" y="189000"/>
                <a:ext cx="516708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419640" y="1484280"/>
                <a:ext cx="51004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19640" y="2852640"/>
                <a:ext cx="525456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419640" y="4149720"/>
                <a:ext cx="462564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419640" y="5373720"/>
                <a:ext cx="39304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5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092240" y="189000"/>
                <a:ext cx="566748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916360" y="1484280"/>
                <a:ext cx="54720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916360" y="2781360"/>
                <a:ext cx="5949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987640" y="4076640"/>
                <a:ext cx="59468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059280" y="5300640"/>
                <a:ext cx="485424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4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7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7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187280" y="260280"/>
                <a:ext cx="493416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635280" y="1484280"/>
                <a:ext cx="439920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564000" y="4076640"/>
                <a:ext cx="542124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564000" y="5300640"/>
                <a:ext cx="37972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564000" y="2565360"/>
                <a:ext cx="46911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171440" y="260280"/>
                <a:ext cx="466740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211640" y="1484280"/>
                <a:ext cx="4138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226040" y="4091040"/>
                <a:ext cx="45370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191120" y="5334120"/>
                <a:ext cx="343368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154400" y="2565360"/>
                <a:ext cx="390852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027080" y="260280"/>
                <a:ext cx="546732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635280" y="1549440"/>
                <a:ext cx="4608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736800" y="4076640"/>
                <a:ext cx="498960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736800" y="5300640"/>
                <a:ext cx="343404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664080" y="2565360"/>
                <a:ext cx="42987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3243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ivreova vět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ivreova věta; Goniometrický tvar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187280" y="260280"/>
                <a:ext cx="4967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116000" y="1773360"/>
                <a:ext cx="52340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116000" y="2997360"/>
                <a:ext cx="520056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187280" y="5084640"/>
                <a:ext cx="63342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1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1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4200480" y="1052640"/>
            <a:ext cx="4943520" cy="5557680"/>
            <a:chOff x="4200480" y="1052640"/>
            <a:chExt cx="4943520" cy="5557680"/>
          </a:xfrm>
        </p:grpSpPr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4211640" y="1052640"/>
                  <a:ext cx="3755880" cy="56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5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4211640" y="2492280"/>
                  <a:ext cx="454644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00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4211640" y="4076640"/>
                  <a:ext cx="4052880" cy="102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81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4200480" y="5950080"/>
                  <a:ext cx="49435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26</m:t>
                          </m:r>
                          <m:r>
                            <m:t xml:space="preserve">°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0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26</m:t>
                          </m:r>
                          <m:r>
                            <m:t xml:space="preserve">°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0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038240" y="260280"/>
                <a:ext cx="52671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042920" y="1773360"/>
                <a:ext cx="54673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042920" y="3284640"/>
                <a:ext cx="55674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6</m:t>
                        </m:r>
                      </m:deg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096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042920" y="4724280"/>
                <a:ext cx="526752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3</m:t>
                            </m:r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73" name=""/>
          <p:cNvGrpSpPr/>
          <p:nvPr/>
        </p:nvGrpSpPr>
        <p:grpSpPr>
          <a:xfrm>
            <a:off x="4970520" y="907920"/>
            <a:ext cx="3921120" cy="5705640"/>
            <a:chOff x="4970520" y="907920"/>
            <a:chExt cx="3921120" cy="570564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5003640" y="907920"/>
                  <a:ext cx="388800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3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135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135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4970520" y="2492280"/>
                  <a:ext cx="375768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5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5148360" y="4005360"/>
                  <a:ext cx="3427200" cy="56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55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55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5148360" y="5589720"/>
                  <a:ext cx="3460680" cy="102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042920" y="260280"/>
                <a:ext cx="4200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971640" y="1341360"/>
                <a:ext cx="42670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971640" y="2852640"/>
                <a:ext cx="42670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81" name=""/>
          <p:cNvGrpSpPr/>
          <p:nvPr/>
        </p:nvGrpSpPr>
        <p:grpSpPr>
          <a:xfrm>
            <a:off x="4727520" y="404640"/>
            <a:ext cx="4416480" cy="6307200"/>
            <a:chOff x="4727520" y="404640"/>
            <a:chExt cx="4416480" cy="630720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5783400" y="404640"/>
                  <a:ext cx="336060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024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5867280" y="1484280"/>
                  <a:ext cx="2405160" cy="102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5584680" y="2924280"/>
                  <a:ext cx="3559320" cy="11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"/>
                <p:cNvSpPr txBox="1"/>
                <p:nvPr/>
              </p:nvSpPr>
              <p:spPr>
                <a:xfrm>
                  <a:off x="4727520" y="5589720"/>
                  <a:ext cx="4416480" cy="11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625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042920" y="4292640"/>
                <a:ext cx="543420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4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4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71640" y="260280"/>
            <a:ext cx="79167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Moivreova vět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98100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 všechna přirozená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587600" y="1701720"/>
                <a:ext cx="7291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042920" y="2708280"/>
            <a:ext cx="810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809960" y="3429000"/>
                <a:ext cx="43340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162080" y="4740120"/>
                <a:ext cx="358452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116000" y="3284640"/>
                <a:ext cx="37004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859280" y="4005360"/>
                <a:ext cx="36003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788000" y="4869000"/>
                <a:ext cx="415116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41680" y="5948280"/>
                <a:ext cx="28861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516720" y="5877000"/>
                <a:ext cx="24591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427640" y="177336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0360" y="1989000"/>
            <a:ext cx="287280" cy="360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7088">
                <a:moveTo>
                  <a:pt x="3600" y="0"/>
                </a:moveTo>
                <a:arcTo wR="3600" hR="3600" stAng="16200000" swAng="-5400000"/>
                <a:lnTo>
                  <a:pt x="0" y="23488"/>
                </a:lnTo>
                <a:arcTo wR="3600" hR="3600" stAng="10800000" swAng="-5400000"/>
                <a:lnTo>
                  <a:pt x="18000" y="27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56720" y="198900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00720" y="328464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00720" y="472428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724360" y="3429000"/>
                <a:ext cx="3002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7740720" y="3429000"/>
                <a:ext cx="299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9" name=""/>
          <p:cNvCxnSpPr>
            <a:endCxn id="154" idx="0"/>
          </p:cNvCxnSpPr>
          <p:nvPr/>
        </p:nvCxnSpPr>
        <p:spPr>
          <a:xfrm>
            <a:off x="4788000" y="1773360"/>
            <a:ext cx="3350160" cy="202320"/>
          </a:xfrm>
          <a:prstGeom prst="curvedConnector2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</p:cxnSp>
      <p:cxnSp>
        <p:nvCxnSpPr>
          <p:cNvPr id="160" name=""/>
          <p:cNvCxnSpPr>
            <a:endCxn id="153" idx="0"/>
          </p:cNvCxnSpPr>
          <p:nvPr/>
        </p:nvCxnSpPr>
        <p:spPr>
          <a:xfrm>
            <a:off x="4788000" y="1773360"/>
            <a:ext cx="1297440" cy="202320"/>
          </a:xfrm>
          <a:prstGeom prst="curvedConnector2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651640" y="4869000"/>
                <a:ext cx="37764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7596360" y="4869000"/>
                <a:ext cx="37764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427640" y="5948280"/>
            <a:ext cx="5047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28360" y="640080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 2</a:t>
            </a:r>
            <a:r>
              <a:rPr b="0" lang="cs-CZ" sz="2400" spc="-1" strike="noStrike">
                <a:solidFill>
                  <a:srgbClr val="99ff33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Vypočtět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116000" y="836640"/>
                <a:ext cx="48006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64000" y="1557360"/>
                <a:ext cx="46670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564000" y="2278080"/>
                <a:ext cx="52671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492360" y="3078000"/>
                <a:ext cx="4535640" cy="6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1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1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187280" y="3933720"/>
                <a:ext cx="47340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635280" y="4653000"/>
                <a:ext cx="45007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0,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635280" y="5373720"/>
                <a:ext cx="51008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0,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635280" y="6168960"/>
                <a:ext cx="4249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042920" y="189000"/>
                <a:ext cx="5400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19640" y="981000"/>
                <a:ext cx="52336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419640" y="1628640"/>
                <a:ext cx="55339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564000" y="3003480"/>
                <a:ext cx="4392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116000" y="3730680"/>
                <a:ext cx="49687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132000" y="4508640"/>
                <a:ext cx="48675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110040" y="5229360"/>
                <a:ext cx="60339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132000" y="5950080"/>
                <a:ext cx="473400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5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492360" y="2355840"/>
                <a:ext cx="4680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96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96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042920" y="189000"/>
                <a:ext cx="546732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203640" y="1444680"/>
                <a:ext cx="53290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203640" y="2708280"/>
                <a:ext cx="57006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203640" y="5084640"/>
                <a:ext cx="433368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203640" y="3933720"/>
                <a:ext cx="46339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116000" y="3068640"/>
                <a:ext cx="5545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22680" y="3860640"/>
                <a:ext cx="5700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700360" y="4653000"/>
                <a:ext cx="62341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843280" y="6099120"/>
                <a:ext cx="50022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88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116000" y="260280"/>
                <a:ext cx="48006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492360" y="907920"/>
                <a:ext cx="45673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492360" y="1628640"/>
                <a:ext cx="52563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492360" y="2303640"/>
                <a:ext cx="4392720" cy="66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771640" y="5373720"/>
                <a:ext cx="59007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116000" y="404640"/>
                <a:ext cx="4834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564000" y="2133720"/>
                <a:ext cx="43210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564000" y="3286080"/>
                <a:ext cx="52228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564000" y="4653000"/>
                <a:ext cx="3801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564000" y="1341360"/>
                <a:ext cx="49672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01680" y="476280"/>
                <a:ext cx="5234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529080" y="2205000"/>
                <a:ext cx="47098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525840" y="3357720"/>
                <a:ext cx="561816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578400" y="4724280"/>
                <a:ext cx="3801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540240" y="1413000"/>
                <a:ext cx="5333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5:39Z</dcterms:modified>
  <cp:revision>299</cp:revision>
  <dc:subject/>
  <dc:title>KČ</dc:title>
</cp:coreProperties>
</file>