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0723A-7952-4117-9A5B-4EA6D3D2BD3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DECB5-EC35-46B4-A48E-520B99B3BC9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2B628-909F-472F-BA06-9C91B49CEED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C2C52-791E-4A5F-A282-FEB38F0EC3B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2F2A6-A919-4F24-B991-AE67B0EDAE0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C8E1-6F8A-457E-B2A6-8160FBC92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E533-2618-4C89-8A46-01A3E3925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33FB-DA42-4DD5-90EE-BCCDA38D3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A71D-30FB-4CBE-92AE-1FDEC63A2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C4336-F300-49D3-8FC0-3FBA71860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04EB6-6A8A-4666-B7B3-24A55D51D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8CCB1-7469-41D1-A5B2-3C8C40F03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3C3EE-2E18-4383-84FF-62955F0A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524EE-EC99-47D3-97BC-44857FF72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CB469-5D79-453F-A1C7-D91E6A39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CF140-C117-4417-9146-B81B1086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5BFF-9B01-479E-BF07-2E1B51FCB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8E890-8FE1-4266-8E25-01AFBA9F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3C880-8352-4FFE-B6EB-694F75F4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A2D3A-451F-4780-B50C-98DDC9B92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E5FFE-242B-4FBD-8171-2D28FF45A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F920F-8B75-4223-A4A5-D793F0399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14EC-A5E7-4297-B720-133635A4F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99BA-A185-4D8F-83C6-1FC580F8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0247-1E52-486C-9569-E92A34CFB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B9FD-F4DC-414B-A21A-080F6889F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710D-18A9-4383-87CC-EDD371C2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2C65-FCD8-4582-A039-290C2B1E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7410-99BD-496E-9C2F-BF3232BE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6B42A-2262-4F27-AA87-15DA7E339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C8EE-AD88-4B9E-872C-2039CA6A5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76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042920" y="981000"/>
                <a:ext cx="496728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1042920" y="189000"/>
            <a:ext cx="8101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: Zapište daná KČ v A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1042920" y="2421000"/>
                <a:ext cx="450072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7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1042920" y="3762360"/>
                <a:ext cx="40338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π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1042920" y="5229360"/>
                <a:ext cx="4934160" cy="12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21" name=""/>
          <p:cNvGrpSpPr/>
          <p:nvPr/>
        </p:nvGrpSpPr>
        <p:grpSpPr>
          <a:xfrm>
            <a:off x="6110280" y="907920"/>
            <a:ext cx="3033720" cy="5519880"/>
            <a:chOff x="6110280" y="907920"/>
            <a:chExt cx="3033720" cy="5519880"/>
          </a:xfrm>
        </p:grpSpPr>
        <mc:AlternateContent>
          <mc:Choice xmlns:a14="http://schemas.microsoft.com/office/drawing/2010/main" Requires="a14">
            <p:sp>
              <p:nvSpPr>
                <p:cNvPr id="222" name=""/>
                <p:cNvSpPr txBox="1"/>
                <p:nvPr/>
              </p:nvSpPr>
              <p:spPr>
                <a:xfrm>
                  <a:off x="6110280" y="907920"/>
                  <a:ext cx="3033720" cy="1123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5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5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6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3" name=""/>
                <p:cNvSpPr txBox="1"/>
                <p:nvPr/>
              </p:nvSpPr>
              <p:spPr>
                <a:xfrm>
                  <a:off x="6156360" y="2781360"/>
                  <a:ext cx="1285920" cy="46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7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4" name=""/>
                <p:cNvSpPr txBox="1"/>
                <p:nvPr/>
              </p:nvSpPr>
              <p:spPr>
                <a:xfrm>
                  <a:off x="6227640" y="3795840"/>
                  <a:ext cx="1285920" cy="102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5" name=""/>
                <p:cNvSpPr txBox="1"/>
                <p:nvPr/>
              </p:nvSpPr>
              <p:spPr>
                <a:xfrm>
                  <a:off x="6227640" y="5300640"/>
                  <a:ext cx="2340000" cy="112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1042920" y="549360"/>
                <a:ext cx="510084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3,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295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295</m:t>
                        </m:r>
                        <m:r>
                          <m:t xml:space="preserve">°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1042920" y="1700280"/>
                <a:ext cx="420048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042920" y="3429000"/>
                <a:ext cx="642636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112</m:t>
                        </m:r>
                        <m:r>
                          <m:t xml:space="preserve">°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112</m:t>
                        </m:r>
                        <m:r>
                          <m:t xml:space="preserve">°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1116000" y="5157720"/>
                <a:ext cx="473400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π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30" name=""/>
          <p:cNvGrpSpPr/>
          <p:nvPr/>
        </p:nvGrpSpPr>
        <p:grpSpPr>
          <a:xfrm>
            <a:off x="6732720" y="549360"/>
            <a:ext cx="2411280" cy="5735520"/>
            <a:chOff x="6732720" y="549360"/>
            <a:chExt cx="2411280" cy="5735520"/>
          </a:xfrm>
        </p:grpSpPr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6732720" y="549360"/>
                  <a:ext cx="2109600" cy="52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1,5</m:t>
                      </m:r>
                      <m:r>
                        <m:t xml:space="preserve">−</m:t>
                      </m:r>
                      <m:r>
                        <m:t xml:space="preserve">3,2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2" name=""/>
                <p:cNvSpPr txBox="1"/>
                <p:nvPr/>
              </p:nvSpPr>
              <p:spPr>
                <a:xfrm>
                  <a:off x="6754680" y="1779480"/>
                  <a:ext cx="1384560" cy="59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3" name=""/>
                <p:cNvSpPr txBox="1"/>
                <p:nvPr/>
              </p:nvSpPr>
              <p:spPr>
                <a:xfrm>
                  <a:off x="6804000" y="4149720"/>
                  <a:ext cx="2340000" cy="53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,7</m:t>
                      </m:r>
                      <m:r>
                        <m:t xml:space="preserve">+</m:t>
                      </m:r>
                      <m:r>
                        <m:t xml:space="preserve">4,1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4" name=""/>
                <p:cNvSpPr txBox="1"/>
                <p:nvPr/>
              </p:nvSpPr>
              <p:spPr>
                <a:xfrm>
                  <a:off x="6804000" y="5157720"/>
                  <a:ext cx="2340000" cy="112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1187280" y="260280"/>
                <a:ext cx="443412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1042920" y="1484280"/>
                <a:ext cx="525780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1116000" y="3141720"/>
                <a:ext cx="475128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7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1116000" y="4869000"/>
                <a:ext cx="610092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t xml:space="preserve">°</m:t>
                        </m:r>
                        <m:r>
                          <m:t xml:space="preserve">0</m:t>
                        </m:r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t xml:space="preserve">°</m:t>
                        </m:r>
                        <m:r>
                          <m:t xml:space="preserve">0</m:t>
                        </m:r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39" name=""/>
          <p:cNvGrpSpPr/>
          <p:nvPr/>
        </p:nvGrpSpPr>
        <p:grpSpPr>
          <a:xfrm>
            <a:off x="6659640" y="476280"/>
            <a:ext cx="2484360" cy="5715000"/>
            <a:chOff x="6659640" y="476280"/>
            <a:chExt cx="2484360" cy="5715000"/>
          </a:xfrm>
        </p:grpSpPr>
        <mc:AlternateContent>
          <mc:Choice xmlns:a14="http://schemas.microsoft.com/office/drawing/2010/main" Requires="a14">
            <p:sp>
              <p:nvSpPr>
                <p:cNvPr id="240" name=""/>
                <p:cNvSpPr txBox="1"/>
                <p:nvPr/>
              </p:nvSpPr>
              <p:spPr>
                <a:xfrm>
                  <a:off x="6659640" y="476280"/>
                  <a:ext cx="1350720" cy="56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i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1" name=""/>
                <p:cNvSpPr txBox="1"/>
                <p:nvPr/>
              </p:nvSpPr>
              <p:spPr>
                <a:xfrm>
                  <a:off x="6732720" y="1773360"/>
                  <a:ext cx="1846080" cy="46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2" name=""/>
                <p:cNvSpPr txBox="1"/>
                <p:nvPr/>
              </p:nvSpPr>
              <p:spPr>
                <a:xfrm>
                  <a:off x="6659640" y="3141720"/>
                  <a:ext cx="2274840" cy="112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7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3" name=""/>
                <p:cNvSpPr txBox="1"/>
                <p:nvPr/>
              </p:nvSpPr>
              <p:spPr>
                <a:xfrm>
                  <a:off x="6770520" y="5661000"/>
                  <a:ext cx="2373480" cy="53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0,5</m:t>
                      </m:r>
                      <m:r>
                        <m:t xml:space="preserve">+</m:t>
                      </m:r>
                      <m:r>
                        <m:t xml:space="preserve">5,8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ETRÁNEK, O.; CALDA, E.; HEBÁK, P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4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4. ISBN 8071960403. Kapitola 1, s. 9–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1, s. 11–4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628640"/>
          <a:ext cx="7416720" cy="45277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lexní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vod zápisu komplexního čísla z goniometrického tvaru na tvar algebraický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řešené i neřešené příklady s výsledky, včetně názorného postupu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pis komplexního čísla; Argument komplexního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556000" y="11592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258920" y="2349360"/>
            <a:ext cx="7885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Převod GT na AT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042920" y="189000"/>
            <a:ext cx="79167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stup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16000" y="1197000"/>
            <a:ext cx="80280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dddddd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rgument KČ převeďte z obloukové míry na stupňovou pro lepší srozumitelnost.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dddddd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Určete hodnoty goniometrických funkcí kosinus a sinus pomo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163520" indent="-533160">
              <a:lnSpc>
                <a:spcPct val="100000"/>
              </a:lnSpc>
              <a:spcBef>
                <a:spcPts val="1749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tabulek – pro hodnoty argumentu 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, 3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, 45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, 6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, 9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a jejich násobků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163520" indent="-533160">
              <a:lnSpc>
                <a:spcPct val="100000"/>
              </a:lnSpc>
              <a:spcBef>
                <a:spcPts val="1749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alkulátoru – pro zbylé hodnoty argumentu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dddddd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Roznásobte tyto hodnoty vzdáleností KČ od počátku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835280" y="2494080"/>
                <a:ext cx="33829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2771640" y="1125360"/>
            <a:ext cx="360360" cy="93528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935280"/>
              <a:gd name="textAreaBottom" fmla="*/ 918000 h 935280"/>
            </a:gdLst>
            <a:ahLst/>
            <a:rect l="textAreaLeft" t="textAreaTop" r="textAreaRight" b="textAreaBottom"/>
            <a:pathLst>
              <a:path w="21600" h="56026">
                <a:moveTo>
                  <a:pt x="3600" y="0"/>
                </a:moveTo>
                <a:arcTo wR="3600" hR="3600" stAng="16200000" swAng="-5400000"/>
                <a:lnTo>
                  <a:pt x="0" y="52426"/>
                </a:lnTo>
                <a:arcTo wR="3600" hR="3600" stAng="10800000" swAng="-5400000"/>
                <a:lnTo>
                  <a:pt x="18000" y="560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700360" y="2494080"/>
            <a:ext cx="64764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87640" y="2060640"/>
            <a:ext cx="0" cy="43164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195640" y="2349360"/>
            <a:ext cx="1152360" cy="792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411280" y="3141720"/>
            <a:ext cx="0" cy="12240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80000" y="2349360"/>
            <a:ext cx="1079280" cy="792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3779640" y="3141720"/>
            <a:ext cx="431640" cy="1224000"/>
          </a:xfrm>
          <a:prstGeom prst="line">
            <a:avLst/>
          </a:prstGeom>
          <a:ln w="2844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42920" y="189000"/>
            <a:ext cx="81010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10000"/>
              </a:lnSpc>
              <a:spcBef>
                <a:spcPts val="4000"/>
              </a:spcBef>
              <a:tabLst>
                <a:tab algn="l" pos="0"/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například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152360" y="1066680"/>
                <a:ext cx="363060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2484360" y="3500280"/>
            <a:ext cx="66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3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... tabulková hodnota – MFCHT, str. 3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906560" y="4367160"/>
                <a:ext cx="2224080" cy="11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243320" y="4367160"/>
                <a:ext cx="1419120" cy="12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5859360" y="4727520"/>
                <a:ext cx="177660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2195640" y="4365720"/>
            <a:ext cx="647640" cy="1152360"/>
          </a:xfrm>
          <a:custGeom>
            <a:avLst/>
            <a:gdLst>
              <a:gd name="textAreaLeft" fmla="*/ 31320 w 647640"/>
              <a:gd name="textAreaRight" fmla="*/ 616320 w 647640"/>
              <a:gd name="textAreaTop" fmla="*/ 31320 h 1152360"/>
              <a:gd name="textAreaBottom" fmla="*/ 1121040 h 1152360"/>
            </a:gdLst>
            <a:ahLst/>
            <a:rect l="textAreaLeft" t="textAreaTop" r="textAreaRight" b="textAreaBottom"/>
            <a:pathLst>
              <a:path w="21600" h="38424">
                <a:moveTo>
                  <a:pt x="3600" y="0"/>
                </a:moveTo>
                <a:arcTo wR="3600" hR="3600" stAng="16200000" swAng="-5400000"/>
                <a:lnTo>
                  <a:pt x="0" y="34824"/>
                </a:lnTo>
                <a:arcTo wR="3600" hR="3600" stAng="10800000" swAng="-5400000"/>
                <a:lnTo>
                  <a:pt x="18000" y="384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419640" y="4365720"/>
            <a:ext cx="431640" cy="115236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1152360"/>
              <a:gd name="textAreaBottom" fmla="*/ 1131480 h 1152360"/>
            </a:gdLst>
            <a:ahLst/>
            <a:rect l="textAreaLeft" t="textAreaTop" r="textAreaRight" b="textAreaBottom"/>
            <a:pathLst>
              <a:path w="21600" h="57636">
                <a:moveTo>
                  <a:pt x="3600" y="0"/>
                </a:moveTo>
                <a:arcTo wR="3600" hR="3600" stAng="16200000" swAng="-5400000"/>
                <a:lnTo>
                  <a:pt x="0" y="54036"/>
                </a:lnTo>
                <a:arcTo wR="3600" hR="3600" stAng="10800000" swAng="-5400000"/>
                <a:lnTo>
                  <a:pt x="18000" y="576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971640" y="189000"/>
                <a:ext cx="4290840" cy="11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763640" y="1557360"/>
                <a:ext cx="399744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763640" y="2924280"/>
                <a:ext cx="202896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5003640" y="2852640"/>
                <a:ext cx="77184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3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2987640" y="260280"/>
            <a:ext cx="432000" cy="100800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1008000"/>
              <a:gd name="textAreaBottom" fmla="*/ 987120 h 1008000"/>
            </a:gdLst>
            <a:ahLst/>
            <a:rect l="textAreaLeft" t="textAreaTop" r="textAreaRight" b="textAreaBottom"/>
            <a:pathLst>
              <a:path w="21600" h="50376">
                <a:moveTo>
                  <a:pt x="3600" y="0"/>
                </a:moveTo>
                <a:arcTo wR="3600" hR="3600" stAng="16200000" swAng="-5400000"/>
                <a:lnTo>
                  <a:pt x="0" y="46776"/>
                </a:lnTo>
                <a:arcTo wR="3600" hR="3600" stAng="10800000" swAng="-5400000"/>
                <a:lnTo>
                  <a:pt x="18000" y="503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132000" y="1557360"/>
            <a:ext cx="648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76720" y="1268280"/>
            <a:ext cx="0" cy="28908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27280" y="1413000"/>
            <a:ext cx="1152720" cy="79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56000" y="2924280"/>
            <a:ext cx="287280" cy="43164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431640"/>
              <a:gd name="textAreaBottom" fmla="*/ 417600 h 431640"/>
            </a:gdLst>
            <a:ahLst/>
            <a:rect l="textAreaLeft" t="textAreaTop" r="textAreaRight" b="textAreaBottom"/>
            <a:pathLst>
              <a:path w="21600" h="32441">
                <a:moveTo>
                  <a:pt x="3600" y="0"/>
                </a:moveTo>
                <a:arcTo wR="3600" hR="3600" stAng="16200000" swAng="-5400000"/>
                <a:lnTo>
                  <a:pt x="0" y="28841"/>
                </a:lnTo>
                <a:arcTo wR="3600" hR="3600" stAng="10800000" swAng="-5400000"/>
                <a:lnTo>
                  <a:pt x="18000" y="324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771640" y="2205000"/>
            <a:ext cx="0" cy="719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1413000"/>
            <a:ext cx="1152360" cy="79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419640" y="2924280"/>
            <a:ext cx="287280" cy="43164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431640"/>
              <a:gd name="textAreaBottom" fmla="*/ 417600 h 431640"/>
            </a:gdLst>
            <a:ahLst/>
            <a:rect l="textAreaLeft" t="textAreaTop" r="textAreaRight" b="textAreaBottom"/>
            <a:pathLst>
              <a:path w="21600" h="32441">
                <a:moveTo>
                  <a:pt x="3600" y="0"/>
                </a:moveTo>
                <a:arcTo wR="3600" hR="3600" stAng="16200000" swAng="-5400000"/>
                <a:lnTo>
                  <a:pt x="0" y="28841"/>
                </a:lnTo>
                <a:arcTo wR="3600" hR="3600" stAng="10800000" swAng="-5400000"/>
                <a:lnTo>
                  <a:pt x="18000" y="324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3635280" y="2205000"/>
            <a:ext cx="720720" cy="719280"/>
          </a:xfrm>
          <a:prstGeom prst="line">
            <a:avLst/>
          </a:prstGeom>
          <a:ln w="2844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440160" y="2349360"/>
            <a:ext cx="547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90</a:t>
            </a: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... tabulková hodnota – MFCHT, str. 3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780000" y="2924280"/>
                <a:ext cx="1287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763640" y="5229360"/>
                <a:ext cx="506268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66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43</m:t>
                            </m:r>
                          </m:e>
                        </m:d>
                      </m:e>
                    </m:d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042920" y="4005360"/>
                <a:ext cx="548316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22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22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2987640" y="4076640"/>
            <a:ext cx="129708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59280" y="5300640"/>
            <a:ext cx="129672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92360" y="4581360"/>
            <a:ext cx="0" cy="719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88000" y="4076640"/>
            <a:ext cx="129672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03640" y="5300640"/>
            <a:ext cx="12970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580000" y="4581360"/>
            <a:ext cx="0" cy="719280"/>
          </a:xfrm>
          <a:prstGeom prst="line">
            <a:avLst/>
          </a:prstGeom>
          <a:ln w="2844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620160" y="4653000"/>
            <a:ext cx="550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20</a:t>
            </a: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... není tabulková hodnota – kalkulátor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763640" y="6093000"/>
                <a:ext cx="274176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67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18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4500720" y="6019920"/>
                <a:ext cx="206352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r>
                              <m:t xml:space="preserve">2,2</m:t>
                            </m:r>
                            <m:r>
                              <m:t xml:space="preserve">−</m:t>
                            </m:r>
                            <m:r>
                              <m:t xml:space="preserve">1,8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5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1116000" y="3429000"/>
                <a:ext cx="460692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1835280" y="4437000"/>
                <a:ext cx="423540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042920" y="189000"/>
                <a:ext cx="451656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835280" y="1246320"/>
                <a:ext cx="423540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315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315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803240" y="1712880"/>
                <a:ext cx="3859200" cy="13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5796000" y="2046240"/>
                <a:ext cx="151272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908000" y="5300640"/>
                <a:ext cx="3216600" cy="12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148360" y="5353200"/>
                <a:ext cx="185580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7451640" y="2158920"/>
                <a:ext cx="169236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7202520" y="5661000"/>
                <a:ext cx="19414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116000" y="3141720"/>
                <a:ext cx="4886280" cy="11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835280" y="4221000"/>
                <a:ext cx="454500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135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135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835280" y="5300640"/>
                <a:ext cx="3828960" cy="12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5651640" y="5445000"/>
                <a:ext cx="171288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i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7451640" y="5445000"/>
                <a:ext cx="136836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1116000" y="260280"/>
                <a:ext cx="407988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5219640" y="549360"/>
                <a:ext cx="35798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1908000" y="1197000"/>
                <a:ext cx="283068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4788000" y="1197000"/>
                <a:ext cx="1536480" cy="11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6877080" y="1557360"/>
                <a:ext cx="177624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042920" y="5445000"/>
            <a:ext cx="810108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27120" indent="-531720">
              <a:lnSpc>
                <a:spcPct val="13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Z příkladů je zřejmé, že je mnohem snadnější převést zápis KČ z AT na GT než-li naopak.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1187280" y="2652840"/>
                <a:ext cx="540072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π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979640" y="3645000"/>
                <a:ext cx="482904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33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33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1116000" y="260280"/>
                <a:ext cx="571032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1,9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°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°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835280" y="1341360"/>
                <a:ext cx="396720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1,9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63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71</m:t>
                        </m:r>
                      </m:e>
                    </m:d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5867280" y="1341360"/>
                <a:ext cx="254484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29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14</m:t>
                    </m:r>
                    <m:r>
                      <m:t xml:space="preserve">i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1979640" y="4149720"/>
                <a:ext cx="4067280" cy="12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6084720" y="4149720"/>
                <a:ext cx="206712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6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1835280" y="1916280"/>
                <a:ext cx="177300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1,8</m:t>
                            </m:r>
                            <m:r>
                              <m:t xml:space="preserve">+</m:t>
                            </m:r>
                            <m:r>
                              <m:t xml:space="preserve">0,5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1835280" y="765000"/>
                <a:ext cx="474156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,9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,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,</m:t>
                        </m:r>
                        <m:r>
                          <m:t xml:space="preserve">7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45:21Z</dcterms:modified>
  <cp:revision>295</cp:revision>
  <dc:subject/>
  <dc:title>KČ</dc:title>
</cp:coreProperties>
</file>