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C712-AC93-4F68-8D52-911FF4E240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7B99-9EB9-4D20-A415-FD50E0A93B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A37C-36EB-4224-9D3F-FAD32D40B03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4217-E9B4-434A-A1BC-AB00043C30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E752-B63B-47B9-B543-E0DBF24152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01B-5B61-4A8C-B37C-41E531EB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1BB-5CEA-4AE4-9202-5CC50BAC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B85-2291-428D-8DD7-0F84FAB3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27B-F12C-4686-AA02-CFCD3404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9AF2-3D69-4383-BF24-98B7420C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7C82-F2F7-41A7-87D3-39BE5213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A6B1-924A-482F-9C88-B815242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8B06-DCD1-490C-95DB-97176DD2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0092-837D-4EF1-9BCE-CC36E422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F19C-2991-42D8-9522-03878480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1443-8A9C-4B71-AC03-4A2FE89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ECB-ABBE-43B7-82CE-4BEBD456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265B-E160-4A16-B2C7-D7485C6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9D0-F04A-4505-9FE6-7213746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68DC-0ABC-4F1D-8788-FC5466EF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390-6195-4A63-A5CE-3911C3E3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CC16-3EA2-42E1-BD63-084F64D0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1C4-31CA-4A4B-A14A-CB4ADF9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323-EAC6-46FA-804B-D0C9BE03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170-0128-47CB-BC20-A969964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79E-2425-4A68-83B1-E66CB82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D29-3628-42D7-8AA0-17BF2F0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EA0-0064-43B1-B1E9-B29520D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892-BC14-4E0A-AE94-C7118B5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4319-3303-43ED-8B01-E9421E7C8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99A-39D5-4C84-B3CC-4926C7B27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16000" y="260280"/>
                <a:ext cx="2066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318360" y="2387520"/>
                <a:ext cx="2624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24210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5280" y="3357720"/>
                <a:ext cx="20383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82560" y="4508640"/>
                <a:ext cx="2360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835280" y="5950080"/>
                <a:ext cx="2511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3724200" y="23875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3068640"/>
            <a:ext cx="0" cy="115236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979640" y="1052640"/>
                <a:ext cx="4962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680000" y="422100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069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6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571640" y="4292640"/>
            <a:ext cx="576720" cy="503280"/>
            <a:chOff x="4571640" y="4292640"/>
            <a:chExt cx="576720" cy="503280"/>
          </a:xfrm>
        </p:grpSpPr>
        <p:sp>
          <p:nvSpPr>
            <p:cNvPr id="316" name=""/>
            <p:cNvSpPr/>
            <p:nvPr/>
          </p:nvSpPr>
          <p:spPr>
            <a:xfrm>
              <a:off x="4572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57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4328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</p:cNvCxnSpPr>
          <p:nvPr/>
        </p:nvCxnSpPr>
        <p:spPr>
          <a:xfrm flipH="1" flipV="1" rot="5400000">
            <a:off x="343044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260280"/>
                <a:ext cx="233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407280" y="2387520"/>
                <a:ext cx="256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258920" y="2421000"/>
                <a:ext cx="242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03280" y="3357720"/>
                <a:ext cx="2075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403280" y="4508640"/>
                <a:ext cx="217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877000"/>
                <a:ext cx="2548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3</m:t>
                    </m:r>
                    <m:r>
                      <m:t xml:space="preserve">°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3781440" y="238752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08720" y="299736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08000" y="1125360"/>
                <a:ext cx="474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5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08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940000" y="4292640"/>
            <a:ext cx="576720" cy="503280"/>
            <a:chOff x="5940000" y="4292640"/>
            <a:chExt cx="576720" cy="503280"/>
          </a:xfrm>
        </p:grpSpPr>
        <p:sp>
          <p:nvSpPr>
            <p:cNvPr id="335" name=""/>
            <p:cNvSpPr/>
            <p:nvPr/>
          </p:nvSpPr>
          <p:spPr>
            <a:xfrm>
              <a:off x="594036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940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7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042920" y="260280"/>
                <a:ext cx="2633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330960" y="2347920"/>
                <a:ext cx="2813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494000" y="3284640"/>
                <a:ext cx="22572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41320" y="5626080"/>
                <a:ext cx="2946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86040" y="23479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48360" y="2997360"/>
            <a:ext cx="0" cy="12254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903320" y="907920"/>
                <a:ext cx="722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211280" y="4292640"/>
            <a:ext cx="576720" cy="503280"/>
            <a:chOff x="4211280" y="4292640"/>
            <a:chExt cx="576720" cy="503280"/>
          </a:xfrm>
        </p:grpSpPr>
        <p:sp>
          <p:nvSpPr>
            <p:cNvPr id="353" name=""/>
            <p:cNvSpPr/>
            <p:nvPr/>
          </p:nvSpPr>
          <p:spPr>
            <a:xfrm>
              <a:off x="421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21128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22400" y="2276640"/>
                <a:ext cx="268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69892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365720"/>
            <a:ext cx="648000" cy="115236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03">
                <a:moveTo>
                  <a:pt x="3600" y="0"/>
                </a:moveTo>
                <a:arcTo wR="3600" hR="3600" stAng="16200000" swAng="-5400000"/>
                <a:lnTo>
                  <a:pt x="0" y="34803"/>
                </a:lnTo>
                <a:arcTo wR="3600" hR="3600" stAng="10800000" swAng="-5400000"/>
                <a:lnTo>
                  <a:pt x="18000" y="38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8000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6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82520" y="210960"/>
                <a:ext cx="24004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143680" y="2852640"/>
                <a:ext cx="3889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276200" y="3284640"/>
                <a:ext cx="2257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258920" y="4581360"/>
                <a:ext cx="2179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655640" y="5734080"/>
                <a:ext cx="33829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8000" y="2205000"/>
            <a:ext cx="2749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03640" y="2852640"/>
            <a:ext cx="0" cy="1513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700280" y="836640"/>
                <a:ext cx="7443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4356000" y="4292640"/>
            <a:ext cx="464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4869000"/>
            <a:ext cx="23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3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372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116000" y="2205000"/>
                <a:ext cx="2289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2554200" y="486900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7640" y="4508640"/>
            <a:ext cx="504720" cy="1081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81080"/>
              <a:gd name="textAreaBottom" fmla="*/ 1056600 h 1081080"/>
            </a:gdLst>
            <a:ahLst/>
            <a:rect l="textAreaLeft" t="textAreaTop" r="textAreaRight" b="textAreaBottom"/>
            <a:pathLst>
              <a:path w="21600" h="46248">
                <a:moveTo>
                  <a:pt x="3600" y="0"/>
                </a:moveTo>
                <a:arcTo wR="3600" hR="3600" stAng="16200000" swAng="-5400000"/>
                <a:lnTo>
                  <a:pt x="0" y="42648"/>
                </a:lnTo>
                <a:arcTo wR="3600" hR="3600" stAng="10800000" swAng="-5400000"/>
                <a:lnTo>
                  <a:pt x="18000" y="462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229360"/>
            <a:ext cx="7178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2"/>
          </p:cNvCxnSpPr>
          <p:nvPr/>
        </p:nvCxnSpPr>
        <p:spPr>
          <a:xfrm flipH="1" flipV="1" rot="5400000">
            <a:off x="3141360" y="4245120"/>
            <a:ext cx="662760" cy="1477080"/>
          </a:xfrm>
          <a:prstGeom prst="curvedConnector5">
            <a:avLst>
              <a:gd name="adj1" fmla="val -59945"/>
              <a:gd name="adj2" fmla="val 3400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116000" y="836640"/>
                <a:ext cx="2633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4869000"/>
                <a:ext cx="3200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042920" y="2997360"/>
                <a:ext cx="27669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627440" y="476280"/>
            <a:ext cx="4516560" cy="6041880"/>
            <a:chOff x="4627440" y="476280"/>
            <a:chExt cx="4516560" cy="604188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4660920" y="47628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660920" y="479736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4627440" y="2637000"/>
                  <a:ext cx="451656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58840" y="1268280"/>
                <a:ext cx="20671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216080" y="5734080"/>
                <a:ext cx="1833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106640" y="3405240"/>
                <a:ext cx="2681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4232160" y="836640"/>
            <a:ext cx="4911840" cy="6021360"/>
            <a:chOff x="4232160" y="836640"/>
            <a:chExt cx="4911840" cy="602136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4232160" y="836640"/>
                  <a:ext cx="4911840" cy="17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4363920" y="5070600"/>
                  <a:ext cx="4780080" cy="17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284720" y="2637000"/>
                  <a:ext cx="4614840" cy="23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3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182600" y="404640"/>
                <a:ext cx="23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98440" y="5084640"/>
                <a:ext cx="25005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211400" y="1773360"/>
                <a:ext cx="2701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197000" y="3429000"/>
                <a:ext cx="1874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,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3635280" y="836640"/>
            <a:ext cx="5508720" cy="6021360"/>
            <a:chOff x="3635280" y="836640"/>
            <a:chExt cx="5508720" cy="6021360"/>
          </a:xfrm>
        </p:grpSpPr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708360" y="836640"/>
                  <a:ext cx="52419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3672000" y="5832360"/>
                  <a:ext cx="54720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672000" y="2276640"/>
                  <a:ext cx="54720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3635280" y="3645000"/>
                  <a:ext cx="46818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π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π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216080" y="620640"/>
                <a:ext cx="153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38320" y="2852640"/>
                <a:ext cx="24778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116000" y="5589720"/>
                <a:ext cx="216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152960" y="333360"/>
            <a:ext cx="4991040" cy="6524640"/>
            <a:chOff x="4152960" y="333360"/>
            <a:chExt cx="4991040" cy="652464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4356000" y="333360"/>
                  <a:ext cx="408780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4265640" y="2205000"/>
                  <a:ext cx="4878360" cy="23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4152960" y="5133960"/>
                  <a:ext cx="471492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866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imaginárního; Argument komplexního čísla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imaginárn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neleží na souřadných osác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2781360"/>
                <a:ext cx="237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372360" y="3860640"/>
                <a:ext cx="231120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flipH="1">
            <a:off x="2122560" y="2684520"/>
            <a:ext cx="1728720" cy="26654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58920" y="1677960"/>
            <a:ext cx="4084200" cy="5040000"/>
            <a:chOff x="1258920" y="1677960"/>
            <a:chExt cx="4084200" cy="5040000"/>
          </a:xfrm>
        </p:grpSpPr>
        <p:sp>
          <p:nvSpPr>
            <p:cNvPr id="148" name=""/>
            <p:cNvSpPr/>
            <p:nvPr/>
          </p:nvSpPr>
          <p:spPr>
            <a:xfrm flipV="1">
              <a:off x="1258920" y="5349240"/>
              <a:ext cx="403200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122560" y="1893600"/>
              <a:ext cx="0" cy="482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5640" y="16779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05440" y="5349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2000" y="5351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3777840" y="2612880"/>
            <a:ext cx="144720" cy="142920"/>
            <a:chOff x="3777840" y="2612880"/>
            <a:chExt cx="144720" cy="142920"/>
          </a:xfrm>
        </p:grpSpPr>
        <p:sp>
          <p:nvSpPr>
            <p:cNvPr id="154" name="Line 64"/>
            <p:cNvSpPr/>
            <p:nvPr/>
          </p:nvSpPr>
          <p:spPr>
            <a:xfrm>
              <a:off x="377820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 flipH="1">
              <a:off x="377784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07840" y="1989000"/>
            <a:ext cx="137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2684520"/>
            <a:ext cx="0" cy="2736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560" y="2684520"/>
            <a:ext cx="180036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5360" y="53499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29000" y="2397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22560" y="268452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8720" y="333216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915640" y="4629960"/>
            <a:ext cx="142560" cy="17287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993480" y="2684520"/>
            <a:ext cx="144360" cy="266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60120" y="5445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840" y="37180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981000"/>
                <a:ext cx="4794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3203640" y="981000"/>
            <a:ext cx="431640" cy="576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836">
                <a:moveTo>
                  <a:pt x="3600" y="0"/>
                </a:moveTo>
                <a:arcTo wR="3600" hR="3600" stAng="16200000" swAng="-5400000"/>
                <a:lnTo>
                  <a:pt x="0" y="25236"/>
                </a:lnTo>
                <a:arcTo wR="3600" hR="3600" stAng="10800000" swAng="-5400000"/>
                <a:lnTo>
                  <a:pt x="18000" y="28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5351400"/>
            <a:ext cx="3168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24000" y="1700280"/>
            <a:ext cx="2374920" cy="3673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199400"/>
            <a:ext cx="2304720" cy="227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6" y="1771"/>
                </a:moveTo>
                <a:arcTo wR="10800" hR="10800" stAng="-3403182" swAng="3403182"/>
                <a:lnTo>
                  <a:pt x="10800" y="10800"/>
                </a:lnTo>
                <a:close/>
              </a:path>
              <a:path fill="none" w="21600" h="21600">
                <a:moveTo>
                  <a:pt x="16726" y="1771"/>
                </a:moveTo>
                <a:arcTo wR="10800" hR="10800" stAng="-3403182" swAng="3403182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3400" y="46944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981000"/>
            <a:ext cx="287280" cy="576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308">
                <a:moveTo>
                  <a:pt x="3600" y="0"/>
                </a:moveTo>
                <a:arcTo wR="3600" hR="3600" stAng="16200000" swAng="-5400000"/>
                <a:lnTo>
                  <a:pt x="0" y="39708"/>
                </a:lnTo>
                <a:arcTo wR="3600" hR="3600" stAng="10800000" swAng="-5400000"/>
                <a:lnTo>
                  <a:pt x="18000" y="433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98100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24000" y="270828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1846440"/>
          <a:ext cx="7777440" cy="718920"/>
        </p:xfrm>
        <a:graphic>
          <a:graphicData uri="http://schemas.openxmlformats.org/drawingml/2006/table">
            <a:tbl>
              <a:tblPr/>
              <a:tblGrid>
                <a:gridCol w="1511640"/>
                <a:gridCol w="1081080"/>
                <a:gridCol w="1296720"/>
                <a:gridCol w="1295640"/>
                <a:gridCol w="1288800"/>
                <a:gridCol w="130356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´</a:t>
                      </a:r>
                      <a:r>
                        <a:rPr b="0" i="1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 (stupně)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1827360"/>
                <a:ext cx="261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973840" y="1817640"/>
                <a:ext cx="261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267680" y="1827360"/>
                <a:ext cx="261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564400" y="1817640"/>
                <a:ext cx="2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187280" y="2565360"/>
          <a:ext cx="7772400" cy="792000"/>
        </p:xfrm>
        <a:graphic>
          <a:graphicData uri="http://schemas.openxmlformats.org/drawingml/2006/table">
            <a:tbl>
              <a:tblPr/>
              <a:tblGrid>
                <a:gridCol w="1511640"/>
                <a:gridCol w="1079280"/>
                <a:gridCol w="1295280"/>
                <a:gridCol w="1295640"/>
                <a:gridCol w="1295280"/>
                <a:gridCol w="12952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sin</a:t>
                      </a: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x´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244000" y="2709720"/>
                <a:ext cx="269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59280" y="2781360"/>
                <a:ext cx="28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435640" y="2565360"/>
                <a:ext cx="495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04000" y="2565360"/>
                <a:ext cx="4762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84720" y="2565360"/>
                <a:ext cx="296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16000" y="3357720"/>
            <a:ext cx="8028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V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2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Hodnoty goniometrické funkce sinu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2. ročník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57340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ostatní úhly určíte pomocí kalkulátor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98100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88000" indent="-28800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tabulkové hodnoty“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1989000"/>
                <a:ext cx="282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2" name=""/>
          <p:cNvGrpSpPr/>
          <p:nvPr/>
        </p:nvGrpSpPr>
        <p:grpSpPr>
          <a:xfrm>
            <a:off x="6157800" y="3502080"/>
            <a:ext cx="1845720" cy="1972440"/>
            <a:chOff x="6157800" y="3502080"/>
            <a:chExt cx="1845720" cy="1972440"/>
          </a:xfrm>
        </p:grpSpPr>
        <p:sp>
          <p:nvSpPr>
            <p:cNvPr id="193" name=""/>
            <p:cNvSpPr/>
            <p:nvPr/>
          </p:nvSpPr>
          <p:spPr>
            <a:xfrm>
              <a:off x="6516360" y="3935520"/>
              <a:ext cx="1150560" cy="1152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2720" y="3935520"/>
              <a:ext cx="0" cy="1150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16360" y="4511520"/>
              <a:ext cx="1150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416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252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0964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6180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980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7052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780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5440" y="5014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20920" y="450864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356000" y="4292640"/>
            <a:ext cx="47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4869000"/>
            <a:ext cx="358920" cy="431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972">
                <a:moveTo>
                  <a:pt x="3600" y="0"/>
                </a:moveTo>
                <a:arcTo wR="3600" hR="3600" stAng="16200000" swAng="-5400000"/>
                <a:lnTo>
                  <a:pt x="0" y="22372"/>
                </a:lnTo>
                <a:arcTo wR="3600" hR="3600" stAng="10800000" swAng="-5400000"/>
                <a:lnTo>
                  <a:pt x="18000" y="25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4869000"/>
            <a:ext cx="1619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4437000"/>
            <a:ext cx="576360" cy="1152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720"/>
              <a:gd name="textAreaBottom" fmla="*/ 1124640 h 1152720"/>
            </a:gdLst>
            <a:ahLst/>
            <a:rect l="textAreaLeft" t="textAreaTop" r="textAreaRight" b="textAreaBottom"/>
            <a:pathLst>
              <a:path w="21600" h="43187">
                <a:moveTo>
                  <a:pt x="3600" y="0"/>
                </a:moveTo>
                <a:arcTo wR="3600" hR="3600" stAng="16200000" swAng="-5400000"/>
                <a:lnTo>
                  <a:pt x="0" y="39587"/>
                </a:lnTo>
                <a:arcTo wR="3600" hR="3600" stAng="10800000" swAng="-5400000"/>
                <a:lnTo>
                  <a:pt x="18000" y="43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229360"/>
            <a:ext cx="6476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42920" y="907920"/>
                <a:ext cx="1943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156360" y="2565360"/>
                <a:ext cx="259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25360" y="2637000"/>
                <a:ext cx="2357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03280" y="3429000"/>
                <a:ext cx="2075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763640" y="5661000"/>
                <a:ext cx="34228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564000" y="2565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249228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3141720"/>
            <a:ext cx="0" cy="12222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219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835280" y="1341360"/>
                <a:ext cx="7308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06" idx="2"/>
            <a:endCxn id="205" idx="1"/>
          </p:cNvCxnSpPr>
          <p:nvPr/>
        </p:nvCxnSpPr>
        <p:spPr>
          <a:xfrm flipH="1" flipV="1" rot="5400000">
            <a:off x="3285720" y="424512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88040" y="2492280"/>
                <a:ext cx="23115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03280" y="335772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78200" y="1528920"/>
                <a:ext cx="3241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643280" y="263700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140360" y="2565360"/>
            <a:ext cx="1079280" cy="1079280"/>
            <a:chOff x="4140360" y="2565360"/>
            <a:chExt cx="1079280" cy="1079280"/>
          </a:xfrm>
        </p:grpSpPr>
        <p:sp>
          <p:nvSpPr>
            <p:cNvPr id="229" name=""/>
            <p:cNvSpPr/>
            <p:nvPr/>
          </p:nvSpPr>
          <p:spPr>
            <a:xfrm flipV="1">
              <a:off x="4643280" y="256536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0360" y="314136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042920" y="333360"/>
                <a:ext cx="2367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88000" y="2421000"/>
                <a:ext cx="2338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20920" y="3284640"/>
                <a:ext cx="2367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741320" y="5626080"/>
                <a:ext cx="2948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780000" y="2421000"/>
            <a:ext cx="2604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141720"/>
            <a:ext cx="0" cy="1081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887480" y="907920"/>
                <a:ext cx="725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43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349360"/>
                <a:ext cx="26830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620040" y="2349360"/>
                <a:ext cx="2311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76360" y="328464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5157720"/>
            <a:ext cx="576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8000" y="1052640"/>
                <a:ext cx="3241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4643280" y="278136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55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42920" y="26028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540480" y="2276640"/>
                <a:ext cx="2433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03280" y="3284640"/>
                <a:ext cx="20750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781280" y="5661000"/>
                <a:ext cx="291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3995640" y="2276640"/>
            <a:ext cx="2605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292428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951200" y="907920"/>
                <a:ext cx="7192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67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2276640"/>
                <a:ext cx="2970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4797360"/>
            <a:ext cx="358920" cy="432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994">
                <a:moveTo>
                  <a:pt x="3600" y="0"/>
                </a:moveTo>
                <a:arcTo wR="3600" hR="3600" stAng="16200000" swAng="-5400000"/>
                <a:lnTo>
                  <a:pt x="0" y="22394"/>
                </a:lnTo>
                <a:arcTo wR="3600" hR="3600" stAng="10800000" swAng="-5400000"/>
                <a:lnTo>
                  <a:pt x="18000" y="2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2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4140360" y="227664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78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140360" y="278136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4797360"/>
            <a:ext cx="161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042920" y="260280"/>
                <a:ext cx="213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372360" y="2349360"/>
                <a:ext cx="2590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68560" y="2422440"/>
                <a:ext cx="2355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76360" y="3213000"/>
                <a:ext cx="20750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711440" y="5661000"/>
                <a:ext cx="29844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618000" y="2349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2924280"/>
            <a:ext cx="0" cy="12967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835280" y="974880"/>
                <a:ext cx="730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5866920" y="4292640"/>
            <a:ext cx="576720" cy="503280"/>
            <a:chOff x="5866920" y="4292640"/>
            <a:chExt cx="576720" cy="503280"/>
          </a:xfrm>
        </p:grpSpPr>
        <p:sp>
          <p:nvSpPr>
            <p:cNvPr id="294" name=""/>
            <p:cNvSpPr/>
            <p:nvPr/>
          </p:nvSpPr>
          <p:spPr>
            <a:xfrm>
              <a:off x="586728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86692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grpSp>
        <p:nvGrpSpPr>
          <p:cNvPr id="300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301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04Z</dcterms:modified>
  <cp:revision>299</cp:revision>
  <dc:subject/>
  <dc:title>KČ</dc:title>
</cp:coreProperties>
</file>