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E15A-1287-4196-B998-6BECB4BF8E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2BC6-946D-4E20-9210-A58D6260470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7EBE-0AD2-45EB-93D9-10909E107A0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9D41-5496-442A-B1DA-8F4BA092AD8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89F2-72F9-4EC8-ACA0-58B6D0F1C01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72B-3028-41C1-B3D1-F816AB3C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D2E-B5FF-48DE-8217-912592BB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BC9A-613A-4AF2-9503-FCB59E33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7FC-C41B-4BE3-BED1-82D758DF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E425-3FA0-4E88-8605-1D738B39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D983-6B9C-40C3-A227-CA3A1C72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2825-BF52-473D-B6C9-B94E3CE4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D50E-7946-4035-A8F7-5FCFC9DB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D2A8-90A1-4E35-B3CF-2AE30274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CAA0-2CFF-4263-9A68-CEDFD2AD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C6C2-61AD-4868-B10C-8D2D24E1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E44-A260-4E8C-A1E3-076E66B8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CFB1-C214-416A-B95F-FF6A4725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FC6A-4DEA-446D-9EBD-493F1898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815B-7F12-4641-88E3-D7F2F4FC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19B8-DDDB-4B13-A6D7-153F29C8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944C-F991-48FD-89FE-0EA66AD0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C04-D45F-4CFA-BCAC-D1779CB1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C92-5AAE-4065-983A-30207FBF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494-363D-49F7-862C-5D8748E1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9E8-B622-49A5-B36A-89B70AC5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FFE-9967-45ED-8B8D-2869B432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932-71C5-4098-90A8-C1711DAD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61C-32A3-4358-A3A0-52DA84F5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2240-039F-456E-8681-1359185E6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B61A-9C7B-4030-BA52-41181EEFA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16000" y="260280"/>
            <a:ext cx="8028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20000"/>
              </a:lnSpc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pište dané KČ pomocí hodnoty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ákladního argument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162080" y="1989000"/>
                <a:ext cx="5603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44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44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7" name=""/>
          <p:cNvGrpSpPr/>
          <p:nvPr/>
        </p:nvGrpSpPr>
        <p:grpSpPr>
          <a:xfrm>
            <a:off x="1258920" y="4005360"/>
            <a:ext cx="7885080" cy="721440"/>
            <a:chOff x="1258920" y="4005360"/>
            <a:chExt cx="7885080" cy="721440"/>
          </a:xfrm>
        </p:grpSpPr>
        <p:sp>
          <p:nvSpPr>
            <p:cNvPr id="238" name=""/>
            <p:cNvSpPr/>
            <p:nvPr/>
          </p:nvSpPr>
          <p:spPr>
            <a:xfrm>
              <a:off x="1258920" y="4005360"/>
              <a:ext cx="7885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94160" y="4078440"/>
              <a:ext cx="5104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„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1 440 : 360 = 4 – 4 = 0 . 360 = 0“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908000" y="2997360"/>
                <a:ext cx="346716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580000" y="1989000"/>
            <a:ext cx="1081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19640" y="1989000"/>
            <a:ext cx="1081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08720" y="191628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3635280" y="3428640"/>
            <a:ext cx="2665440" cy="863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932000" y="3428640"/>
            <a:ext cx="1368360" cy="863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87280" y="333360"/>
                <a:ext cx="55375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 90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 90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1258920" y="2062080"/>
            <a:ext cx="7885080" cy="719640"/>
            <a:chOff x="1258920" y="2062080"/>
            <a:chExt cx="7885080" cy="719640"/>
          </a:xfrm>
        </p:grpSpPr>
        <p:sp>
          <p:nvSpPr>
            <p:cNvPr id="248" name=""/>
            <p:cNvSpPr/>
            <p:nvPr/>
          </p:nvSpPr>
          <p:spPr>
            <a:xfrm>
              <a:off x="1258920" y="2062080"/>
              <a:ext cx="7885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19280" y="2133360"/>
              <a:ext cx="59468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„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900 : 360 = 2,5 – 2 = 0,5 . 360 = 180“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50920" y="1125360"/>
                <a:ext cx="446724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7308720" y="33336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187280" y="3573360"/>
                <a:ext cx="530100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 38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 38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1258920" y="5877000"/>
            <a:ext cx="7885080" cy="721440"/>
            <a:chOff x="1258920" y="5877000"/>
            <a:chExt cx="7885080" cy="721440"/>
          </a:xfrm>
        </p:grpSpPr>
        <p:sp>
          <p:nvSpPr>
            <p:cNvPr id="254" name=""/>
            <p:cNvSpPr/>
            <p:nvPr/>
          </p:nvSpPr>
          <p:spPr>
            <a:xfrm>
              <a:off x="1258920" y="5877000"/>
              <a:ext cx="7885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76360" y="5950080"/>
              <a:ext cx="70182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„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380 : 360 = 1,0556 – 1 = 0,0556 . 360 = 20“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979640" y="4581360"/>
                <a:ext cx="393372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724360" y="404640"/>
            <a:ext cx="863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404640"/>
            <a:ext cx="86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08720" y="371628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08720" y="3787920"/>
            <a:ext cx="792000" cy="50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4000" y="3787920"/>
            <a:ext cx="790560" cy="50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4427640" y="1628640"/>
            <a:ext cx="223200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5866920" y="1628640"/>
            <a:ext cx="79236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3995640" y="5229000"/>
            <a:ext cx="3672000" cy="936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5508360" y="5229000"/>
            <a:ext cx="2158920" cy="936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116000" y="404640"/>
                <a:ext cx="5637240" cy="12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8000" y="1844640"/>
                <a:ext cx="44564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547640" y="5156280"/>
                <a:ext cx="23464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851280" y="476280"/>
            <a:ext cx="792000" cy="10810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081080"/>
              <a:gd name="textAreaBottom" fmla="*/ 1042560 h 1081080"/>
            </a:gdLst>
            <a:ahLst/>
            <a:rect l="textAreaLeft" t="textAreaTop" r="textAreaRight" b="textAreaBottom"/>
            <a:pathLst>
              <a:path w="21600" h="29480">
                <a:moveTo>
                  <a:pt x="3600" y="0"/>
                </a:moveTo>
                <a:arcTo wR="3600" hR="3600" stAng="16200000" swAng="-5400000"/>
                <a:lnTo>
                  <a:pt x="0" y="25880"/>
                </a:lnTo>
                <a:arcTo wR="3600" hR="3600" stAng="10800000" swAng="-5400000"/>
                <a:lnTo>
                  <a:pt x="18000" y="294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76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24360" y="476280"/>
            <a:ext cx="792360" cy="108108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081080"/>
              <a:gd name="textAreaBottom" fmla="*/ 1042560 h 1081080"/>
            </a:gdLst>
            <a:ahLst/>
            <a:rect l="textAreaLeft" t="textAreaTop" r="textAreaRight" b="textAreaBottom"/>
            <a:pathLst>
              <a:path w="21600" h="29467">
                <a:moveTo>
                  <a:pt x="3600" y="0"/>
                </a:moveTo>
                <a:arcTo wR="3600" hR="3600" stAng="16200000" swAng="-5400000"/>
                <a:lnTo>
                  <a:pt x="0" y="25867"/>
                </a:lnTo>
                <a:arcTo wR="3600" hR="3600" stAng="10800000" swAng="-5400000"/>
                <a:lnTo>
                  <a:pt x="18000" y="294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58920" y="3645000"/>
            <a:ext cx="7885080" cy="1015920"/>
            <a:chOff x="1258920" y="3645000"/>
            <a:chExt cx="7885080" cy="101592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1563840" y="3789360"/>
                  <a:ext cx="731016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násobky jsou:  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t xml:space="preserve">8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1258920" y="3645000"/>
              <a:ext cx="788508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020000" y="3716280"/>
            <a:ext cx="718920" cy="936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936720"/>
              <a:gd name="textAreaBottom" fmla="*/ 901800 h 936720"/>
            </a:gdLst>
            <a:ahLst/>
            <a:rect l="textAreaLeft" t="textAreaTop" r="textAreaRight" b="textAreaBottom"/>
            <a:pathLst>
              <a:path w="21600" h="28141">
                <a:moveTo>
                  <a:pt x="3600" y="0"/>
                </a:moveTo>
                <a:arcTo wR="3600" hR="3600" stAng="16200000" swAng="-5400000"/>
                <a:lnTo>
                  <a:pt x="0" y="24541"/>
                </a:lnTo>
                <a:arcTo wR="3600" hR="3600" stAng="10800000" swAng="-5400000"/>
                <a:lnTo>
                  <a:pt x="18000" y="281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51280" y="2997000"/>
            <a:ext cx="28908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851280" y="2997000"/>
            <a:ext cx="187308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187280" y="476280"/>
                <a:ext cx="44895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1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8000" y="1844640"/>
                <a:ext cx="330840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604880" y="4941720"/>
                <a:ext cx="2374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81" name=""/>
          <p:cNvGrpSpPr/>
          <p:nvPr/>
        </p:nvGrpSpPr>
        <p:grpSpPr>
          <a:xfrm>
            <a:off x="1258920" y="3645000"/>
            <a:ext cx="7885080" cy="942840"/>
            <a:chOff x="1258920" y="3645000"/>
            <a:chExt cx="7885080" cy="94284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1619280" y="3716280"/>
                  <a:ext cx="55260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násobky jsou: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1258920" y="3645000"/>
              <a:ext cx="788508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987640" y="404640"/>
            <a:ext cx="720720" cy="11527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152720"/>
              <a:gd name="textAreaBottom" fmla="*/ 1117800 h 1152720"/>
            </a:gdLst>
            <a:ahLst/>
            <a:rect l="textAreaLeft" t="textAreaTop" r="textAreaRight" b="textAreaBottom"/>
            <a:pathLst>
              <a:path w="21600" h="34541">
                <a:moveTo>
                  <a:pt x="3600" y="0"/>
                </a:moveTo>
                <a:arcTo wR="3600" hR="3600" stAng="16200000" swAng="-5400000"/>
                <a:lnTo>
                  <a:pt x="0" y="30941"/>
                </a:lnTo>
                <a:arcTo wR="3600" hR="3600" stAng="10800000" swAng="-5400000"/>
                <a:lnTo>
                  <a:pt x="18000" y="34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48360" y="692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4640"/>
            <a:ext cx="792360" cy="115272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152720"/>
              <a:gd name="textAreaBottom" fmla="*/ 1114200 h 1152720"/>
            </a:gdLst>
            <a:ahLst/>
            <a:rect l="textAreaLeft" t="textAreaTop" r="textAreaRight" b="textAreaBottom"/>
            <a:pathLst>
              <a:path w="21600" h="31419">
                <a:moveTo>
                  <a:pt x="3600" y="0"/>
                </a:moveTo>
                <a:arcTo wR="3600" hR="3600" stAng="16200000" swAng="-5400000"/>
                <a:lnTo>
                  <a:pt x="0" y="27819"/>
                </a:lnTo>
                <a:arcTo wR="3600" hR="3600" stAng="10800000" swAng="-5400000"/>
                <a:lnTo>
                  <a:pt x="18000" y="31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92720" y="3716280"/>
            <a:ext cx="574560" cy="93672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936720"/>
              <a:gd name="textAreaBottom" fmla="*/ 909000 h 936720"/>
            </a:gdLst>
            <a:ahLst/>
            <a:rect l="textAreaLeft" t="textAreaTop" r="textAreaRight" b="textAreaBottom"/>
            <a:pathLst>
              <a:path w="21600" h="35207">
                <a:moveTo>
                  <a:pt x="3600" y="0"/>
                </a:moveTo>
                <a:arcTo wR="3600" hR="3600" stAng="16200000" swAng="-5400000"/>
                <a:lnTo>
                  <a:pt x="0" y="31607"/>
                </a:lnTo>
                <a:arcTo wR="3600" hR="3600" stAng="10800000" swAng="-5400000"/>
                <a:lnTo>
                  <a:pt x="18000" y="352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3276360" y="2781000"/>
            <a:ext cx="43164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708360" y="2781000"/>
            <a:ext cx="107964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235160" y="693720"/>
                <a:ext cx="5400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7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7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144880" y="1773360"/>
                <a:ext cx="3983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692360" y="4348080"/>
                <a:ext cx="1760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3" name=""/>
          <p:cNvGrpSpPr/>
          <p:nvPr/>
        </p:nvGrpSpPr>
        <p:grpSpPr>
          <a:xfrm>
            <a:off x="1258920" y="3268800"/>
            <a:ext cx="7885080" cy="750600"/>
            <a:chOff x="1258920" y="3268800"/>
            <a:chExt cx="7885080" cy="750600"/>
          </a:xfrm>
        </p:grpSpPr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1706400" y="3556080"/>
                  <a:ext cx="450720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rPr>
                          <m:lit/>
                          <m:nor/>
                        </m:rPr>
                        <m:t xml:space="preserve">,  násobky jsou: </m:t>
                      </m:r>
                      <m:r>
                        <m:t xml:space="preserve">4</m:t>
                      </m:r>
                      <m:r>
                        <m:t xml:space="preserve">π</m:t>
                      </m:r>
                      <m:r>
                        <m:t xml:space="preserve">;</m:t>
                      </m:r>
                      <m:r>
                        <m:t xml:space="preserve">6</m:t>
                      </m:r>
                      <m:r>
                        <m:t xml:space="preserve">π</m:t>
                      </m:r>
                      <m:r>
                        <m:t xml:space="preserve">;</m:t>
                      </m:r>
                      <m:r>
                        <m:t xml:space="preserve">8</m:t>
                      </m:r>
                      <m:r>
                        <m:t xml:space="preserve">π</m:t>
                      </m:r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5" name=""/>
            <p:cNvSpPr/>
            <p:nvPr/>
          </p:nvSpPr>
          <p:spPr>
            <a:xfrm>
              <a:off x="1258920" y="3268800"/>
              <a:ext cx="788508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067280" y="76500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4360" y="765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96000" y="76500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59280" y="3573360"/>
            <a:ext cx="504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419640" y="2349360"/>
            <a:ext cx="865080" cy="19432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419640" y="2349360"/>
            <a:ext cx="2232000" cy="19432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187280" y="549360"/>
                <a:ext cx="60073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,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64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64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187280" y="2637000"/>
                <a:ext cx="4454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4" name=""/>
          <p:cNvGrpSpPr/>
          <p:nvPr/>
        </p:nvGrpSpPr>
        <p:grpSpPr>
          <a:xfrm>
            <a:off x="3851280" y="1197000"/>
            <a:ext cx="5292720" cy="5262480"/>
            <a:chOff x="3851280" y="1197000"/>
            <a:chExt cx="5292720" cy="526248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924360" y="1197000"/>
                  <a:ext cx="493704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,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3984480" y="5302080"/>
                  <a:ext cx="5159520" cy="11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15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15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3851280" y="3284640"/>
                  <a:ext cx="364176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°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187280" y="4365720"/>
                <a:ext cx="61423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39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395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116000" y="549360"/>
                <a:ext cx="5365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085760" y="2384280"/>
                <a:ext cx="4657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1" name=""/>
          <p:cNvGrpSpPr/>
          <p:nvPr/>
        </p:nvGrpSpPr>
        <p:grpSpPr>
          <a:xfrm>
            <a:off x="4284720" y="1197000"/>
            <a:ext cx="4859280" cy="5111640"/>
            <a:chOff x="4284720" y="1197000"/>
            <a:chExt cx="4859280" cy="5111640"/>
          </a:xfrm>
        </p:grpSpPr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4284720" y="1197000"/>
                  <a:ext cx="43066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4289400" y="5661000"/>
                  <a:ext cx="48546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4311720" y="3284640"/>
                  <a:ext cx="48322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116000" y="4869000"/>
                <a:ext cx="56689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8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87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116000" y="260280"/>
                <a:ext cx="445464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042920" y="2565360"/>
                <a:ext cx="56023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8" name=""/>
          <p:cNvGrpSpPr/>
          <p:nvPr/>
        </p:nvGrpSpPr>
        <p:grpSpPr>
          <a:xfrm>
            <a:off x="4416480" y="1197000"/>
            <a:ext cx="4727520" cy="5256360"/>
            <a:chOff x="4416480" y="1197000"/>
            <a:chExt cx="4727520" cy="5256360"/>
          </a:xfrm>
        </p:grpSpPr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4427640" y="1197000"/>
                  <a:ext cx="3186000" cy="10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500720" y="5805360"/>
                  <a:ext cx="40050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416480" y="3645000"/>
                  <a:ext cx="4727520" cy="11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116000" y="5084640"/>
                <a:ext cx="522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8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8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116000" y="404640"/>
                <a:ext cx="52642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116000" y="1916280"/>
                <a:ext cx="570384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5" name=""/>
          <p:cNvGrpSpPr/>
          <p:nvPr/>
        </p:nvGrpSpPr>
        <p:grpSpPr>
          <a:xfrm>
            <a:off x="4356000" y="1054080"/>
            <a:ext cx="4788000" cy="5803920"/>
            <a:chOff x="4356000" y="1054080"/>
            <a:chExt cx="4788000" cy="5803920"/>
          </a:xfrm>
        </p:grpSpPr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4356000" y="1054080"/>
                  <a:ext cx="40258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π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π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427640" y="5699160"/>
                  <a:ext cx="4481280" cy="11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4381560" y="2997360"/>
                  <a:ext cx="476244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16000" y="4581360"/>
                <a:ext cx="519588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403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gumen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ou teoretickou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ást, ale také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gument a základní argument komplexního čísla; Orientovaný úhel; Stupňová a oblouková mír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Argument KČ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404640"/>
            <a:ext cx="7845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rientovaný úhe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1268280"/>
            <a:ext cx="8101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2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ředstavuje v rovině uspořádanou dvojici polopřímek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1339920" indent="-5335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spořádanou dvojici polopřímek chápeme tak, že jedna z nich j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976400" indent="-45720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nazýváme j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čátečním ramene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orientovaného úhlu, a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976400" indent="-45720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ruhou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nazýváme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koncovým ramene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orientovaného úhl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36840" y="3141720"/>
            <a:ext cx="1379520" cy="210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465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3240" y="439272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619280" y="2205000"/>
            <a:ext cx="4613400" cy="4464000"/>
            <a:chOff x="1619280" y="2205000"/>
            <a:chExt cx="4613400" cy="4464000"/>
          </a:xfrm>
        </p:grpSpPr>
        <p:sp>
          <p:nvSpPr>
            <p:cNvPr id="148" name=""/>
            <p:cNvSpPr/>
            <p:nvPr/>
          </p:nvSpPr>
          <p:spPr>
            <a:xfrm>
              <a:off x="1619280" y="5229360"/>
              <a:ext cx="45259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348000" y="2421000"/>
              <a:ext cx="0" cy="42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9440" y="2205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70520" y="51354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7800" y="522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348000" y="5229360"/>
            <a:ext cx="280836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4" name="Skupina 110"/>
          <p:cNvGrpSpPr/>
          <p:nvPr/>
        </p:nvGrpSpPr>
        <p:grpSpPr>
          <a:xfrm>
            <a:off x="4932360" y="4076640"/>
            <a:ext cx="358920" cy="358920"/>
            <a:chOff x="4932360" y="4076640"/>
            <a:chExt cx="358920" cy="358920"/>
          </a:xfrm>
        </p:grpSpPr>
        <p:sp>
          <p:nvSpPr>
            <p:cNvPr id="155" name="Elipsa 109"/>
            <p:cNvSpPr/>
            <p:nvPr/>
          </p:nvSpPr>
          <p:spPr>
            <a:xfrm>
              <a:off x="4932360" y="4076640"/>
              <a:ext cx="358920" cy="358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33"/>
            <p:cNvSpPr/>
            <p:nvPr/>
          </p:nvSpPr>
          <p:spPr>
            <a:xfrm>
              <a:off x="5022000" y="4255920"/>
              <a:ext cx="18144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34"/>
            <p:cNvSpPr/>
            <p:nvPr/>
          </p:nvSpPr>
          <p:spPr>
            <a:xfrm flipV="1">
              <a:off x="5112000" y="4166280"/>
              <a:ext cx="0" cy="17928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rot="20847600">
            <a:off x="4194360" y="367308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2040" y="5661000"/>
            <a:ext cx="560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ff66ff"/>
                </a:solidFill>
                <a:uFillTx/>
                <a:latin typeface="Times New Roman"/>
              </a:rPr>
              <a:t>počáteční rameno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orientovaného úhl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!!!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vždy kladná část souřadné osy 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60560" y="2637000"/>
            <a:ext cx="53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koncové rameno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orientovaného úhl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69080" y="47959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6ff33"/>
                </a:solidFill>
                <a:latin typeface="Times New Roman"/>
              </a:rPr>
              <a:t>vrcho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76360" y="5156280"/>
            <a:ext cx="144720" cy="142920"/>
            <a:chOff x="3276360" y="5156280"/>
            <a:chExt cx="144720" cy="142920"/>
          </a:xfrm>
        </p:grpSpPr>
        <p:sp>
          <p:nvSpPr>
            <p:cNvPr id="163" name=""/>
            <p:cNvSpPr/>
            <p:nvPr/>
          </p:nvSpPr>
          <p:spPr>
            <a:xfrm>
              <a:off x="3276720" y="515628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6360" y="515628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42920" y="333360"/>
            <a:ext cx="7845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elikost orientovaného úhlu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1197000"/>
            <a:ext cx="8101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vádíme v míř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436760" indent="-53352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stupňov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dnotka je 1 stupeň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úhel nejčastěji označen 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β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</a:t>
            </a:r>
            <a:r>
              <a:rPr b="0" i="1" lang="el-GR" sz="2800" spc="-1" strike="noStrike">
                <a:solidFill>
                  <a:srgbClr val="dddddd"/>
                </a:solidFill>
                <a:latin typeface="Symbol"/>
                <a:ea typeface="Symbol"/>
              </a:rPr>
              <a:t>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rigonometrie pravoúhlého trojúhelní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436760" indent="-53352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AutoNum type="alphaLcParenR" startAt="2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bloukov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dnotka 1 radiá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úhel nejčastěji označen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oniometrické funkce obecného úhl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16000" y="333360"/>
            <a:ext cx="80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ákladní argument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1341360"/>
            <a:ext cx="7848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10040" indent="-41004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elikost každého orientovaného úhlu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ze vyjádřit pomocí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základní velikost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úhlu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77760" indent="-4039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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360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 stupňovou míru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77760" indent="-4039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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2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 obloukovou míru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10040" indent="-41004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 pro každé celé číslo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19280" y="5373720"/>
                <a:ext cx="56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π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42920" y="189000"/>
            <a:ext cx="81010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172e"/>
                </a:solidFill>
                <a:latin typeface="Symbol"/>
                <a:ea typeface="Symbol"/>
              </a:rPr>
              <a:t></a:t>
            </a:r>
            <a:r>
              <a:rPr b="1" lang="cs-CZ" sz="40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~</a:t>
            </a:r>
            <a:r>
              <a:rPr b="1" lang="cs-CZ" sz="40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172e"/>
                </a:solidFill>
                <a:latin typeface="Symbol"/>
                <a:ea typeface="Symbol"/>
              </a:rPr>
              <a:t></a:t>
            </a:r>
            <a:r>
              <a:rPr b="1" lang="cs-CZ" sz="4000" spc="-1" strike="noStrike" baseline="-25000">
                <a:solidFill>
                  <a:srgbClr val="00172e"/>
                </a:solidFill>
                <a:latin typeface="Times New Roman"/>
              </a:rPr>
              <a:t>Z</a:t>
            </a:r>
            <a:br>
              <a:rPr sz="4000"/>
            </a:br>
            <a:r>
              <a:rPr b="1" lang="cs-CZ" sz="2800" spc="-1" strike="noStrike">
                <a:solidFill>
                  <a:srgbClr val="00172e"/>
                </a:solidFill>
                <a:latin typeface="Times New Roman"/>
              </a:rPr>
              <a:t>k vyjádření KČ lze vždy použít základní argumen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5589720"/>
            <a:ext cx="6012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ice počátečního a koncového ramene obou úhlů je stejná: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~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1268280"/>
            <a:ext cx="8101080" cy="0"/>
          </a:xfrm>
          <a:prstGeom prst="line">
            <a:avLst/>
          </a:prstGeom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48000" y="3214800"/>
            <a:ext cx="75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α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  <a:ea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71640" y="838080"/>
            <a:ext cx="6340320" cy="5472000"/>
            <a:chOff x="971640" y="838080"/>
            <a:chExt cx="6340320" cy="5472000"/>
          </a:xfrm>
        </p:grpSpPr>
        <p:sp>
          <p:nvSpPr>
            <p:cNvPr id="175" name=""/>
            <p:cNvSpPr/>
            <p:nvPr/>
          </p:nvSpPr>
          <p:spPr>
            <a:xfrm>
              <a:off x="971640" y="3862440"/>
              <a:ext cx="6264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059280" y="1053720"/>
              <a:ext cx="1440" cy="5256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62160" y="83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49800" y="3789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88720" y="378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219640" y="335772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66ff"/>
                </a:solidFill>
                <a:latin typeface="Times New Roman"/>
              </a:rPr>
              <a:t>počáteční ramen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9440" y="83664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oncové ramen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7280" y="2494080"/>
            <a:ext cx="3024360" cy="29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337190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337190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060720" y="1269720"/>
            <a:ext cx="1727280" cy="260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17880" y="2996640"/>
            <a:ext cx="1901160" cy="181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7" y="1612"/>
                </a:moveTo>
                <a:arcTo wR="10800" hR="10800" stAng="-3497382" swAng="3301881"/>
                <a:lnTo>
                  <a:pt x="10800" y="10800"/>
                </a:lnTo>
                <a:close/>
              </a:path>
              <a:path fill="none" w="21600" h="21600">
                <a:moveTo>
                  <a:pt x="16477" y="1612"/>
                </a:moveTo>
                <a:arcTo wR="10800" hR="10800" stAng="-3497382" swAng="3301881"/>
              </a:path>
            </a:pathLst>
          </a:custGeom>
          <a:noFill/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2925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545480" y="2059560"/>
            <a:ext cx="3172680" cy="345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427361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427361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00760" y="1915200"/>
            <a:ext cx="3462480" cy="37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427361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427361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KČ vyjadřujeme vždy pomocí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Times New Roman"/>
              </a:rPr>
              <a:t>Z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60720" y="3862440"/>
            <a:ext cx="41752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0760" y="2349360"/>
            <a:ext cx="3317400" cy="331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427361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427361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57840" y="2206800"/>
            <a:ext cx="3605400" cy="359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27" y="1582"/>
                </a:moveTo>
                <a:arcTo wR="10800" hR="10800" stAng="-3515867" swAng="3333842"/>
                <a:lnTo>
                  <a:pt x="10800" y="10800"/>
                </a:lnTo>
                <a:close/>
              </a:path>
              <a:path fill="none" w="21600" h="21600">
                <a:moveTo>
                  <a:pt x="16427" y="1582"/>
                </a:moveTo>
                <a:arcTo wR="10800" hR="10800" stAng="-3515867" swAng="3333842"/>
              </a:path>
            </a:pathLst>
          </a:custGeom>
          <a:noFill/>
          <a:ln w="2844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71640" y="189000"/>
            <a:ext cx="7916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 360</a:t>
            </a:r>
            <a:r>
              <a:rPr b="0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125360"/>
            <a:ext cx="810108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7120" indent="-6271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5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1 50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~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 6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tože 1 50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= 6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4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6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 500 : 360 = 4,1667 – 4 = 0,1667 . 360 = 60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50000"/>
              </a:lnSpc>
              <a:spcBef>
                <a:spcPts val="2001"/>
              </a:spcBef>
              <a:buClr>
                <a:srgbClr val="dddddd"/>
              </a:buClr>
              <a:buSzPct val="80000"/>
              <a:buFont typeface="Times New Roman"/>
              <a:buAutoNum type="arabicParenR" startAt="2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2 04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~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 24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tože 2 04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= 24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5.36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 040 : 360 = 5,6667 – 5 = 0,6667 . 360 = 240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1052640"/>
            <a:ext cx="7777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076720" y="3213000"/>
            <a:ext cx="2735280" cy="432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635280" y="2565360"/>
            <a:ext cx="935280" cy="216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48360" y="5661000"/>
            <a:ext cx="2735280" cy="432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706560" y="5013360"/>
            <a:ext cx="934920" cy="216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71640" y="189000"/>
            <a:ext cx="7916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k 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311120" y="5805360"/>
                <a:ext cx="78328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 násobky jsou:  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042920" y="1052640"/>
            <a:ext cx="7777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42920" y="1125360"/>
            <a:ext cx="8101080" cy="1727280"/>
            <a:chOff x="1042920" y="1125360"/>
            <a:chExt cx="8101080" cy="1727280"/>
          </a:xfrm>
        </p:grpSpPr>
        <p:sp>
          <p:nvSpPr>
            <p:cNvPr id="203" name=""/>
            <p:cNvSpPr/>
            <p:nvPr/>
          </p:nvSpPr>
          <p:spPr>
            <a:xfrm>
              <a:off x="1042920" y="1125360"/>
              <a:ext cx="81010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27120" indent="-627120">
                <a:lnSpc>
                  <a:spcPct val="110000"/>
                </a:lnSpc>
                <a:spcBef>
                  <a:spcPts val="799"/>
                </a:spcBef>
                <a:tabLst>
                  <a:tab algn="l" pos="0"/>
                  <a:tab algn="l" pos="6719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například: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627120" indent="-627120">
                <a:lnSpc>
                  <a:spcPct val="150000"/>
                </a:lnSpc>
                <a:spcBef>
                  <a:spcPts val="799"/>
                </a:spcBef>
                <a:buClr>
                  <a:srgbClr val="dddddd"/>
                </a:buClr>
                <a:buSzPct val="80000"/>
                <a:buFont typeface="Times New Roman"/>
                <a:buAutoNum type="arabicParenR"/>
                <a:tabLst>
                  <a:tab algn="l" pos="6719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       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~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      ,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1692360" y="1773360"/>
                  <a:ext cx="75096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771640" y="1773360"/>
                  <a:ext cx="59400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600360" y="1844640"/>
                  <a:ext cx="552924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tože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8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1763640" y="2781360"/>
              <a:ext cx="1584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042920" y="4483080"/>
            <a:ext cx="8101080" cy="1177920"/>
            <a:chOff x="1042920" y="4483080"/>
            <a:chExt cx="8101080" cy="1177920"/>
          </a:xfrm>
        </p:grpSpPr>
        <p:sp>
          <p:nvSpPr>
            <p:cNvPr id="209" name=""/>
            <p:cNvSpPr/>
            <p:nvPr/>
          </p:nvSpPr>
          <p:spPr>
            <a:xfrm>
              <a:off x="1042920" y="4483080"/>
              <a:ext cx="81010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27120" indent="-627120">
                <a:lnSpc>
                  <a:spcPct val="150000"/>
                </a:lnSpc>
                <a:spcBef>
                  <a:spcPts val="2001"/>
                </a:spcBef>
                <a:buClr>
                  <a:srgbClr val="dddddd"/>
                </a:buClr>
                <a:buSzPct val="80000"/>
                <a:buFont typeface="Times New Roman"/>
                <a:buAutoNum type="arabicParenR" startAt="2"/>
                <a:tabLst>
                  <a:tab algn="l" pos="6719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~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 ,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692360" y="4554360"/>
                  <a:ext cx="75096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2843280" y="4554360"/>
                  <a:ext cx="59364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3622680" y="4627440"/>
                  <a:ext cx="552132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tože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"/>
            <p:cNvSpPr/>
            <p:nvPr/>
          </p:nvSpPr>
          <p:spPr>
            <a:xfrm>
              <a:off x="1692360" y="5589360"/>
              <a:ext cx="172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355760" y="3068640"/>
                <a:ext cx="77882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 násobky jsou:  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451640" y="2924280"/>
            <a:ext cx="649440" cy="936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9280" y="5661000"/>
            <a:ext cx="576360" cy="9367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8000" y="2276640"/>
            <a:ext cx="360360" cy="50472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0920" y="3500280"/>
            <a:ext cx="360360" cy="36036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8000" y="5086440"/>
            <a:ext cx="360360" cy="50472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79640" y="6237360"/>
            <a:ext cx="360360" cy="36036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1844640"/>
            <a:ext cx="649080" cy="9367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24720" y="1844640"/>
            <a:ext cx="503280" cy="93672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1773360"/>
            <a:ext cx="505080" cy="93636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59280" y="1484280"/>
            <a:ext cx="4681440" cy="287280"/>
            <a:chOff x="3059280" y="1484280"/>
            <a:chExt cx="4681440" cy="287280"/>
          </a:xfrm>
        </p:grpSpPr>
        <p:sp>
          <p:nvSpPr>
            <p:cNvPr id="225" name=""/>
            <p:cNvSpPr/>
            <p:nvPr/>
          </p:nvSpPr>
          <p:spPr>
            <a:xfrm flipV="1">
              <a:off x="7740720" y="1484280"/>
              <a:ext cx="0" cy="28728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059280" y="1484280"/>
              <a:ext cx="468144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59280" y="1484280"/>
              <a:ext cx="0" cy="21600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588000" y="4581360"/>
            <a:ext cx="576360" cy="9367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4720" y="4581360"/>
            <a:ext cx="503280" cy="93672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43280" y="4581360"/>
            <a:ext cx="503280" cy="93672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059280" y="4221000"/>
            <a:ext cx="4681440" cy="287280"/>
            <a:chOff x="3059280" y="4221000"/>
            <a:chExt cx="4681440" cy="287280"/>
          </a:xfrm>
        </p:grpSpPr>
        <p:sp>
          <p:nvSpPr>
            <p:cNvPr id="232" name=""/>
            <p:cNvSpPr/>
            <p:nvPr/>
          </p:nvSpPr>
          <p:spPr>
            <a:xfrm flipV="1">
              <a:off x="7740720" y="4221000"/>
              <a:ext cx="0" cy="28728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059280" y="4221000"/>
              <a:ext cx="468144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59280" y="4221000"/>
              <a:ext cx="0" cy="21600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4:12Z</dcterms:modified>
  <cp:revision>295</cp:revision>
  <dc:subject/>
  <dc:title>KČ</dc:title>
</cp:coreProperties>
</file>