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66CE-127E-4226-A73D-6E03A2235A7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FA73-14AC-4FB5-9A24-8E9E1EE985D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1D03-7A28-422E-801D-5E691BEBCF5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7BE1-ED21-43DC-B781-37BF74762C7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BB4A-9551-4DEB-92ED-040DC035543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0C20-6D4F-4188-8CB0-857D7F7B22B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F9E-DFC4-4295-A905-AFE18CD9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D892-54C8-46E1-A365-8A26207C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11B9-A2BF-40E3-9689-47284299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04B-C361-4D1E-A499-24908D95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08BD-3F03-474B-9CE6-672679A5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CF71-AA03-4D2F-80C4-C830E033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1C17-4319-48E4-B504-2DE80E6D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D870-8919-4399-A76A-B6878C43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8EA0-9468-4C2D-B8D6-8DE017B3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CD59-1E1A-48AF-B8B9-432FFA76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2976-D4F0-472C-8379-742FA919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06C-B6A6-46C3-A952-F20BC294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BC9D-6F6E-4D05-882F-864061FA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2CE6-CD0D-4967-9A5A-28FB526B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36E6-3BF1-4DD9-B2B6-C1F97F6C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45FB-5682-4D30-9B5B-8AB78F58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5105-9F2B-4F69-BB89-4432332C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059-7AED-4B4E-AFA1-53983EBE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2C2D-F0F4-467A-9F30-D2CBC14C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9C5-3B74-4EBC-AA6D-A0680DC3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648-2500-488D-98AA-7B2683E3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53F-39D4-479D-93D0-79200E1D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31D-A497-4EE4-93FA-C1EF047A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840-9486-479D-A452-D3E5DBC6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AAC1-7311-4675-8B2E-1541B6C5A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8B57-3AFF-4FAB-AE15-23EFA9197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258920" y="1989000"/>
            <a:ext cx="4176720" cy="388944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71640" y="3933720"/>
            <a:ext cx="51735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336840" y="1289160"/>
            <a:ext cx="0" cy="5256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1080" y="10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70520" y="38401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6480" y="2297160"/>
            <a:ext cx="0" cy="1800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03280" y="2297160"/>
            <a:ext cx="12128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49360" y="3933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1916280"/>
            <a:ext cx="6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608120" y="3952800"/>
            <a:ext cx="1728720" cy="107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98160" y="443700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336840" y="1628640"/>
            <a:ext cx="1522440" cy="23241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64000" y="3357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03240" y="3097080"/>
            <a:ext cx="1508040" cy="171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32" y="1465"/>
                </a:moveTo>
                <a:arcTo wR="10800" hR="10800" stAng="-3588369" swAng="3588369"/>
                <a:lnTo>
                  <a:pt x="10800" y="10800"/>
                </a:lnTo>
                <a:close/>
              </a:path>
              <a:path fill="none" w="21600" h="21600">
                <a:moveTo>
                  <a:pt x="16232" y="1465"/>
                </a:moveTo>
                <a:arcTo wR="10800" hR="10800" stAng="-3588369" swAng="3588369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87280" y="2602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Charakteristiky zápisu v AT, G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6000" y="1700280"/>
            <a:ext cx="8028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3360" indent="-423360">
              <a:lnSpc>
                <a:spcPct val="10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979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T KČ 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využívá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46000" indent="-253440">
              <a:lnSpc>
                <a:spcPct val="100000"/>
              </a:lnSpc>
              <a:spcBef>
                <a:spcPts val="1400"/>
              </a:spcBef>
              <a:buClr>
                <a:srgbClr val="ffff00"/>
              </a:buClr>
              <a:buFont typeface="Times New Roman"/>
              <a:buChar char="•"/>
              <a:tabLst>
                <a:tab algn="l" pos="1979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mé průměty obrazu daného KČ do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řadných o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14040" y="1916280"/>
            <a:ext cx="200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16000" y="1700280"/>
            <a:ext cx="8028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4349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T KČ  </a:t>
            </a:r>
            <a:r>
              <a:rPr b="0" i="1" lang="cs-CZ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|</a:t>
            </a:r>
            <a:r>
              <a:rPr b="1" lang="cs-CZ" sz="2800" spc="-1" strike="noStrike" baseline="30000">
                <a:solidFill>
                  <a:srgbClr val="ff9900"/>
                </a:solidFill>
                <a:latin typeface="Times New Roman"/>
                <a:ea typeface="Times New Roman"/>
              </a:rPr>
              <a:t>.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(cos</a:t>
            </a:r>
            <a:r>
              <a:rPr b="0" lang="cs-CZ" sz="2800" spc="-1" strike="noStrike">
                <a:solidFill>
                  <a:srgbClr val="ff99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+ </a:t>
            </a:r>
            <a:r>
              <a:rPr b="0" i="1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</a:t>
            </a:r>
            <a:r>
              <a:rPr b="0" lang="cs-CZ" sz="2800" spc="-1" strike="noStrike" baseline="30000">
                <a:solidFill>
                  <a:srgbClr val="ff9900"/>
                </a:solidFill>
                <a:latin typeface="Times New Roman"/>
                <a:ea typeface="Times New Roman"/>
              </a:rPr>
              <a:t>.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sin</a:t>
            </a:r>
            <a:r>
              <a:rPr b="0" lang="cs-CZ" sz="2800" spc="-1" strike="noStrike">
                <a:solidFill>
                  <a:srgbClr val="ff99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)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yužívá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00000" indent="-269640">
              <a:lnSpc>
                <a:spcPct val="100000"/>
              </a:lnSpc>
              <a:spcBef>
                <a:spcPts val="1400"/>
              </a:spcBef>
              <a:buClr>
                <a:srgbClr val="66ff33"/>
              </a:buClr>
              <a:buFont typeface="Times New Roman"/>
              <a:buChar char="•"/>
              <a:tabLst>
                <a:tab algn="l" pos="14349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zdálenost daného KČ od počátku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00000" indent="-269640">
              <a:lnSpc>
                <a:spcPct val="100000"/>
              </a:lnSpc>
              <a:buClr>
                <a:srgbClr val="66ff33"/>
              </a:buClr>
              <a:buFont typeface="Symbol" charset="2"/>
              <a:buChar char=""/>
              <a:tabLst>
                <a:tab algn="l" pos="14349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úhlu, který svírá vektor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pojující počátek a obraz daného KČ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 kladnou částí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03600" y="1916280"/>
            <a:ext cx="35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|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|</a:t>
            </a:r>
            <a:r>
              <a:rPr b="1" lang="cs-CZ" sz="32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(cos</a:t>
            </a:r>
            <a:r>
              <a:rPr b="0" lang="el-GR" sz="3200" spc="-1" strike="noStrike">
                <a:solidFill>
                  <a:srgbClr val="ff9900"/>
                </a:solidFill>
                <a:latin typeface="Times New Roman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1" i="1" lang="cs-CZ" sz="32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sin</a:t>
            </a:r>
            <a:r>
              <a:rPr b="0" lang="el-GR" sz="3200" spc="-1" strike="noStrike">
                <a:solidFill>
                  <a:srgbClr val="ff9900"/>
                </a:solidFill>
                <a:latin typeface="Times New Roman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356000" y="2205000"/>
            <a:ext cx="144720" cy="142920"/>
            <a:chOff x="4356000" y="2205000"/>
            <a:chExt cx="144720" cy="142920"/>
          </a:xfrm>
        </p:grpSpPr>
        <p:sp>
          <p:nvSpPr>
            <p:cNvPr id="275" name=""/>
            <p:cNvSpPr/>
            <p:nvPr/>
          </p:nvSpPr>
          <p:spPr>
            <a:xfrm>
              <a:off x="4356000" y="2205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356000" y="2205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565520" y="1916280"/>
            <a:ext cx="455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|</a:t>
            </a:r>
            <a:r>
              <a:rPr b="1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cos</a:t>
            </a:r>
            <a:r>
              <a:rPr b="0" lang="el-GR" sz="2800" spc="-1" strike="noStrike">
                <a:solidFill>
                  <a:srgbClr val="66ff33"/>
                </a:solidFill>
                <a:latin typeface="Times New Roman"/>
              </a:rPr>
              <a:t>α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in</a:t>
            </a:r>
            <a:r>
              <a:rPr b="0" lang="el-GR" sz="2800" spc="-1" strike="noStrike">
                <a:solidFill>
                  <a:srgbClr val="66ff33"/>
                </a:solidFill>
                <a:latin typeface="Times New Roman"/>
              </a:rPr>
              <a:t>α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356000" y="2205000"/>
            <a:ext cx="144720" cy="142920"/>
            <a:chOff x="4356000" y="2205000"/>
            <a:chExt cx="144720" cy="142920"/>
          </a:xfrm>
        </p:grpSpPr>
        <p:sp>
          <p:nvSpPr>
            <p:cNvPr id="279" name=""/>
            <p:cNvSpPr/>
            <p:nvPr/>
          </p:nvSpPr>
          <p:spPr>
            <a:xfrm>
              <a:off x="4356000" y="2205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356000" y="2205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348000" y="3933720"/>
            <a:ext cx="237636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5618880" y="1935720"/>
            <a:ext cx="216000" cy="1081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7707240" y="1288800"/>
            <a:ext cx="216000" cy="2374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61920 h 2374920"/>
              <a:gd name="textAreaBottom" fmla="*/ 2313000 h 23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66880" y="251460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494120" y="251316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20720" y="249228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77800" y="39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348000" y="2276280"/>
            <a:ext cx="1079640" cy="16556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70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84280"/>
          <a:ext cx="7416720" cy="48974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iometrický tvar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odvození zápisu komplexního čísla v goniometrickém tvar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akteristiky zápisu komplexních čísel; Komplexní jednotka; Obraz komplexního čísla; Vzdálenost komplexního čísla od počátku; Argument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34544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Goniometrický tvar komplexního čísla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28760" y="2206800"/>
            <a:ext cx="4176720" cy="38890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1480" y="4151160"/>
            <a:ext cx="51735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406680" y="1506600"/>
            <a:ext cx="0" cy="5256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1080" y="134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40575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86320" y="2514600"/>
            <a:ext cx="0" cy="1800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273120" y="2514600"/>
            <a:ext cx="12128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19200" y="415116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70200" y="2133720"/>
            <a:ext cx="6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406680" y="1846080"/>
            <a:ext cx="1522440" cy="23238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33840" y="35751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73080" y="3314520"/>
            <a:ext cx="1508040" cy="171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32" y="1465"/>
                </a:moveTo>
                <a:arcTo wR="10800" hR="10800" stAng="-3588369" swAng="3588369"/>
                <a:lnTo>
                  <a:pt x="10800" y="10800"/>
                </a:lnTo>
                <a:close/>
              </a:path>
              <a:path fill="none" w="21600" h="21600">
                <a:moveTo>
                  <a:pt x="16232" y="1465"/>
                </a:moveTo>
                <a:arcTo wR="10800" hR="10800" stAng="-3588369" swAng="3588369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83880" y="2062080"/>
            <a:ext cx="200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26028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Hledáme tvar zápisu, který bude používat nové charakteristiky: 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|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, </a:t>
            </a:r>
            <a:r>
              <a:rPr b="0" lang="el-GR" sz="3200" spc="-1" strike="noStrike">
                <a:solidFill>
                  <a:srgbClr val="66ff33"/>
                </a:solidFill>
                <a:latin typeface="Times New Roman"/>
              </a:rPr>
              <a:t>α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17840" y="4151160"/>
            <a:ext cx="237636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90560" y="270972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47640" y="4151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417840" y="2493720"/>
            <a:ext cx="1079640" cy="16556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25840" y="2422440"/>
            <a:ext cx="144720" cy="142920"/>
            <a:chOff x="4425840" y="2422440"/>
            <a:chExt cx="144720" cy="142920"/>
          </a:xfrm>
        </p:grpSpPr>
        <p:sp>
          <p:nvSpPr>
            <p:cNvPr id="161" name=""/>
            <p:cNvSpPr/>
            <p:nvPr/>
          </p:nvSpPr>
          <p:spPr>
            <a:xfrm>
              <a:off x="4425840" y="242244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25840" y="242244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716360" y="260280"/>
            <a:ext cx="39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ze nalézt obraz KČ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jiným způsobem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42920" y="189000"/>
            <a:ext cx="7916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Odvození GT komplexního čísla </a:t>
            </a:r>
            <a:r>
              <a:rPr b="0" i="1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1197000"/>
            <a:ext cx="79930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Nalezneme obraz M komplexní jednotky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 za předpokladu, že velikosti úhlů, které svírají vektor OM a vektor OA s kladnou částí osy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sou shodné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971640" y="4005360"/>
            <a:ext cx="8172360" cy="2560680"/>
            <a:chOff x="971640" y="4005360"/>
            <a:chExt cx="8172360" cy="2560680"/>
          </a:xfrm>
        </p:grpSpPr>
        <p:sp>
          <p:nvSpPr>
            <p:cNvPr id="167" name=""/>
            <p:cNvSpPr/>
            <p:nvPr/>
          </p:nvSpPr>
          <p:spPr>
            <a:xfrm>
              <a:off x="971640" y="4005360"/>
              <a:ext cx="8172360" cy="18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spcBef>
                  <a:spcPts val="1874"/>
                </a:spcBef>
                <a:buClr>
                  <a:srgbClr val="dddddd"/>
                </a:buClr>
                <a:buSzPct val="80000"/>
                <a:buFont typeface="Times New Roman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Obraz A daného KČ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nalezneme ve stejnolehlosti se středem v počátku a koeficientem podobnosti: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6227640" y="5229360"/>
                  <a:ext cx="1582920" cy="13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A</m:t>
                              </m:r>
                            </m:e>
                          </m:d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M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64160" y="1700280"/>
            <a:ext cx="201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M =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[</a:t>
            </a:r>
            <a:r>
              <a:rPr b="0" i="1" lang="cs-CZ" sz="28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491640" y="2131920"/>
            <a:ext cx="1081080" cy="1657440"/>
          </a:xfrm>
          <a:prstGeom prst="rtTriangle">
            <a:avLst/>
          </a:prstGeom>
          <a:solidFill>
            <a:srgbClr val="0099cc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01840" y="1846440"/>
            <a:ext cx="4176720" cy="38890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14560" y="3789360"/>
            <a:ext cx="5329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492360" y="907920"/>
            <a:ext cx="0" cy="5113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668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29080" y="3716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59400" y="2154240"/>
            <a:ext cx="0" cy="1800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346200" y="2154240"/>
            <a:ext cx="12128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73200" y="38386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71640" y="1844640"/>
            <a:ext cx="65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6920" y="32148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15640" y="3038760"/>
            <a:ext cx="1369080" cy="154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89" y="1328"/>
                </a:moveTo>
                <a:arcTo wR="10800" hR="10800" stAng="-3676935" swAng="3559467"/>
                <a:lnTo>
                  <a:pt x="10800" y="10800"/>
                </a:lnTo>
                <a:close/>
              </a:path>
              <a:path fill="none" w="21600" h="21600">
                <a:moveTo>
                  <a:pt x="15989" y="1328"/>
                </a:moveTo>
                <a:arcTo wR="10800" hR="10800" stAng="-3676935" swAng="3559467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09440" y="2347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0720" y="3790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490920" y="2133360"/>
            <a:ext cx="1079640" cy="16556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498560" y="2062080"/>
            <a:ext cx="144720" cy="142920"/>
            <a:chOff x="4498560" y="2062080"/>
            <a:chExt cx="144720" cy="142920"/>
          </a:xfrm>
        </p:grpSpPr>
        <p:sp>
          <p:nvSpPr>
            <p:cNvPr id="186" name=""/>
            <p:cNvSpPr/>
            <p:nvPr/>
          </p:nvSpPr>
          <p:spPr>
            <a:xfrm>
              <a:off x="4498920" y="2062080"/>
              <a:ext cx="144360" cy="14292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498560" y="2062080"/>
              <a:ext cx="144360" cy="14292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042920" y="189000"/>
            <a:ext cx="810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Bod M je obrazem komplexní jednotky </a:t>
            </a:r>
            <a:r>
              <a:rPr b="0" i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35640" y="3860640"/>
            <a:ext cx="2887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65440" y="1557360"/>
            <a:ext cx="3589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93800" y="544500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17080" y="386064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405080" y="3789360"/>
            <a:ext cx="2087280" cy="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97120" y="3213000"/>
            <a:ext cx="9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88000" y="2565360"/>
            <a:ext cx="2556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učivo 2. ročníku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goniometrické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funkce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obecného úhl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souřadnice bodu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a jednotkové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ružnici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476600" y="6093000"/>
                <a:ext cx="20829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564240" y="6093000"/>
                <a:ext cx="25797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589440" y="170028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cos</a:t>
            </a:r>
            <a:r>
              <a:rPr b="0" i="1" lang="cs-CZ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99ff33"/>
                </a:solidFill>
                <a:latin typeface="Times New Roman"/>
              </a:rPr>
              <a:t>α</a:t>
            </a: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; sin</a:t>
            </a:r>
            <a:r>
              <a:rPr b="0" i="1" lang="cs-CZ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99ff33"/>
                </a:solidFill>
                <a:latin typeface="Times New Roman"/>
              </a:rPr>
              <a:t>α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flipH="1">
            <a:off x="3347280" y="1125360"/>
            <a:ext cx="1655640" cy="259272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347280" y="2060640"/>
            <a:ext cx="1079640" cy="16574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321000" y="977760"/>
            <a:ext cx="1800360" cy="27352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30480" y="1771560"/>
            <a:ext cx="4176720" cy="388944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942840" y="3714840"/>
            <a:ext cx="532944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321000" y="833400"/>
            <a:ext cx="0" cy="5113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94080" y="617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57720" y="3641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27640" y="2060640"/>
            <a:ext cx="0" cy="1800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203280" y="2060640"/>
            <a:ext cx="12128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01840" y="376380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02080" y="1698480"/>
            <a:ext cx="65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35200" y="31399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4280" y="2964240"/>
            <a:ext cx="1369080" cy="154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89" y="1328"/>
                </a:moveTo>
                <a:arcTo wR="10800" hR="10800" stAng="-3676935" swAng="3559467"/>
                <a:lnTo>
                  <a:pt x="10800" y="10800"/>
                </a:lnTo>
                <a:close/>
              </a:path>
              <a:path fill="none" w="21600" h="21600">
                <a:moveTo>
                  <a:pt x="15989" y="1328"/>
                </a:moveTo>
                <a:arcTo wR="10800" hR="10800" stAng="-3676935" swAng="3559467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7800" y="220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4900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356000" y="1989000"/>
            <a:ext cx="144720" cy="142920"/>
            <a:chOff x="4356000" y="1989000"/>
            <a:chExt cx="144720" cy="142920"/>
          </a:xfrm>
        </p:grpSpPr>
        <p:sp>
          <p:nvSpPr>
            <p:cNvPr id="216" name=""/>
            <p:cNvSpPr/>
            <p:nvPr/>
          </p:nvSpPr>
          <p:spPr>
            <a:xfrm>
              <a:off x="4356000" y="1989000"/>
              <a:ext cx="144720" cy="14292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356000" y="1989000"/>
              <a:ext cx="144720" cy="14292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H="1">
            <a:off x="1233000" y="3714840"/>
            <a:ext cx="2087640" cy="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25760" y="3138480"/>
            <a:ext cx="9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12600" y="1773360"/>
            <a:ext cx="368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M =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[</a:t>
            </a:r>
            <a:r>
              <a:rPr b="0" i="1" lang="cs-CZ" sz="24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cs-CZ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; </a:t>
            </a:r>
            <a:r>
              <a:rPr b="0" i="1" lang="cs-CZ" sz="24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cs-CZ" sz="24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cos</a:t>
            </a:r>
            <a:r>
              <a:rPr b="0" i="1" lang="cs-CZ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99ff33"/>
                </a:solidFill>
                <a:latin typeface="Times New Roman"/>
              </a:rPr>
              <a:t>α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; sin</a:t>
            </a:r>
            <a:r>
              <a:rPr b="0" i="1" lang="cs-CZ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99ff33"/>
                </a:solidFill>
                <a:latin typeface="Times New Roman"/>
              </a:rPr>
              <a:t>α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Bod A je obrazem hledaného KČ </a:t>
            </a:r>
            <a:r>
              <a:rPr b="0" i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a</a:t>
            </a: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42920" y="5950080"/>
                <a:ext cx="81010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i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424560" y="2854440"/>
                <a:ext cx="12985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A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M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867280" y="4581360"/>
                <a:ext cx="15004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794200" y="5157720"/>
                <a:ext cx="15861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648560" y="2854440"/>
                <a:ext cx="7221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8317080" y="3141720"/>
                <a:ext cx="663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378560" y="4581360"/>
                <a:ext cx="15861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378560" y="5157720"/>
                <a:ext cx="15289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0" name=""/>
          <p:cNvGrpSpPr/>
          <p:nvPr/>
        </p:nvGrpSpPr>
        <p:grpSpPr>
          <a:xfrm>
            <a:off x="4932000" y="1052640"/>
            <a:ext cx="144720" cy="142920"/>
            <a:chOff x="4932000" y="1052640"/>
            <a:chExt cx="144720" cy="142920"/>
          </a:xfrm>
        </p:grpSpPr>
        <p:sp>
          <p:nvSpPr>
            <p:cNvPr id="231" name=""/>
            <p:cNvSpPr/>
            <p:nvPr/>
          </p:nvSpPr>
          <p:spPr>
            <a:xfrm>
              <a:off x="4932360" y="105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932000" y="105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003640" y="1125360"/>
            <a:ext cx="0" cy="2735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03640" y="1125360"/>
            <a:ext cx="18000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97720" y="3789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00360" y="836640"/>
            <a:ext cx="65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90760" y="765000"/>
            <a:ext cx="2038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992000">
            <a:off x="4026960" y="835200"/>
            <a:ext cx="120960" cy="3078000"/>
          </a:xfrm>
          <a:custGeom>
            <a:avLst/>
            <a:gdLst>
              <a:gd name="textAreaLeft" fmla="*/ 77400 w 120960"/>
              <a:gd name="textAreaRight" fmla="*/ 121320 w 120960"/>
              <a:gd name="textAreaTop" fmla="*/ 80280 h 3078000"/>
              <a:gd name="textAreaBottom" fmla="*/ 2997720 h 307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5400" y="3600"/>
                  <a:pt x="0" y="3600"/>
                </a:cubicBezTo>
                <a:cubicBezTo>
                  <a:pt x="54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68360" y="105264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|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60400" y="24210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trojúhelníky podobné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76720" y="2421000"/>
            <a:ext cx="1079640" cy="216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500720" y="2781000"/>
            <a:ext cx="1655640" cy="431640"/>
          </a:xfrm>
          <a:prstGeom prst="line">
            <a:avLst/>
          </a:prstGeom>
          <a:ln w="2844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992000">
            <a:off x="3568680" y="1817280"/>
            <a:ext cx="306360" cy="1963800"/>
          </a:xfrm>
          <a:custGeom>
            <a:avLst/>
            <a:gdLst>
              <a:gd name="textAreaLeft" fmla="*/ 195840 w 306360"/>
              <a:gd name="textAreaRight" fmla="*/ 306360 w 306360"/>
              <a:gd name="textAreaTop" fmla="*/ 51120 h 1963800"/>
              <a:gd name="textAreaBottom" fmla="*/ 1912680 h 196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091"/>
                </a:lnTo>
                <a:cubicBezTo>
                  <a:pt x="10800" y="8991"/>
                  <a:pt x="5400" y="9891"/>
                  <a:pt x="0" y="9891"/>
                </a:cubicBezTo>
                <a:cubicBezTo>
                  <a:pt x="5400" y="9891"/>
                  <a:pt x="10800" y="10791"/>
                  <a:pt x="10800" y="1169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348000" y="2060280"/>
            <a:ext cx="1079640" cy="16542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92720" y="3789360"/>
            <a:ext cx="289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22520" y="1486080"/>
            <a:ext cx="3589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0880" y="537372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44000" y="378936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71640" y="189000"/>
            <a:ext cx="79880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Goniometrický tvar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 (GT)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71640" y="1341360"/>
            <a:ext cx="8172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 nazývá zápis:                                             , kde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211640" y="1285920"/>
                <a:ext cx="45370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971640" y="2708280"/>
            <a:ext cx="817236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943200" indent="-33804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vzdálenost KČ od počátku,        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1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vždy číslo kladné)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43200" indent="-33804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argument KČ – úhel, který svírá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ektor 0A s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ladnou částí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545120" indent="-42948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SzPct val="150000"/>
              <a:buFont typeface="Times New Roman"/>
              <a:buChar char="!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1" lang="cs-CZ" sz="32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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je základní argumen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37160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ZOR!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3280" y="2276640"/>
            <a:ext cx="7740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1720" indent="-531720">
              <a:lnSpc>
                <a:spcPct val="130000"/>
              </a:lnSpc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Komplexnímu číslu 0 nepřiřazujeme goniometrický tvar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3:57Z</dcterms:modified>
  <cp:revision>296</cp:revision>
  <dc:subject/>
  <dc:title>KČ</dc:title>
</cp:coreProperties>
</file>